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32.png" ContentType="image/png"/>
  <Override PartName="/ppt/media/image24.png" ContentType="image/png"/>
  <Override PartName="/ppt/media/image22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11.png" ContentType="image/png"/>
  <Override PartName="/ppt/media/image19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8.png" ContentType="image/png"/>
  <Override PartName="/ppt/media/image14.jpeg" ContentType="image/jpeg"/>
  <Override PartName="/ppt/media/image9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907588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726A-70BE-4C4C-969C-49A9F7F7C90C}" type="slidenum">
              <a:rPr b="0" lang="ko-K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714240" y="735120"/>
            <a:ext cx="5307120" cy="36748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1" name="3 Slayt Numarası Yer Tutucusu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26B55-3EF4-4F2D-A771-024C6059FA69}" type="slidenum">
              <a:rPr b="0" lang="tr-TR" sz="1200" spc="-1" strike="noStrike">
                <a:solidFill>
                  <a:srgbClr val="000000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89A-2A7A-4ECE-90AA-A8B768C3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F5BA-511E-43EA-B746-6C47D7BC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C10-A9D6-469E-927A-B6137B7A9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ECE3-D34E-45F5-9CD0-730E521A6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3135-3698-4BF3-B282-E329FCD05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A761-FB9D-441C-9EFF-7EF6DEBE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7730-1F88-4DDC-A807-2D64322F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7C8C6-9523-453F-802D-F5EE485A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971D-AB4F-4A4B-8A0C-6598B364F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C964-868E-4377-B8E8-7129712E0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911D-E38C-44D9-AB44-3FEF05F0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5B44-7D43-4D36-9F0C-47D00A97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5E281-5592-454F-B4E7-DDBBFABA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8161-CA62-42F6-BDAA-441C2BD2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D111-4355-4E17-A5CB-0ED7C0012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4D7F-C6EE-48F5-9E93-108C6A67A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6135-7324-42E2-87F1-CD624F86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6C9FE-DFE7-4765-AA7C-F77A4D22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15B4D-8F5D-4609-932F-42F7DE35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C4F52-7BFB-449E-8AD5-3619116F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9F982-81D0-4B96-8478-FF37605A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2724A-6638-4A00-AF7B-3D01C2C3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A83B-B8D1-414E-AF2F-7946E50D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0E535-2BE5-45A8-BD55-2E89E89A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5EB6-E101-446E-BFF1-1B6BD287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01950-E470-44AC-9DAB-E6B1B2B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7EC74-88B1-4093-8E70-31D50BB0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DFCD-ED9B-4ED5-8F88-70086B815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7A1B8-0951-4B34-AF01-F4DD181D0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965F1-65D5-48CE-8660-BFFAA4BF0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4A17B-92C7-4000-812B-E920CDD4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8F4A9-18B8-42C6-A330-8CEB8FF8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0DE30-004C-43E6-8871-06346854B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A8BF-8473-4791-A23F-367CF84A8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4803E-08EA-46B5-9B99-9F4DB6B9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1F150-35EB-4ABE-8EC0-1C534598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8ADC9-F127-4CEC-873E-337615BA6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406C1-7802-4C2E-8DB7-EC9152CC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9BEB4D-94F8-4337-8A83-C78404BE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53FD8-941F-4B17-9602-02C5323C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66BE7-4610-457A-9A04-53EEEEE3C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FB795E-1982-45EA-A33E-2D037F10E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5B3E37-14C0-4A87-92D2-CACB17C21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B71C-764A-4381-8466-C10FFD29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B99-4006-4F8A-9F82-ACB7A9D9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5F3D-3682-472E-AC22-BF5351B4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1CBF-816B-4CA5-8926-B34221F2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4D9-DC6C-4570-8466-819061EA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8C4C3-57A8-4095-B778-C0F1D03490D0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E574-34BF-4A6D-96C2-262D2075B91B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CD80-52C5-4A6E-A7CA-0B00B00DE465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F6D0E-5E75-4A54-9978-1509B318B2E8}" type="slidenum">
              <a:rPr b="0" lang="ko-K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11 Dikdörtgen"/>
          <p:cNvSpPr/>
          <p:nvPr/>
        </p:nvSpPr>
        <p:spPr>
          <a:xfrm>
            <a:off x="598320" y="2679840"/>
            <a:ext cx="9712440" cy="31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0" y="0"/>
            <a:ext cx="9906120" cy="7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6 Slayt Numarası Yer Tutucusu"/>
          <p:cNvSpPr/>
          <p:nvPr/>
        </p:nvSpPr>
        <p:spPr>
          <a:xfrm>
            <a:off x="9164520" y="6492960"/>
            <a:ext cx="663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D5C22-B86D-442E-A647-965FDDF57A44}" type="slidenum">
              <a:rPr b="1" lang="tr-TR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r>
              <a:rPr b="1" lang="tr-TR" sz="1200" spc="-1" strike="noStrike">
                <a:solidFill>
                  <a:srgbClr val="7f7f7f"/>
                </a:solidFill>
                <a:latin typeface="Arial"/>
              </a:rPr>
              <a:t>/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Image 13" descr="bas de page.jpg"/>
          <p:cNvPicPr/>
          <p:nvPr/>
        </p:nvPicPr>
        <p:blipFill>
          <a:blip r:embed="rId1"/>
          <a:stretch/>
        </p:blipFill>
        <p:spPr>
          <a:xfrm>
            <a:off x="0" y="5857920"/>
            <a:ext cx="9826560" cy="1000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wmo"/>
          <p:cNvPicPr/>
          <p:nvPr/>
        </p:nvPicPr>
        <p:blipFill>
          <a:blip r:embed="rId2"/>
          <a:stretch/>
        </p:blipFill>
        <p:spPr>
          <a:xfrm>
            <a:off x="8899560" y="0"/>
            <a:ext cx="901800" cy="87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6" name="Rectangle 10"/>
          <p:cNvSpPr/>
          <p:nvPr/>
        </p:nvSpPr>
        <p:spPr>
          <a:xfrm>
            <a:off x="5110200" y="5932440"/>
            <a:ext cx="46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0000"/>
                </a:solidFill>
                <a:latin typeface="Calibri"/>
              </a:rPr>
              <a:t>presented by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PHILIPPE RICH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5"/>
          <p:cNvSpPr/>
          <p:nvPr/>
        </p:nvSpPr>
        <p:spPr>
          <a:xfrm>
            <a:off x="271440" y="2133720"/>
            <a:ext cx="92836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Department of National Meteor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alibri"/>
                <a:ea typeface="Arial Unicode MS"/>
              </a:rPr>
              <a:t>Yaoundé-Camer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3"/>
          <a:stretch/>
        </p:blipFill>
        <p:spPr>
          <a:xfrm>
            <a:off x="200160" y="216000"/>
            <a:ext cx="69840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56800" cy="7430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356"/>
          <p:cNvSpPr/>
          <p:nvPr/>
        </p:nvSpPr>
        <p:spPr>
          <a:xfrm>
            <a:off x="5005440" y="1276200"/>
            <a:ext cx="4728960" cy="2003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Upper Air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&amp;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98360" y="1789200"/>
          <a:ext cx="4668840" cy="1603440"/>
        </p:xfrm>
        <a:graphic>
          <a:graphicData uri="http://schemas.openxmlformats.org/drawingml/2006/table">
            <a:tbl>
              <a:tblPr/>
              <a:tblGrid>
                <a:gridCol w="925560"/>
                <a:gridCol w="906480"/>
                <a:gridCol w="2836800"/>
              </a:tblGrid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 of 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mark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ECNA (Radiosonde: Degrieea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sonde (HT03G-1U GPS, China)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Upper air observation is under consideration; DMN has transferred equipment to ASECNA due to lack of observation personnel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(ASECNA/CCA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TextBox 8"/>
          <p:cNvSpPr/>
          <p:nvPr/>
        </p:nvSpPr>
        <p:spPr>
          <a:xfrm>
            <a:off x="166680" y="14256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166680" y="3416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pper Air Observation Eleme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01600" y="3770280"/>
          <a:ext cx="4664160" cy="1285920"/>
        </p:xfrm>
        <a:graphic>
          <a:graphicData uri="http://schemas.openxmlformats.org/drawingml/2006/table">
            <a:tbl>
              <a:tblPr/>
              <a:tblGrid>
                <a:gridCol w="927000"/>
                <a:gridCol w="935280"/>
                <a:gridCol w="933480"/>
                <a:gridCol w="1081080"/>
                <a:gridCol w="787320"/>
              </a:tblGrid>
              <a:tr h="420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ype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collec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h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76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G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S, W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/da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anu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tc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5049720" y="1465200"/>
          <a:ext cx="4640400" cy="1733760"/>
        </p:xfrm>
        <a:graphic>
          <a:graphicData uri="http://schemas.openxmlformats.org/drawingml/2006/table">
            <a:tbl>
              <a:tblPr/>
              <a:tblGrid>
                <a:gridCol w="2319480"/>
                <a:gridCol w="2320920"/>
              </a:tblGrid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87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ng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curity / safety of Hydrog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ing safety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5" name="Rectangle 356"/>
          <p:cNvSpPr/>
          <p:nvPr/>
        </p:nvSpPr>
        <p:spPr>
          <a:xfrm>
            <a:off x="5005440" y="3546360"/>
            <a:ext cx="4728960" cy="3105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한쪽 모서리는 잘리고 다른 쪽 모서리는 둥근 사각형 15"/>
          <p:cNvSpPr/>
          <p:nvPr/>
        </p:nvSpPr>
        <p:spPr>
          <a:xfrm>
            <a:off x="5005440" y="3367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그림 18" descr="E:\2018\1.프로젝트\04.(NIPA)카메룬(★)\06. 수행\07.2차출장\카메룬1차출장\2018-07-03\DSC06008.JPG"/>
          <p:cNvPicPr/>
          <p:nvPr/>
        </p:nvPicPr>
        <p:blipFill>
          <a:blip r:embed="rId2"/>
          <a:stretch/>
        </p:blipFill>
        <p:spPr>
          <a:xfrm>
            <a:off x="206280" y="5099040"/>
            <a:ext cx="2270160" cy="1488960"/>
          </a:xfrm>
          <a:prstGeom prst="rect">
            <a:avLst/>
          </a:prstGeom>
          <a:ln w="0">
            <a:noFill/>
          </a:ln>
        </p:spPr>
      </p:pic>
      <p:pic>
        <p:nvPicPr>
          <p:cNvPr id="298" name="그림 19" descr="E:\2018\1.프로젝트\04.(NIPA)카메룬(★)\06. 수행\07.2차출장\카메룬1차출장\2018-07-03\DSC06011.JPG"/>
          <p:cNvPicPr/>
          <p:nvPr/>
        </p:nvPicPr>
        <p:blipFill>
          <a:blip r:embed="rId3"/>
          <a:stretch/>
        </p:blipFill>
        <p:spPr>
          <a:xfrm>
            <a:off x="2533680" y="5099040"/>
            <a:ext cx="2317680" cy="148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9" name=""/>
          <p:cNvGraphicFramePr/>
          <p:nvPr/>
        </p:nvGraphicFramePr>
        <p:xfrm>
          <a:off x="5043600" y="3797280"/>
          <a:ext cx="4651200" cy="2641680"/>
        </p:xfrm>
        <a:graphic>
          <a:graphicData uri="http://schemas.openxmlformats.org/drawingml/2006/table">
            <a:tbl>
              <a:tblPr/>
              <a:tblGrid>
                <a:gridCol w="1833480"/>
                <a:gridCol w="281772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new upper air 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s to the two upper air stations that are currently in ope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rchase consumabl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urchase consumables for radioson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23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all high-tech observation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stallation and operation of wind profiler and radiometer at existing and new sta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 staffs for upper air observation , capacity build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technical staffs for upper-air observation  based on WMO standard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77600" cy="68904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356"/>
          <p:cNvSpPr/>
          <p:nvPr/>
        </p:nvSpPr>
        <p:spPr>
          <a:xfrm>
            <a:off x="166680" y="1276200"/>
            <a:ext cx="4734000" cy="18226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한쪽 모서리는 잘리고 다른 쪽 모서리는 둥근 사각형 6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Meteorological Satellite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04840" y="1473120"/>
          <a:ext cx="4657680" cy="1552680"/>
        </p:xfrm>
        <a:graphic>
          <a:graphicData uri="http://schemas.openxmlformats.org/drawingml/2006/table">
            <a:tbl>
              <a:tblPr/>
              <a:tblGrid>
                <a:gridCol w="1057320"/>
                <a:gridCol w="801720"/>
                <a:gridCol w="1003320"/>
                <a:gridCol w="760320"/>
                <a:gridCol w="1035000"/>
              </a:tblGrid>
              <a:tr h="64476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ifi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untr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iving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eption 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907920"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ostationary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UMETSA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age (Vis, IR, Watervapo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min,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7160" bIns="4716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MA2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356"/>
          <p:cNvSpPr/>
          <p:nvPr/>
        </p:nvSpPr>
        <p:spPr>
          <a:xfrm>
            <a:off x="166680" y="3394080"/>
            <a:ext cx="4734000" cy="32576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한쪽 모서리는 잘리고 다른 쪽 모서리는 둥근 사각형 8"/>
          <p:cNvSpPr/>
          <p:nvPr/>
        </p:nvSpPr>
        <p:spPr>
          <a:xfrm>
            <a:off x="166680" y="32130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209520" y="3630600"/>
          <a:ext cx="4673520" cy="2070000"/>
        </p:xfrm>
        <a:graphic>
          <a:graphicData uri="http://schemas.openxmlformats.org/drawingml/2006/table">
            <a:tbl>
              <a:tblPr/>
              <a:tblGrid>
                <a:gridCol w="2336760"/>
                <a:gridCol w="2336760"/>
              </a:tblGrid>
              <a:tr h="35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84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satellit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irect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ment of satellite receiving syste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7" name=""/>
          <p:cNvGraphicFramePr/>
          <p:nvPr/>
        </p:nvGraphicFramePr>
        <p:xfrm>
          <a:off x="5043600" y="1468440"/>
          <a:ext cx="4672080" cy="301464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2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714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geostationary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 system to receive observation data of nearest geostationary orbiting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ception of polar-orbit meteorological satellite d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receive observation data of polar orbiting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tellite data analysis and utilization of application featur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a system to develop algorithms and verify calculated data required for creating meteorological elements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for meteorological satelli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ecuring professional manpower / conduct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한쪽 모서리는 잘리고 다른 쪽 모서리는 둥근 사각형 11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제목 17" descr=""/>
          <p:cNvPicPr/>
          <p:nvPr/>
        </p:nvPicPr>
        <p:blipFill>
          <a:blip r:embed="rId1"/>
          <a:stretch/>
        </p:blipFill>
        <p:spPr>
          <a:xfrm>
            <a:off x="6480" y="85680"/>
            <a:ext cx="9807480" cy="7430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56"/>
          <p:cNvSpPr/>
          <p:nvPr/>
        </p:nvSpPr>
        <p:spPr>
          <a:xfrm>
            <a:off x="166680" y="1276200"/>
            <a:ext cx="4734000" cy="33609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56"/>
          <p:cNvSpPr/>
          <p:nvPr/>
        </p:nvSpPr>
        <p:spPr>
          <a:xfrm>
            <a:off x="5005440" y="1276200"/>
            <a:ext cx="4728960" cy="2494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한쪽 모서리는 잘리고 다른 쪽 모서리는 둥근 사각형 6"/>
          <p:cNvSpPr/>
          <p:nvPr/>
        </p:nvSpPr>
        <p:spPr>
          <a:xfrm>
            <a:off x="166680" y="1052640"/>
            <a:ext cx="4167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Test &amp; Calibration Status (Met. Instrumen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한쪽 모서리는 잘리고 다른 쪽 모서리는 둥근 사각형 9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Problems and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22120" y="2058840"/>
          <a:ext cx="4621320" cy="2513160"/>
        </p:xfrm>
        <a:graphic>
          <a:graphicData uri="http://schemas.openxmlformats.org/drawingml/2006/table">
            <a:tbl>
              <a:tblPr/>
              <a:tblGrid>
                <a:gridCol w="1347840"/>
                <a:gridCol w="1521000"/>
                <a:gridCol w="1100160"/>
                <a:gridCol w="652320"/>
              </a:tblGrid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ied Instru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ifying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ant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1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era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ual thermometer,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m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umidi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yg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mospheric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s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ometre, Barograph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ye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cipi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gridSpan="3" rowSpan="3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/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ar Radi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8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nshine du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16" name="TextBox 10"/>
          <p:cNvSpPr/>
          <p:nvPr/>
        </p:nvSpPr>
        <p:spPr>
          <a:xfrm>
            <a:off x="166680" y="1424160"/>
            <a:ext cx="473400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Q: 1 temperature, 1 humidity, 1 air pressure calibration equipment (Chinese assistance) / No calibration instruments in regional stations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356"/>
          <p:cNvSpPr/>
          <p:nvPr/>
        </p:nvSpPr>
        <p:spPr>
          <a:xfrm>
            <a:off x="5005440" y="4092480"/>
            <a:ext cx="4728960" cy="2559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한쪽 모서리는 잘리고 다른 쪽 모서리는 둥근 사각형 14"/>
          <p:cNvSpPr/>
          <p:nvPr/>
        </p:nvSpPr>
        <p:spPr>
          <a:xfrm>
            <a:off x="5005440" y="3868560"/>
            <a:ext cx="3887640" cy="36072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Improvement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033880" y="4284720"/>
          <a:ext cx="4672080" cy="2222280"/>
        </p:xfrm>
        <a:graphic>
          <a:graphicData uri="http://schemas.openxmlformats.org/drawingml/2006/table">
            <a:tbl>
              <a:tblPr/>
              <a:tblGrid>
                <a:gridCol w="1930320"/>
                <a:gridCol w="2741760"/>
              </a:tblGrid>
              <a:tr h="3967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measu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ai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144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a dedicated department / service for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ablish test &amp; calibration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stablishing tasks, such as regulations for calibration, and purchasing and operating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oster professional staffs specialized for test &amp; calibr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20" name="그림 16" descr="E:\2018\1.프로젝트\04.(NIPA)카메룬(★)\06. 수행\07.2차출장\카메룬2차출장\IMG_2658.jpg"/>
          <p:cNvPicPr/>
          <p:nvPr/>
        </p:nvPicPr>
        <p:blipFill>
          <a:blip r:embed="rId2"/>
          <a:stretch/>
        </p:blipFill>
        <p:spPr>
          <a:xfrm>
            <a:off x="166680" y="4729320"/>
            <a:ext cx="2340000" cy="1753920"/>
          </a:xfrm>
          <a:prstGeom prst="rect">
            <a:avLst/>
          </a:prstGeom>
          <a:ln w="0">
            <a:noFill/>
          </a:ln>
        </p:spPr>
      </p:pic>
      <p:pic>
        <p:nvPicPr>
          <p:cNvPr id="321" name="그림 18" descr="E:\2018\1.프로젝트\04.(NIPA)카메룬(★)\06. 수행\07.2차출장\카메룬2차출장\IMG_2652.jpg"/>
          <p:cNvPicPr/>
          <p:nvPr/>
        </p:nvPicPr>
        <p:blipFill>
          <a:blip r:embed="rId3"/>
          <a:stretch/>
        </p:blipFill>
        <p:spPr>
          <a:xfrm>
            <a:off x="2560680" y="4729320"/>
            <a:ext cx="2340000" cy="1777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2" name=""/>
          <p:cNvGraphicFramePr/>
          <p:nvPr/>
        </p:nvGraphicFramePr>
        <p:xfrm>
          <a:off x="5033880" y="1481040"/>
          <a:ext cx="4672080" cy="2192400"/>
        </p:xfrm>
        <a:graphic>
          <a:graphicData uri="http://schemas.openxmlformats.org/drawingml/2006/table">
            <a:tbl>
              <a:tblPr/>
              <a:tblGrid>
                <a:gridCol w="2336760"/>
                <a:gridCol w="2335320"/>
              </a:tblGrid>
              <a:tr h="336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mprovement Dir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tional struc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engthen organization for test &amp; calibration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3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ufficient number of personn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crease number of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ck of tra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hance capacity building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stering professional 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6368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ck of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curing test &amp; calibration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제목 17" descr=""/>
          <p:cNvPicPr/>
          <p:nvPr/>
        </p:nvPicPr>
        <p:blipFill>
          <a:blip r:embed="rId1"/>
          <a:stretch/>
        </p:blipFill>
        <p:spPr>
          <a:xfrm>
            <a:off x="36360" y="139680"/>
            <a:ext cx="9704520" cy="689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4" name=""/>
          <p:cNvGraphicFramePr/>
          <p:nvPr/>
        </p:nvGraphicFramePr>
        <p:xfrm>
          <a:off x="210960" y="2647800"/>
          <a:ext cx="4645080" cy="1654200"/>
        </p:xfrm>
        <a:graphic>
          <a:graphicData uri="http://schemas.openxmlformats.org/drawingml/2006/table">
            <a:tbl>
              <a:tblPr/>
              <a:tblGrid>
                <a:gridCol w="1262160"/>
                <a:gridCol w="3382920"/>
              </a:tblGrid>
              <a:tr h="286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3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Generation of avi-met forecast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Aviation, Take-off/landing forecast, TAF) and dissemin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aounde - Nsimalen 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data collection and transmit to Douala Air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88920" indent="-88920"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rovision of service (by using forecast data from Doual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25" name="TextBox 25"/>
          <p:cNvSpPr/>
          <p:nvPr/>
        </p:nvSpPr>
        <p:spPr>
          <a:xfrm>
            <a:off x="16668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Status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No Avi-met service in D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International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ASECNA (4 airpor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Domestic Airport)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CCAA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4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airports)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→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Planning to increase to 5</a:t>
            </a:r>
            <a:r>
              <a:rPr b="0" lang="ko-KR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(Bertou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6"/>
          <p:cNvSpPr/>
          <p:nvPr/>
        </p:nvSpPr>
        <p:spPr>
          <a:xfrm>
            <a:off x="166680" y="1276200"/>
            <a:ext cx="4734000" cy="2988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56"/>
          <p:cNvSpPr/>
          <p:nvPr/>
        </p:nvSpPr>
        <p:spPr>
          <a:xfrm>
            <a:off x="5008680" y="1276200"/>
            <a:ext cx="4728960" cy="3699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Communication /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Aviation met.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6"/>
          <p:cNvSpPr/>
          <p:nvPr/>
        </p:nvSpPr>
        <p:spPr>
          <a:xfrm>
            <a:off x="166680" y="4527720"/>
            <a:ext cx="4734000" cy="2124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한쪽 모서리는 잘리고 다른 쪽 모서리는 둥근 사각형 18"/>
          <p:cNvSpPr/>
          <p:nvPr/>
        </p:nvSpPr>
        <p:spPr>
          <a:xfrm>
            <a:off x="166680" y="43480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 met. Obser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204840" y="4983120"/>
          <a:ext cx="4656240" cy="1351080"/>
        </p:xfrm>
        <a:graphic>
          <a:graphicData uri="http://schemas.openxmlformats.org/drawingml/2006/table">
            <a:tbl>
              <a:tblPr/>
              <a:tblGrid>
                <a:gridCol w="1031760"/>
                <a:gridCol w="1890720"/>
                <a:gridCol w="1733760"/>
              </a:tblGrid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Elemen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time,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3711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e </a:t>
                      </a:r>
                      <a:br>
                        <a:rPr sz="1100"/>
                      </a:b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Nsimal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R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ECI (T, H, P, WD, WS…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 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4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”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030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ased on the flight schedule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b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0min / 24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3" name="텍스트 상자 1"/>
          <p:cNvSpPr/>
          <p:nvPr/>
        </p:nvSpPr>
        <p:spPr>
          <a:xfrm>
            <a:off x="166680" y="4664160"/>
            <a:ext cx="47340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 Air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1"/>
          <p:cNvSpPr/>
          <p:nvPr/>
        </p:nvSpPr>
        <p:spPr>
          <a:xfrm>
            <a:off x="166680" y="633240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 Airport: Get info from Douala (request-ba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5041800" y="1747800"/>
          <a:ext cx="4662720" cy="1122480"/>
        </p:xfrm>
        <a:graphic>
          <a:graphicData uri="http://schemas.openxmlformats.org/drawingml/2006/table">
            <a:tbl>
              <a:tblPr/>
              <a:tblGrid>
                <a:gridCol w="1177920"/>
                <a:gridCol w="1177920"/>
                <a:gridCol w="2306880"/>
              </a:tblGrid>
              <a:tr h="233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1320"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rowSpan="4"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one 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U / LF Aeronautical Telecommunication / SM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1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ual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gaounde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arou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5041800" y="3203640"/>
          <a:ext cx="4662720" cy="1695240"/>
        </p:xfrm>
        <a:graphic>
          <a:graphicData uri="http://schemas.openxmlformats.org/drawingml/2006/table">
            <a:tbl>
              <a:tblPr/>
              <a:tblGrid>
                <a:gridCol w="1189080"/>
                <a:gridCol w="1263600"/>
                <a:gridCol w="1131840"/>
                <a:gridCol w="1078200"/>
              </a:tblGrid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cast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port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41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ke-off and 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ding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 REPORT</a:t>
                      </a:r>
                      <a:br>
                        <a:rPr sz="1000"/>
                      </a:b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Tendenc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net Netwo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lots and aircraf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eral forec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time/1 day, 07: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ning 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GWEATH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Regional, Aerodo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indshear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7" name="텍스트 상자 1"/>
          <p:cNvSpPr/>
          <p:nvPr/>
        </p:nvSpPr>
        <p:spPr>
          <a:xfrm>
            <a:off x="5008680" y="142092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ⓐ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ommun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텍스트 상자 1"/>
          <p:cNvSpPr/>
          <p:nvPr/>
        </p:nvSpPr>
        <p:spPr>
          <a:xfrm>
            <a:off x="5008680" y="2876400"/>
            <a:ext cx="473220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ⓑ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orec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56"/>
          <p:cNvSpPr/>
          <p:nvPr/>
        </p:nvSpPr>
        <p:spPr>
          <a:xfrm>
            <a:off x="5008680" y="5265720"/>
            <a:ext cx="4728960" cy="13860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한쪽 모서리는 잘리고 다른 쪽 모서리는 둥근 사각형 29"/>
          <p:cNvSpPr/>
          <p:nvPr/>
        </p:nvSpPr>
        <p:spPr>
          <a:xfrm>
            <a:off x="5005440" y="50418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roblems / Improvement Dir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5070600" y="5483160"/>
          <a:ext cx="4603680" cy="1179720"/>
        </p:xfrm>
        <a:graphic>
          <a:graphicData uri="http://schemas.openxmlformats.org/drawingml/2006/table">
            <a:tbl>
              <a:tblPr/>
              <a:tblGrid>
                <a:gridCol w="2301840"/>
                <a:gridCol w="2301840"/>
              </a:tblGrid>
              <a:tr h="228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e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mprovement direction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54792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i-met. Service by other agenc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eorganization in order to let DNM provide avi-met. Servi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 organiz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rganization, Manpower, Training, Equipment, etc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rivate stations 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CAPALM: 03 s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,CDC: 23 raingau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DECOTON:35 pluviomet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HEVECAM: 0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PULCI 47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DC:25 automatic st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reation of a ministerial law that oblige any private station to declare its station to DMN and regularly transmit  their data to DM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05560" indent="-2055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We are in the process of collecting these da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Difficulté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0760" y="1825200"/>
            <a:ext cx="90262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étusté du résea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suffisance du personnel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xistence d’autres entités faisant la meteo au sein du p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 Light"/>
              </a:rPr>
              <a:t>Perspectives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crutement en cours du personnel(250) tout grade confon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rojet en cours de sauvetage des données histor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extBox 4" descr=""/>
          <p:cNvPicPr/>
          <p:nvPr/>
        </p:nvPicPr>
        <p:blipFill>
          <a:blip r:embed="rId1"/>
          <a:stretch/>
        </p:blipFill>
        <p:spPr>
          <a:xfrm>
            <a:off x="2328840" y="2036880"/>
            <a:ext cx="5175360" cy="231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11"/>
          <p:cNvSpPr/>
          <p:nvPr/>
        </p:nvSpPr>
        <p:spPr>
          <a:xfrm>
            <a:off x="1539720" y="2690640"/>
            <a:ext cx="7101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HYSICAL NATIONAL CON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NATIONAL REQUIRMENT ABOUT OBSE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NVENTORY  OF OBSERVATION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2560" indent="-682560"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CELLAN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56"/>
          <p:cNvSpPr/>
          <p:nvPr/>
        </p:nvSpPr>
        <p:spPr>
          <a:xfrm>
            <a:off x="169920" y="1276200"/>
            <a:ext cx="95644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57040" y="1495440"/>
          <a:ext cx="4591080" cy="5067360"/>
        </p:xfrm>
        <a:graphic>
          <a:graphicData uri="http://schemas.openxmlformats.org/drawingml/2006/table">
            <a:tbl>
              <a:tblPr/>
              <a:tblGrid>
                <a:gridCol w="1078200"/>
                <a:gridCol w="3512880"/>
              </a:tblGrid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 of 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public of Camero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c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 (Western side), Atlantic coastal 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5,442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im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b-tropical Climate (Dry season: Dec ~ Mar / Wet season: Jun ~ Nov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ital c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aound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ul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 m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c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tical capital : Yaoundé / Economic Capital : Doua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eroon Highlander 31%, Equitorial Bantu 19%, Kirdi 11%, Fulani 10%, Northwestern Bantu 8%, Eastern Nigritic 7%, Other African 13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rench, English, traditional langu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lig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imism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40%), Christian (40%), Islamic 20%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ependence 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60. 1.1 (Independence from Franc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overnment for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tial Republi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3096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ss Domestic </a:t>
                      </a:r>
                      <a:br>
                        <a:rPr sz="900"/>
                      </a:b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(GDP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30.9 billion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 capita GDP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,303 (20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renc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ntral African CFA Franc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OF}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ustrial structu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48%, Manufacturing 31%, Agriculture 22% (20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52560" rIns="52560" tIns="14400" bIns="1440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jor resour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troleum, Bauxite, Iron ore, Wood, Fishe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 w="1440">
                      <a:solidFill>
                        <a:srgbClr val="002060"/>
                      </a:solidFill>
                    </a:lnL>
                    <a:lnR w="1440">
                      <a:solidFill>
                        <a:srgbClr val="002060"/>
                      </a:solidFill>
                    </a:lnR>
                    <a:lnT w="1440">
                      <a:solidFill>
                        <a:srgbClr val="002060"/>
                      </a:solidFill>
                    </a:lnT>
                    <a:lnB w="1440">
                      <a:solidFill>
                        <a:srgbClr val="002060"/>
                      </a:solidFill>
                    </a:lnB>
                    <a:noFill/>
                  </a:tcPr>
                </a:tc>
              </a:tr>
              <a:tr h="270000">
                <a:tc gridSpan="2">
                  <a:txBody>
                    <a:bodyPr lIns="52560" rIns="52560" tIns="14400" bIns="14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rce: 2017 World National Handbook (Korea Eximbank), Rising Africa Series - Cameroon (Africa Strategy Center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2560" marR="525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206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3" name="직선 연결선 3"/>
          <p:cNvSpPr/>
          <p:nvPr/>
        </p:nvSpPr>
        <p:spPr>
          <a:xfrm>
            <a:off x="4933800" y="1413000"/>
            <a:ext cx="0" cy="4898880"/>
          </a:xfrm>
          <a:prstGeom prst="line">
            <a:avLst/>
          </a:prstGeom>
          <a:ln w="6480">
            <a:solidFill>
              <a:srgbClr val="2f5597"/>
            </a:solidFill>
            <a:prstDash val="sysDash"/>
            <a:miter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한쪽 모서리는 잘리고 다른 쪽 모서리는 둥근 사각형 12"/>
          <p:cNvSpPr/>
          <p:nvPr/>
        </p:nvSpPr>
        <p:spPr>
          <a:xfrm>
            <a:off x="169920" y="1052640"/>
            <a:ext cx="376236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. General status of Camero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https://www.cia.gov/library/publications/the-world-factbook/graphics/maps/large/cm-map.gif"/>
          <p:cNvPicPr/>
          <p:nvPr/>
        </p:nvPicPr>
        <p:blipFill>
          <a:blip r:embed="rId2"/>
          <a:stretch/>
        </p:blipFill>
        <p:spPr>
          <a:xfrm>
            <a:off x="5494320" y="1960560"/>
            <a:ext cx="3673440" cy="39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56"/>
          <p:cNvSpPr/>
          <p:nvPr/>
        </p:nvSpPr>
        <p:spPr>
          <a:xfrm>
            <a:off x="169920" y="1276200"/>
            <a:ext cx="4734000" cy="30607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한쪽 모서리는 잘리고 다른 쪽 모서리는 둥근 사각형 11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Poli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169920" y="4734000"/>
            <a:ext cx="4734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equate environment for agricul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plentiful amount of natural resources (petroleum, gas, forestry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0% of population in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griculture, forestry, fishery (20% of GD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9"/>
          <p:cNvSpPr/>
          <p:nvPr/>
        </p:nvSpPr>
        <p:spPr>
          <a:xfrm>
            <a:off x="169920" y="1417680"/>
            <a:ext cx="2612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.1.1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Independence from F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6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- Foundation of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ian National Union (CN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72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Amendment of the  Constitution (became a unitary st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ministrative districts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0 regions &gt; 58 divi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차트 19" descr=""/>
          <p:cNvPicPr/>
          <p:nvPr/>
        </p:nvPicPr>
        <p:blipFill>
          <a:blip r:embed="rId2"/>
          <a:stretch/>
        </p:blipFill>
        <p:spPr>
          <a:xfrm>
            <a:off x="4836960" y="2651040"/>
            <a:ext cx="2710080" cy="2563920"/>
          </a:xfrm>
          <a:prstGeom prst="rect">
            <a:avLst/>
          </a:prstGeom>
          <a:ln w="0">
            <a:noFill/>
          </a:ln>
        </p:spPr>
      </p:pic>
      <p:pic>
        <p:nvPicPr>
          <p:cNvPr id="192" name="그림 17" descr=""/>
          <p:cNvPicPr/>
          <p:nvPr/>
        </p:nvPicPr>
        <p:blipFill>
          <a:blip r:embed="rId3"/>
          <a:stretch/>
        </p:blipFill>
        <p:spPr>
          <a:xfrm>
            <a:off x="2903400" y="1424160"/>
            <a:ext cx="1968480" cy="2766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356"/>
          <p:cNvSpPr/>
          <p:nvPr/>
        </p:nvSpPr>
        <p:spPr>
          <a:xfrm>
            <a:off x="169920" y="4554360"/>
            <a:ext cx="4734000" cy="20973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한쪽 모서리는 잘리고 다른 쪽 모서리는 둥근 사각형 24"/>
          <p:cNvSpPr/>
          <p:nvPr/>
        </p:nvSpPr>
        <p:spPr>
          <a:xfrm>
            <a:off x="166680" y="4373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Econom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한쪽 모서리는 잘리고 다른 쪽 모서리는 둥근 사각형 26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7"/>
          <p:cNvSpPr/>
          <p:nvPr/>
        </p:nvSpPr>
        <p:spPr>
          <a:xfrm>
            <a:off x="5016600" y="1417680"/>
            <a:ext cx="4717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Popul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4.01 million (Sex ratio: almost sa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opulation structur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yramid type (life expectancy: 56 yea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population ratio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직사각형 28"/>
          <p:cNvSpPr/>
          <p:nvPr/>
        </p:nvSpPr>
        <p:spPr>
          <a:xfrm>
            <a:off x="5005440" y="4983120"/>
            <a:ext cx="471168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bor participation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76% (steadily increa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rollment rate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rimary education - Hi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econdary education- 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continuous education has not been achiev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iteracy rate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Relatively high (Adults: 75%, Female: 80.4%, Male: 87.1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직사각형 29"/>
          <p:cNvSpPr/>
          <p:nvPr/>
        </p:nvSpPr>
        <p:spPr>
          <a:xfrm>
            <a:off x="6327720" y="4614840"/>
            <a:ext cx="1887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Urbanization rate, 2017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직사각형 30"/>
          <p:cNvSpPr/>
          <p:nvPr/>
        </p:nvSpPr>
        <p:spPr>
          <a:xfrm>
            <a:off x="7504200" y="3882960"/>
            <a:ext cx="6397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Calibri"/>
                <a:ea typeface="나눔고딕"/>
              </a:rPr>
              <a:t>카메룬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그림 31" descr=""/>
          <p:cNvPicPr/>
          <p:nvPr/>
        </p:nvPicPr>
        <p:blipFill>
          <a:blip r:embed="rId4"/>
          <a:stretch/>
        </p:blipFill>
        <p:spPr>
          <a:xfrm>
            <a:off x="5022720" y="2374920"/>
            <a:ext cx="46944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제목 17" descr=""/>
          <p:cNvPicPr/>
          <p:nvPr/>
        </p:nvPicPr>
        <p:blipFill>
          <a:blip r:embed="rId1"/>
          <a:stretch/>
        </p:blipFill>
        <p:spPr>
          <a:xfrm>
            <a:off x="-19080" y="42840"/>
            <a:ext cx="9759960" cy="7858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356"/>
          <p:cNvSpPr/>
          <p:nvPr/>
        </p:nvSpPr>
        <p:spPr>
          <a:xfrm>
            <a:off x="169920" y="1276200"/>
            <a:ext cx="4734000" cy="1393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Roa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56"/>
          <p:cNvSpPr/>
          <p:nvPr/>
        </p:nvSpPr>
        <p:spPr>
          <a:xfrm>
            <a:off x="5005440" y="1276200"/>
            <a:ext cx="4728960" cy="21765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33"/>
          <p:cNvSpPr/>
          <p:nvPr/>
        </p:nvSpPr>
        <p:spPr>
          <a:xfrm>
            <a:off x="169920" y="142092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oads: 77,000k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pavement rate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6% (main roads, 5,100km) 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Difficult to travel during wet season (unpaved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Planning to pave highway between Douala – Yaounde – Bafoussam - Douala (3,500km) by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356"/>
          <p:cNvSpPr/>
          <p:nvPr/>
        </p:nvSpPr>
        <p:spPr>
          <a:xfrm>
            <a:off x="169920" y="2903400"/>
            <a:ext cx="4734000" cy="1105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한쪽 모서리는 잘리고 다른 쪽 모서리는 둥근 사각형 36"/>
          <p:cNvSpPr/>
          <p:nvPr/>
        </p:nvSpPr>
        <p:spPr>
          <a:xfrm>
            <a:off x="166680" y="272412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Av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7"/>
          <p:cNvSpPr/>
          <p:nvPr/>
        </p:nvSpPr>
        <p:spPr>
          <a:xfrm>
            <a:off x="166680" y="3084480"/>
            <a:ext cx="47372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/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1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1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(In reconstruction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)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nternational: ASECNA  - aviation navigation  &amp;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mestic: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ameroon Civil Aviation Authority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- met.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356"/>
          <p:cNvSpPr/>
          <p:nvPr/>
        </p:nvSpPr>
        <p:spPr>
          <a:xfrm>
            <a:off x="169920" y="4246560"/>
            <a:ext cx="4734000" cy="240516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한쪽 모서리는 잘리고 다른 쪽 모서리는 둥근 사각형 39"/>
          <p:cNvSpPr/>
          <p:nvPr/>
        </p:nvSpPr>
        <p:spPr>
          <a:xfrm>
            <a:off x="166680" y="4067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Railw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40"/>
          <p:cNvSpPr/>
          <p:nvPr/>
        </p:nvSpPr>
        <p:spPr>
          <a:xfrm>
            <a:off x="166680" y="4427640"/>
            <a:ext cx="2641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Total length of railways: 1,009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Important transportation method for domestic cargo logistics (passenger transport is in poor stat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dditional 1,000 km railway will be constructed to transport to the export port of mineral resources with foreign 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그림 41" descr=""/>
          <p:cNvPicPr/>
          <p:nvPr/>
        </p:nvPicPr>
        <p:blipFill>
          <a:blip r:embed="rId2"/>
          <a:stretch/>
        </p:blipFill>
        <p:spPr>
          <a:xfrm>
            <a:off x="2863800" y="4451400"/>
            <a:ext cx="1984320" cy="220032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356"/>
          <p:cNvSpPr/>
          <p:nvPr/>
        </p:nvSpPr>
        <p:spPr>
          <a:xfrm>
            <a:off x="5005440" y="3768840"/>
            <a:ext cx="4728960" cy="28828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한쪽 모서리는 잘리고 다른 쪽 모서리는 둥근 사각형 43"/>
          <p:cNvSpPr/>
          <p:nvPr/>
        </p:nvSpPr>
        <p:spPr>
          <a:xfrm>
            <a:off x="5005440" y="358920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5)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44"/>
          <p:cNvSpPr/>
          <p:nvPr/>
        </p:nvSpPr>
        <p:spPr>
          <a:xfrm>
            <a:off x="5013360" y="1420920"/>
            <a:ext cx="2529000" cy="20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 marine ports, 6 river 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oual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ccounted for 80-85% of national port log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ribi Deep Se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tarted operation in Jun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Garoua Por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only available in the rainy season on the Benoué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그림 45" descr=""/>
          <p:cNvPicPr/>
          <p:nvPr/>
        </p:nvPicPr>
        <p:blipFill>
          <a:blip r:embed="rId3"/>
          <a:srcRect l="0" t="0" r="38158" b="0"/>
          <a:stretch/>
        </p:blipFill>
        <p:spPr>
          <a:xfrm>
            <a:off x="7542360" y="1460520"/>
            <a:ext cx="2149200" cy="19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6"/>
          <p:cNvSpPr/>
          <p:nvPr/>
        </p:nvSpPr>
        <p:spPr>
          <a:xfrm>
            <a:off x="5005440" y="3940200"/>
            <a:ext cx="472896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nergy gener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77% hydroelectric power (other: distillation, diese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power generation capacity: 1,137M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Required capacity: 2,000MW (to be increased to 3,000MW by 20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5073480" y="4951440"/>
          <a:ext cx="4618080" cy="1738440"/>
        </p:xfrm>
        <a:graphic>
          <a:graphicData uri="http://schemas.openxmlformats.org/drawingml/2006/table">
            <a:tbl>
              <a:tblPr/>
              <a:tblGrid>
                <a:gridCol w="882720"/>
                <a:gridCol w="533520"/>
                <a:gridCol w="533520"/>
                <a:gridCol w="533160"/>
                <a:gridCol w="533520"/>
                <a:gridCol w="533520"/>
                <a:gridCol w="533160"/>
                <a:gridCol w="534960"/>
              </a:tblGrid>
              <a:tr h="3049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ctricity suppl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Urb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7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8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9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9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u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7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8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30400">
                <a:tc gridSpan="8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나눔고딕"/>
                          <a:ea typeface="나눔고딕"/>
                        </a:rPr>
                        <a:t>Source : World Bank Open Data, WB(https://data.worldbank.org/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2f5597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제목 17" descr=""/>
          <p:cNvPicPr/>
          <p:nvPr/>
        </p:nvPicPr>
        <p:blipFill>
          <a:blip r:embed="rId1"/>
          <a:stretch/>
        </p:blipFill>
        <p:spPr>
          <a:xfrm>
            <a:off x="-12600" y="42840"/>
            <a:ext cx="9753480" cy="78588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356"/>
          <p:cNvSpPr/>
          <p:nvPr/>
        </p:nvSpPr>
        <p:spPr>
          <a:xfrm>
            <a:off x="166680" y="1276200"/>
            <a:ext cx="830088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Geograp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3"/>
          <p:cNvSpPr/>
          <p:nvPr/>
        </p:nvSpPr>
        <p:spPr>
          <a:xfrm>
            <a:off x="166680" y="1425600"/>
            <a:ext cx="2633760" cy="19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Centr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rica (western side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(Lat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)</a:t>
            </a:r>
            <a:r>
              <a:rPr b="0" lang="ko-KR" sz="11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475,442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  <a:ea typeface="나눔고딕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eighboring countries: Nigeria, Chad, Central African Republic, Congo, Gabon, Equatorial Gui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203040" y="3157560"/>
          <a:ext cx="2508480" cy="1584360"/>
        </p:xfrm>
        <a:graphic>
          <a:graphicData uri="http://schemas.openxmlformats.org/drawingml/2006/table">
            <a:tbl>
              <a:tblPr/>
              <a:tblGrid>
                <a:gridCol w="573120"/>
                <a:gridCol w="747720"/>
                <a:gridCol w="1187640"/>
              </a:tblGrid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la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0 ~6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entr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High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vg. Alt: 90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damawa plateau: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370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ort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avann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ownslo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ount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t. Cameroon (Alt: 4,070m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6" name="그림 37" descr="E:\2018\1.프로젝트\04.(NIPA)카메룬(★)\06. 수행\03.자료수집\00.그림자료\Cameroon_Topography.png"/>
          <p:cNvPicPr/>
          <p:nvPr/>
        </p:nvPicPr>
        <p:blipFill>
          <a:blip r:embed="rId2"/>
          <a:stretch/>
        </p:blipFill>
        <p:spPr>
          <a:xfrm>
            <a:off x="3824280" y="1428840"/>
            <a:ext cx="4299120" cy="3327480"/>
          </a:xfrm>
          <a:prstGeom prst="rect">
            <a:avLst/>
          </a:prstGeom>
          <a:ln w="0">
            <a:noFill/>
          </a:ln>
        </p:spPr>
      </p:pic>
      <p:sp>
        <p:nvSpPr>
          <p:cNvPr id="227" name="TextBox 38"/>
          <p:cNvSpPr/>
          <p:nvPr/>
        </p:nvSpPr>
        <p:spPr>
          <a:xfrm>
            <a:off x="174600" y="5018040"/>
            <a:ext cx="253692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riv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anaga River: (Origin) Adamawa Plateau, (Destination) Atlantic ocea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enue River: (Origin) Adamawa Plateau, (Destination) Niger 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그림 62" descr=""/>
          <p:cNvPicPr/>
          <p:nvPr/>
        </p:nvPicPr>
        <p:blipFill>
          <a:blip r:embed="rId3"/>
          <a:stretch/>
        </p:blipFill>
        <p:spPr>
          <a:xfrm>
            <a:off x="4119480" y="5016600"/>
            <a:ext cx="398628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356"/>
          <p:cNvSpPr/>
          <p:nvPr/>
        </p:nvSpPr>
        <p:spPr>
          <a:xfrm>
            <a:off x="166680" y="1276200"/>
            <a:ext cx="473400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한쪽 모서리는 잘리고 다른 쪽 모서리는 둥근 사각형 14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Natural disas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한쪽 모서리는 잘리고 다른 쪽 모서리는 둥근 사각형 2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External environment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4"/>
          <p:cNvSpPr/>
          <p:nvPr/>
        </p:nvSpPr>
        <p:spPr>
          <a:xfrm>
            <a:off x="174600" y="1413000"/>
            <a:ext cx="4726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squalls, wind storms, thunderstorms, desertification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290520" y="2171880"/>
          <a:ext cx="4610160" cy="1430280"/>
        </p:xfrm>
        <a:graphic>
          <a:graphicData uri="http://schemas.openxmlformats.org/drawingml/2006/table">
            <a:tbl>
              <a:tblPr/>
              <a:tblGrid>
                <a:gridCol w="1027080"/>
                <a:gridCol w="816120"/>
                <a:gridCol w="922320"/>
                <a:gridCol w="823680"/>
                <a:gridCol w="1020960"/>
              </a:tblGrid>
              <a:tr h="419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Natural disas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ccur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asual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Inju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mage co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thousand US$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918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Flo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75,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rou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98,9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Volcanic activ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3,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922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Landslid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,7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44440">
                <a:tc gridSpan="5"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ource: EM-DAT: The Emergency Events Database - Universite catholique de Louvain (UCL) - CRED, D. Guha-Sapir - www.emdat.be, Brussels, Belgium : April 16, 2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36" name="Rectangle 356"/>
          <p:cNvSpPr/>
          <p:nvPr/>
        </p:nvSpPr>
        <p:spPr>
          <a:xfrm>
            <a:off x="5089680" y="1690560"/>
            <a:ext cx="4555800" cy="1238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직사각형 30"/>
          <p:cNvSpPr/>
          <p:nvPr/>
        </p:nvSpPr>
        <p:spPr>
          <a:xfrm>
            <a:off x="5089680" y="144000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ⓐ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Geograph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56"/>
          <p:cNvSpPr/>
          <p:nvPr/>
        </p:nvSpPr>
        <p:spPr>
          <a:xfrm>
            <a:off x="5089680" y="325584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직사각형 34"/>
          <p:cNvSpPr/>
          <p:nvPr/>
        </p:nvSpPr>
        <p:spPr>
          <a:xfrm>
            <a:off x="5089680" y="3005280"/>
            <a:ext cx="1164960" cy="25056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ⓑ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Climate</a:t>
            </a: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56"/>
          <p:cNvSpPr/>
          <p:nvPr/>
        </p:nvSpPr>
        <p:spPr>
          <a:xfrm>
            <a:off x="5089680" y="4524480"/>
            <a:ext cx="4555800" cy="9414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직사각형 46"/>
          <p:cNvSpPr/>
          <p:nvPr/>
        </p:nvSpPr>
        <p:spPr>
          <a:xfrm>
            <a:off x="5089680" y="4273560"/>
            <a:ext cx="131904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ⓒ </a:t>
            </a: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Natural disa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텍스트 상자 2"/>
          <p:cNvSpPr/>
          <p:nvPr/>
        </p:nvSpPr>
        <p:spPr>
          <a:xfrm>
            <a:off x="5097600" y="17114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ocation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t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2°N – 13°N, Long.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8°E – 17°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Area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475,442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Based on 6° N Lat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South – plains, North – plateau (high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텍스트 상자 12"/>
          <p:cNvSpPr/>
          <p:nvPr/>
        </p:nvSpPr>
        <p:spPr>
          <a:xfrm>
            <a:off x="5089680" y="3251160"/>
            <a:ext cx="45558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Köppen climate zon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Af, Am, Aw, BSh, BW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ythergraph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ecrease in precipitation toward north (desert climat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텍스트 상자 14"/>
          <p:cNvSpPr/>
          <p:nvPr/>
        </p:nvSpPr>
        <p:spPr>
          <a:xfrm>
            <a:off x="5097600" y="4535640"/>
            <a:ext cx="45478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Main natural disasters: heavy rains, floods, landslides, droug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Urban floods occur frequently due to heavy 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s caused by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직사각형 1"/>
          <p:cNvSpPr/>
          <p:nvPr/>
        </p:nvSpPr>
        <p:spPr>
          <a:xfrm>
            <a:off x="174600" y="3730680"/>
            <a:ext cx="47260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Heavy rain: leads to flood damages (due to lack of social infrastructure; eg. poor drainage faci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Landslide: Landslide damage due to heavy rainfall and e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Content Placeholder 3" descr="douala_flood_bonapriso_002"/>
          <p:cNvPicPr/>
          <p:nvPr/>
        </p:nvPicPr>
        <p:blipFill>
          <a:blip r:embed="rId2"/>
          <a:stretch/>
        </p:blipFill>
        <p:spPr>
          <a:xfrm>
            <a:off x="255600" y="4649760"/>
            <a:ext cx="2278080" cy="16048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" descr=""/>
          <p:cNvPicPr/>
          <p:nvPr/>
        </p:nvPicPr>
        <p:blipFill>
          <a:blip r:embed="rId3"/>
          <a:srcRect l="47894" t="20531" r="0" b="0"/>
          <a:stretch/>
        </p:blipFill>
        <p:spPr>
          <a:xfrm>
            <a:off x="2612880" y="4649760"/>
            <a:ext cx="220212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49" name="TextBox 14"/>
          <p:cNvSpPr/>
          <p:nvPr/>
        </p:nvSpPr>
        <p:spPr>
          <a:xfrm>
            <a:off x="166680" y="3063960"/>
            <a:ext cx="4734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 is authorized by the Presidential Decree 2012/250 to develop and implement the climate policy of Cameroon Information (2012.06.01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6"/>
          <p:cNvSpPr/>
          <p:nvPr/>
        </p:nvSpPr>
        <p:spPr>
          <a:xfrm>
            <a:off x="166680" y="1425600"/>
            <a:ext cx="473400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4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First weather station in Cameroon (operated by German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885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information first recor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20: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Established DMN during the French coloni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960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Operation and management under Cameroon gov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56"/>
          <p:cNvSpPr/>
          <p:nvPr/>
        </p:nvSpPr>
        <p:spPr>
          <a:xfrm>
            <a:off x="166680" y="1276200"/>
            <a:ext cx="4734000" cy="135108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56"/>
          <p:cNvSpPr/>
          <p:nvPr/>
        </p:nvSpPr>
        <p:spPr>
          <a:xfrm>
            <a:off x="5005440" y="1276200"/>
            <a:ext cx="4728960" cy="2914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한쪽 모서리는 잘리고 다른 쪽 모서리는 둥근 사각형 13"/>
          <p:cNvSpPr/>
          <p:nvPr/>
        </p:nvSpPr>
        <p:spPr>
          <a:xfrm>
            <a:off x="5005440" y="105264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한쪽 모서리는 잘리고 다른 쪽 모서리는 둥근 사각형 9"/>
          <p:cNvSpPr/>
          <p:nvPr/>
        </p:nvSpPr>
        <p:spPr>
          <a:xfrm>
            <a:off x="166680" y="105264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Hi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56"/>
          <p:cNvSpPr/>
          <p:nvPr/>
        </p:nvSpPr>
        <p:spPr>
          <a:xfrm>
            <a:off x="166680" y="2882880"/>
            <a:ext cx="4734000" cy="37688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한쪽 모서리는 잘리고 다른 쪽 모서리는 둥근 사각형 18"/>
          <p:cNvSpPr/>
          <p:nvPr/>
        </p:nvSpPr>
        <p:spPr>
          <a:xfrm>
            <a:off x="166680" y="2703600"/>
            <a:ext cx="387972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직사각형 2"/>
          <p:cNvSpPr/>
          <p:nvPr/>
        </p:nvSpPr>
        <p:spPr>
          <a:xfrm>
            <a:off x="263520" y="4125960"/>
            <a:ext cx="454824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1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Weather and Climate Monitor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2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Met. Data collection and process (International, Domestic)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3. Analysis of collected met.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4.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5.</a:t>
            </a:r>
            <a:r>
              <a:rPr b="0" lang="ko-KR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Public Weather Serv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6. Met. Statistics &amp; Climate data manag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7. Monitoring of weather surveillance center in the airpor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8. Management of WMO rel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나눔고딕"/>
              </a:rPr>
              <a:t>9. Management of implementation on met / atmospheric related agreement and protoc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56"/>
          <p:cNvSpPr/>
          <p:nvPr/>
        </p:nvSpPr>
        <p:spPr>
          <a:xfrm>
            <a:off x="255600" y="4125960"/>
            <a:ext cx="4556160" cy="23479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직사각형 22"/>
          <p:cNvSpPr/>
          <p:nvPr/>
        </p:nvSpPr>
        <p:spPr>
          <a:xfrm>
            <a:off x="255600" y="3875040"/>
            <a:ext cx="1165320" cy="250920"/>
          </a:xfrm>
          <a:prstGeom prst="rect">
            <a:avLst/>
          </a:pr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나눔고딕"/>
                <a:ea typeface="나눔고딕"/>
              </a:rPr>
              <a:t>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3" descr=""/>
          <p:cNvPicPr/>
          <p:nvPr/>
        </p:nvPicPr>
        <p:blipFill>
          <a:blip r:embed="rId2"/>
          <a:stretch/>
        </p:blipFill>
        <p:spPr>
          <a:xfrm>
            <a:off x="5964120" y="1774800"/>
            <a:ext cx="2811600" cy="23576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24"/>
          <p:cNvSpPr/>
          <p:nvPr/>
        </p:nvSpPr>
        <p:spPr>
          <a:xfrm>
            <a:off x="5005440" y="142560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1 director, 2 sub-departments, and 8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356"/>
          <p:cNvSpPr/>
          <p:nvPr/>
        </p:nvSpPr>
        <p:spPr>
          <a:xfrm>
            <a:off x="5005440" y="4451400"/>
            <a:ext cx="4728960" cy="22003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한쪽 모서리는 잘리고 다른 쪽 모서리는 둥근 사각형 25"/>
          <p:cNvSpPr/>
          <p:nvPr/>
        </p:nvSpPr>
        <p:spPr>
          <a:xfrm>
            <a:off x="5005440" y="4272120"/>
            <a:ext cx="391140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4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41800" y="5000760"/>
          <a:ext cx="4656240" cy="531720"/>
        </p:xfrm>
        <a:graphic>
          <a:graphicData uri="http://schemas.openxmlformats.org/drawingml/2006/table">
            <a:tbl>
              <a:tblPr/>
              <a:tblGrid>
                <a:gridCol w="1569960"/>
                <a:gridCol w="3086280"/>
              </a:tblGrid>
              <a:tr h="268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otal Quo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urrent Statu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63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3 (HQ: 18, Region: 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직사각형 30"/>
          <p:cNvSpPr/>
          <p:nvPr/>
        </p:nvSpPr>
        <p:spPr>
          <a:xfrm>
            <a:off x="5005440" y="55450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150000"/>
              </a:lnSpc>
              <a:buClr>
                <a:srgbClr val="000000"/>
              </a:buClr>
              <a:buSzPct val="70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National Advanced School of Polytechnics: Potential staffs are tr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5040360" y="5913360"/>
          <a:ext cx="4659120" cy="692280"/>
        </p:xfrm>
        <a:graphic>
          <a:graphicData uri="http://schemas.openxmlformats.org/drawingml/2006/table">
            <a:tbl>
              <a:tblPr/>
              <a:tblGrid>
                <a:gridCol w="1165320"/>
                <a:gridCol w="1164960"/>
                <a:gridCol w="1163880"/>
                <a:gridCol w="1164960"/>
              </a:tblGrid>
              <a:tr h="478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Met.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echnicia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 engine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ssista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2142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7" name="직사각형 32"/>
          <p:cNvSpPr/>
          <p:nvPr/>
        </p:nvSpPr>
        <p:spPr>
          <a:xfrm>
            <a:off x="5005440" y="4632480"/>
            <a:ext cx="472896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Current staff number of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MN: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제목 17" descr=""/>
          <p:cNvPicPr/>
          <p:nvPr/>
        </p:nvPicPr>
        <p:blipFill>
          <a:blip r:embed="rId1"/>
          <a:stretch/>
        </p:blipFill>
        <p:spPr>
          <a:xfrm>
            <a:off x="-23760" y="42840"/>
            <a:ext cx="9764640" cy="785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13"/>
          <p:cNvSpPr/>
          <p:nvPr/>
        </p:nvSpPr>
        <p:spPr>
          <a:xfrm>
            <a:off x="166680" y="1424160"/>
            <a:ext cx="4734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 algn="just">
              <a:lnSpc>
                <a:spcPct val="150000"/>
              </a:lnSpc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Director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NMC</a:t>
            </a:r>
            <a:r>
              <a:rPr b="0" lang="ko-KR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나눔고딕"/>
              </a:rPr>
              <a:t>– Service of observ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204840" y="2362320"/>
          <a:ext cx="4657680" cy="2490840"/>
        </p:xfrm>
        <a:graphic>
          <a:graphicData uri="http://schemas.openxmlformats.org/drawingml/2006/table">
            <a:tbl>
              <a:tblPr/>
              <a:tblGrid>
                <a:gridCol w="1090440"/>
                <a:gridCol w="809640"/>
                <a:gridCol w="2757600"/>
              </a:tblGrid>
              <a:tr h="420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 du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ad of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manag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2278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taff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(shared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al network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p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4222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onal chie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ting the service in the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nds the monthly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97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in reg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face observ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ke synoptic code and repor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thly statistics of observation data and send through po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intain the equip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1" name="Rectangle 356"/>
          <p:cNvSpPr/>
          <p:nvPr/>
        </p:nvSpPr>
        <p:spPr>
          <a:xfrm>
            <a:off x="166680" y="1276200"/>
            <a:ext cx="4734000" cy="59220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56"/>
          <p:cNvSpPr/>
          <p:nvPr/>
        </p:nvSpPr>
        <p:spPr>
          <a:xfrm>
            <a:off x="5005440" y="1276200"/>
            <a:ext cx="4728960" cy="537552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한쪽 모서리는 잘리고 다른 쪽 모서리는 둥근 사각형 33"/>
          <p:cNvSpPr/>
          <p:nvPr/>
        </p:nvSpPr>
        <p:spPr>
          <a:xfrm>
            <a:off x="16668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1) Organiz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한쪽 모서리는 잘리고 다른 쪽 모서리는 둥근 사각형 7"/>
          <p:cNvSpPr/>
          <p:nvPr/>
        </p:nvSpPr>
        <p:spPr>
          <a:xfrm>
            <a:off x="5005440" y="105264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3) Surface Observ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56"/>
          <p:cNvSpPr/>
          <p:nvPr/>
        </p:nvSpPr>
        <p:spPr>
          <a:xfrm>
            <a:off x="166680" y="2166840"/>
            <a:ext cx="4734000" cy="2721240"/>
          </a:xfrm>
          <a:prstGeom prst="rect">
            <a:avLst/>
          </a:prstGeom>
          <a:noFill/>
          <a:ln w="6480">
            <a:solidFill>
              <a:srgbClr val="2f559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한쪽 모서리는 잘리고 다른 쪽 모서리는 둥근 사각형 17"/>
          <p:cNvSpPr/>
          <p:nvPr/>
        </p:nvSpPr>
        <p:spPr>
          <a:xfrm>
            <a:off x="166680" y="1943280"/>
            <a:ext cx="3887640" cy="360360"/>
          </a:xfrm>
          <a:prstGeom prst="pie">
            <a:avLst/>
          </a:prstGeom>
          <a:solidFill>
            <a:srgbClr val="bdd7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03864"/>
                </a:solidFill>
                <a:latin typeface="Calibri"/>
                <a:ea typeface="나눔고딕"/>
              </a:rPr>
              <a:t>2) Man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070600" y="1793880"/>
          <a:ext cx="3046320" cy="4786200"/>
        </p:xfrm>
        <a:graphic>
          <a:graphicData uri="http://schemas.openxmlformats.org/drawingml/2006/table">
            <a:tbl>
              <a:tblPr/>
              <a:tblGrid>
                <a:gridCol w="830160"/>
                <a:gridCol w="874800"/>
                <a:gridCol w="733320"/>
                <a:gridCol w="608040"/>
              </a:tblGrid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lemen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Observ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ta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yc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deebf7"/>
                    </a:solidFill>
                  </a:tcPr>
                </a:tc>
              </a:tr>
              <a:tr h="11923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ynoptic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0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58 observation stations in pl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, SD, ST, S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oud(A, T, H), Visibility,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Weather phenomen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times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hourly/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daytime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128448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Climatologic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ation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 (Max/mi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avg)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2 times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: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hon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98892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Raingauge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</a:t>
                      </a: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*Plan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600 stns, Current: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~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00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stns in oper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PCP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daily sum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/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 time/mon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post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AWS </a:t>
                      </a:r>
                      <a:br>
                        <a:rPr sz="900"/>
                      </a:b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20 Japan,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8 China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T, H, P, WD, WS, PCP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  <a:tc>
                  <a:txBody>
                    <a:bodyPr lIns="64800" rIns="64800" tIns="17640" bIns="176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Every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15 m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Calibri"/>
                          <a:ea typeface="나눔고딕"/>
                        </a:rPr>
                        <a:t>(GPRS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1440">
                      <a:solidFill>
                        <a:srgbClr val="2f5597"/>
                      </a:solidFill>
                    </a:lnL>
                    <a:lnR w="1440">
                      <a:solidFill>
                        <a:srgbClr val="2f5597"/>
                      </a:solidFill>
                    </a:lnR>
                    <a:lnT w="1440">
                      <a:solidFill>
                        <a:srgbClr val="2f5597"/>
                      </a:solidFill>
                    </a:lnT>
                    <a:lnB w="1440">
                      <a:solidFill>
                        <a:srgbClr val="2f5597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8" name="그림 19" descr=""/>
          <p:cNvPicPr/>
          <p:nvPr/>
        </p:nvPicPr>
        <p:blipFill>
          <a:blip r:embed="rId2"/>
          <a:srcRect l="0" t="0" r="50006" b="0"/>
          <a:stretch/>
        </p:blipFill>
        <p:spPr>
          <a:xfrm>
            <a:off x="8185320" y="1511280"/>
            <a:ext cx="154908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" descr="C:\Users\JY\Downloads\3.scan\img002.jpg"/>
          <p:cNvPicPr/>
          <p:nvPr/>
        </p:nvPicPr>
        <p:blipFill>
          <a:blip r:embed="rId3"/>
          <a:srcRect l="8737" t="7107" r="11847" b="15221"/>
          <a:stretch/>
        </p:blipFill>
        <p:spPr>
          <a:xfrm>
            <a:off x="8234280" y="3281400"/>
            <a:ext cx="1500120" cy="1884240"/>
          </a:xfrm>
          <a:prstGeom prst="rect">
            <a:avLst/>
          </a:prstGeom>
          <a:ln w="0">
            <a:noFill/>
          </a:ln>
        </p:spPr>
      </p:pic>
      <p:sp>
        <p:nvSpPr>
          <p:cNvPr id="280" name="모서리가 둥근 직사각형 21"/>
          <p:cNvSpPr/>
          <p:nvPr/>
        </p:nvSpPr>
        <p:spPr>
          <a:xfrm>
            <a:off x="8238960" y="1363680"/>
            <a:ext cx="145764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Surface obs.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모서리가 둥근 직사각형 22"/>
          <p:cNvSpPr/>
          <p:nvPr/>
        </p:nvSpPr>
        <p:spPr>
          <a:xfrm>
            <a:off x="8331120" y="3335400"/>
            <a:ext cx="1365480" cy="20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고딕"/>
                <a:ea typeface="나눔고딕"/>
              </a:rPr>
              <a:t>AWS ne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그림 23" descr=""/>
          <p:cNvPicPr/>
          <p:nvPr/>
        </p:nvPicPr>
        <p:blipFill>
          <a:blip r:embed="rId4"/>
          <a:stretch/>
        </p:blipFill>
        <p:spPr>
          <a:xfrm>
            <a:off x="166680" y="4968720"/>
            <a:ext cx="2276640" cy="1683000"/>
          </a:xfrm>
          <a:prstGeom prst="rect">
            <a:avLst/>
          </a:prstGeom>
          <a:ln w="0">
            <a:noFill/>
          </a:ln>
        </p:spPr>
      </p:pic>
      <p:pic>
        <p:nvPicPr>
          <p:cNvPr id="283" name="그림 24" descr="E:\2018\1.프로젝트\04.(NIPA)카메룬(★)\06. 수행\07.2차출장\2018NIPA_카메룬_DMN환경조사 사진모음(기자재, 장비)_20181015_화종\2차출장\EDEA관측소(사무실1).jpg"/>
          <p:cNvPicPr/>
          <p:nvPr/>
        </p:nvPicPr>
        <p:blipFill>
          <a:blip r:embed="rId5"/>
          <a:stretch/>
        </p:blipFill>
        <p:spPr>
          <a:xfrm>
            <a:off x="2533680" y="4968720"/>
            <a:ext cx="2367000" cy="1683000"/>
          </a:xfrm>
          <a:prstGeom prst="rect">
            <a:avLst/>
          </a:prstGeom>
          <a:ln w="0">
            <a:noFill/>
          </a:ln>
        </p:spPr>
      </p:pic>
      <p:pic>
        <p:nvPicPr>
          <p:cNvPr id="284" name="그림 25" descr="E:\2018\1.프로젝트\04.(NIPA)카메룬(★)\06. 수행\07.2차출장\2018NIPA_카메룬_DMN환경조사 사진모음(기자재, 장비)_20181015_화종\2차출장\EDEA관측소(장비1).jpg"/>
          <p:cNvPicPr/>
          <p:nvPr/>
        </p:nvPicPr>
        <p:blipFill>
          <a:blip r:embed="rId6"/>
          <a:stretch/>
        </p:blipFill>
        <p:spPr>
          <a:xfrm>
            <a:off x="8185320" y="5227560"/>
            <a:ext cx="150156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5-23T14:06:50Z</dcterms:created>
  <dc:creator>WeatherPia</dc:creator>
  <dc:description/>
  <dc:language>en-US</dc:language>
  <cp:lastModifiedBy>mamiThio</cp:lastModifiedBy>
  <cp:lastPrinted>2017-12-11T09:23:58Z</cp:lastPrinted>
  <dcterms:modified xsi:type="dcterms:W3CDTF">2019-04-10T16:10:19Z</dcterms:modified>
  <cp:revision>577</cp:revision>
  <dc:subject/>
  <dc:title>PowerPoint 프레젠테이션</dc:title>
</cp:coreProperties>
</file>