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CA426-55CA-4474-8321-406149A50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C7AA5-8D23-46B0-80C2-0D128FE26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EEE3-C65D-4504-AE5D-9E055D99D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DD19-E4E7-4CEB-96B7-E59708F44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16B1-ECFE-4B17-98E0-29C353105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0271-0D45-41C3-B93E-2CFC85FC7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EB0A-D075-4AB9-9D09-DDF1CC6864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47CB-F959-42EA-AA74-860755F691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326F-6B0A-4D12-B66E-8164174F9E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4C59-7215-44F7-96F0-5E84FB5408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B6FB-F649-4FA0-8ADB-BD7265CEE5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1912-FE29-4806-B4DC-AC8363258A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B9C3-A44D-4594-AEF8-630854CC6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8A96-C0A2-4B94-8911-95A3DD904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867A-33A2-4366-B63B-ADC8005CC0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3FF5-8075-495A-8B83-C4CE50F5B3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77EE-5F1C-423A-8E34-E7A27CA332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18026-8E0B-41A4-8734-C549D36605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7A6E-D572-4347-BF74-246679678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8276-6B6E-4482-86E4-149ADEF82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F939-7725-4B9B-BCF7-9256A62A6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D4C6-F4C4-4ADF-95D6-3AD3F84D5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F415-BF31-4A27-8631-178259D7B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1988-9A6F-4884-A98E-5AD1D8EDC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05C3-31FE-4512-8BF0-B141129D7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552E-4392-4547-B50E-C3D626BE3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A9CFE-B816-415B-B70E-CDAB2E72C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wmo2016_powerpoint_standard_v2-2.jpg"/>
          <p:cNvPicPr/>
          <p:nvPr/>
        </p:nvPicPr>
        <p:blipFill>
          <a:blip r:embed="rId3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E1B1C-CC4F-4B3B-B904-4578974BF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wmo2016_powerpoint_standard_v2-1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970520" y="5899320"/>
            <a:ext cx="41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Atelier OSCAR/Surface </a:t>
            </a:r>
            <a:br>
              <a:rPr sz="2000"/>
            </a:b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Dakar/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hape 231"/>
          <p:cNvSpPr/>
          <p:nvPr/>
        </p:nvSpPr>
        <p:spPr>
          <a:xfrm>
            <a:off x="120600" y="1003320"/>
            <a:ext cx="8866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TCH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60760" y="2101680"/>
            <a:ext cx="632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Mr NGAKOUGNON M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Chef de Division de la Climat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tivités de bur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lles consistent à 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llecter, contrôler, traiter, saisir et archiver les données en vue de constituer une banque de données 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user les informations et données météorologiques  et agrométéorologiqu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ublier les bulletins décadaires et les annuaires ;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2800" y="274320"/>
            <a:ext cx="8431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000" spc="-1" strike="noStrike">
                <a:solidFill>
                  <a:srgbClr val="000090"/>
                </a:solidFill>
                <a:latin typeface="Calibri"/>
              </a:rPr>
              <a:t>Le Personnel de l’ANA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60360" y="792000"/>
            <a:ext cx="843120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dispose d’un personnel qualifié composé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0 Ingénieur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 Techniciens Supérieurs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 Agents Techniques en Agro météorologi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Conducteurs des travaux agricol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 Contractuel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Décisionnaires ;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80 Observateurs bénévoles travaillant au niveau de différentes stations sur l’ensemble du territoire nat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Observateurs bénéficient des primes d’encouragement du budget de l’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exte phys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8840" y="1009800"/>
            <a:ext cx="8638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domaine hydrographique  reste dominé par les cours d’eau et les lacs parmi lesquels le Chari et le Logone qui sont des cours d’eau perman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deux cours d’eau forment le système Chari-Logone dont la superficie de leur bassin versant est de 600 000 km2 à la confluence à N’Djamé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rang des lacs, le plus important est le Lac Tchad qui est une fraction résiduelle d’une vaste mer intérieure dont sa superficie varie de 25 000 km2 à moins de 7 000 à l’heure actu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58840" y="600120"/>
            <a:ext cx="8638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des nouveaux aéropor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mensionnement des routes, des barrages, des ponts et ouvrages hydrauliques en fonction des donné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électr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pour la production d’énergie éolienne ou solair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mplantation des lignes  de transport   en fonction de la vitesse de vent et de la fréquence des n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a sa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ffusion d’avis d’alerte pour la population  sur la brume de poussière (asthme), sur les fortes chaleurs (cancer et méningite), les fortes humidités  (paludisme et choléra)et les temps orageux (troubles nerveu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Exigences nationales pour les observations (suit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8840" y="600120"/>
            <a:ext cx="8638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réguliers aux agriculteurs sur l’évolution probable du temps en fonction des donné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sur le danger d’incidence de maladie de culture ou sur les possibilités de leur attaque par les insectes en fonction de l’évolution du temp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 des récoltes par région en fonction des conditions météorologiques subies et du temps pour la fin des cultur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s météorologiques à temps réel et des avis des phénomènes météorologiques dangereux (inondations et séchere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variables observées les plus perti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6440" y="1677960"/>
          <a:ext cx="8059680" cy="47149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5880"/>
                <a:gridCol w="515880"/>
                <a:gridCol w="516240"/>
                <a:gridCol w="514080"/>
                <a:gridCol w="515880"/>
                <a:gridCol w="516240"/>
                <a:gridCol w="731520"/>
                <a:gridCol w="555840"/>
                <a:gridCol w="703080"/>
                <a:gridCol w="735120"/>
                <a:gridCol w="692280"/>
              </a:tblGrid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itre 1"/>
          <p:cNvSpPr/>
          <p:nvPr/>
        </p:nvSpPr>
        <p:spPr>
          <a:xfrm>
            <a:off x="231840" y="819000"/>
            <a:ext cx="8502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s variables sont la pluviométrie, la température, le vent et l’humidité et sont illustrées dans les tableaux ci-aprè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températures max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9240" y="831960"/>
          <a:ext cx="8529480" cy="5527440"/>
        </p:xfrm>
        <a:graphic>
          <a:graphicData uri="http://schemas.openxmlformats.org/drawingml/2006/table">
            <a:tbl>
              <a:tblPr/>
              <a:tblGrid>
                <a:gridCol w="556920"/>
                <a:gridCol w="557280"/>
                <a:gridCol w="557280"/>
                <a:gridCol w="557280"/>
                <a:gridCol w="557280"/>
                <a:gridCol w="556920"/>
                <a:gridCol w="559080"/>
                <a:gridCol w="556920"/>
                <a:gridCol w="557280"/>
                <a:gridCol w="743040"/>
                <a:gridCol w="631800"/>
                <a:gridCol w="711360"/>
                <a:gridCol w="699840"/>
                <a:gridCol w="727200"/>
              </a:tblGrid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humidité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9560" y="941400"/>
          <a:ext cx="8321760" cy="5008680"/>
        </p:xfrm>
        <a:graphic>
          <a:graphicData uri="http://schemas.openxmlformats.org/drawingml/2006/table">
            <a:tbl>
              <a:tblPr/>
              <a:tblGrid>
                <a:gridCol w="53352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803520"/>
                <a:gridCol w="579240"/>
                <a:gridCol w="727200"/>
                <a:gridCol w="726840"/>
                <a:gridCol w="681120"/>
              </a:tblGrid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Example d’une liste de 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4520" y="1397160"/>
          <a:ext cx="7861320" cy="6237000"/>
        </p:xfrm>
        <a:graphic>
          <a:graphicData uri="http://schemas.openxmlformats.org/drawingml/2006/table">
            <a:tbl>
              <a:tblPr/>
              <a:tblGrid>
                <a:gridCol w="1122120"/>
                <a:gridCol w="1123920"/>
                <a:gridCol w="1122480"/>
                <a:gridCol w="1123920"/>
                <a:gridCol w="1122480"/>
                <a:gridCol w="1122120"/>
                <a:gridCol w="1124280"/>
              </a:tblGrid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ng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ion temp,hum , hp, vent, évapo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’djamé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,hum,hp,pression, vent,insol,évap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éché</a:t>
                      </a:r>
                      <a:fld id="{182BF836-A4C1-4846-AA8C-D0C6C1454F69}" type="slidenum"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number&gt;</a:t>
                      </a:fld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’une manière générale, L’ANAM vient d’être m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place  avec ses différentes structures, 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imons  que son lancement va se déroul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nière  progressive  pour  assumer la mission  qui lui est fix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exte physique du TC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ventaire des capacités d'observation nationales actu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wmo2016_powerpoint_standard_v2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457200" y="2001960"/>
            <a:ext cx="82296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erci de votre aimabl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I.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ys enclavé, le Tchad couvre une superficie de 1.284.000 km² et est situé à la charnière de l’Afrique Saharienne, de l’Afrique Occidentale et de l’Afrique Centr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 population est d’environ 15 millions d’habitants à l’heure actuel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imité au Nord par la Libye, au Sud par la République Centrafricaine, à l’Est par le Soudan et à l’Ouest par le Niger, le Nigeria et le Camero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Espace réservé du contenu 3" descr=""/>
          <p:cNvPicPr/>
          <p:nvPr/>
        </p:nvPicPr>
        <p:blipFill>
          <a:blip r:embed="rId1"/>
          <a:stretch/>
        </p:blipFill>
        <p:spPr>
          <a:xfrm>
            <a:off x="2674800" y="189000"/>
            <a:ext cx="459432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90"/>
                </a:solidFill>
                <a:latin typeface="Calibri"/>
              </a:rPr>
              <a:t>Présentation de l’ANA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contenu 2"/>
          <p:cNvSpPr/>
          <p:nvPr/>
        </p:nvSpPr>
        <p:spPr>
          <a:xfrm>
            <a:off x="457200" y="860400"/>
            <a:ext cx="82296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(ANAM) est l’émanation de la Direction Générale de la Météorologie Nationale, créée par Décret N°076/PR/PM/MACMN/20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irection Générale de la Météorologie Nationale (DGMN) est une structure technique composée d’une Direction d’Exploitation et des applications Météorologiques et une Direction de Maintenance des Réseaux Météor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GMN est un établissement public à caractère administratif dotée de la personnalité juridi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est créée par la loi N°035/PR/2015 et est placée sous la tutelle du Ministère de l’Aviation Civile et de la Météor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Mandat de l’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75096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a pour mission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cevoir et mettre en œuvre la politique du Gouvernement en matière de la Météorolog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Assurer la veille Météorologique sur l’évolution du clim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ettre à la disposition des usagers publics et privés les données météorologiques et climatiqu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ttre en œuvre les Conventions et les Protocoles sur les Changements Climat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 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icultés/Contrai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ssumer sa mission, l’ANAM rencontre d’énormes difficultés d’ordre technique et financ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techniqu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Insuffisance de personnel qualifi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Structure d’observation en état d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délabrement avanc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Faible densité du réseau d’observa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s moyens roulants et matériel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pou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missions de terrains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financi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ponibilité financ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EAU D’OBSRVATION : l’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008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ploite 17 stations synoptiques avec l’ASEC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8 stations climatologiques dont 2 seulement fonctionnent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8 stations agro météorologiques dont 5 fonctionnent partiellement et 23 non foncti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03 postes pluviométriques dont 95 fonctionnel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4 stations hydrologiques dont 14 fonctionnelles gérées par la D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activités de l’A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s sont de deux ord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burea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ter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1T14:56:00Z</dcterms:created>
  <dc:creator>Timo Proescholdt</dc:creator>
  <dc:description/>
  <dc:language>en-US</dc:language>
  <cp:lastModifiedBy>hp</cp:lastModifiedBy>
  <dcterms:modified xsi:type="dcterms:W3CDTF">2019-04-09T09:50:26Z</dcterms:modified>
  <cp:revision>118</cp:revision>
  <dc:subject/>
  <dc:title>PowerPoint Presentation</dc:title>
</cp:coreProperties>
</file>