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4B4FA8-257A-4D2F-B468-D8BDDEDB6F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212F35-5413-4494-A957-47B5105972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9CB3-49B4-4725-B58A-CC400EB86F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08494-847D-4C2C-9868-8DCE58AEE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1D0C-3721-4B37-9DDA-D1FBB3F8B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6FEF-3460-48AC-B7DD-87E636F148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7E975-8B1A-473B-A369-F38DA7CB57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532A0-EB6A-444F-BBDD-C0B60D65F7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A6D3E-F6EF-4AA0-B72C-D46783141FA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A0AA8-2607-476F-9524-ABDBC28986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297F7-B513-48A3-8590-03F72A1A4C3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C0483-67AA-4D1A-8C75-42ED2562CF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D7DB0-44CC-442B-BC06-17C80ED51A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D9EAB-A6D3-4BCC-86E6-024CFC5E5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76A3-3902-4ADA-9537-C38902CA63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05099-A898-47F5-8DC7-6B64D5A7F05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6C23C-E3EE-4E41-B17C-CBB39B3CECE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1E802-B891-4431-8FBD-87C44787D98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B3519-DDB4-4316-A8A6-125DE3AF17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26722-B871-4428-89C1-8EF6DFA45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FB814-9AEB-4018-B579-33B3814E9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8A351-41F7-44EA-9E70-146CA79E4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959D5-CDFB-47DF-8C0B-7B942E24B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94CD-CB82-4A19-9CCE-AC9CCAD301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DFD2-93AC-4F6B-B89D-7F3A7608F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A0F04-33CC-48C8-807C-205F42C4A3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51B709-36A3-4247-BB1E-F67F3CDB2D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6" descr="wmo2016_powerpoint_standard_v2-2.jpg"/>
          <p:cNvPicPr/>
          <p:nvPr/>
        </p:nvPicPr>
        <p:blipFill>
          <a:blip r:embed="rId2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6" descr="wmo2016_powerpoint_standard_v2-2.jpg"/>
          <p:cNvPicPr/>
          <p:nvPr/>
        </p:nvPicPr>
        <p:blipFill>
          <a:blip r:embed="rId2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6" descr="wmo2016_powerpoint_standard_v2-2.jpg"/>
          <p:cNvPicPr/>
          <p:nvPr/>
        </p:nvPicPr>
        <p:blipFill>
          <a:blip r:embed="rId3"/>
          <a:stretch/>
        </p:blipFill>
        <p:spPr>
          <a:xfrm>
            <a:off x="0" y="5151600"/>
            <a:ext cx="1989000" cy="1714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1383D2-A56A-46DA-9324-DDD31BFA48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wmo2016_powerpoint_standard_v2-1.jpg"/>
          <p:cNvPicPr/>
          <p:nvPr/>
        </p:nvPicPr>
        <p:blipFill>
          <a:blip r:embed="rId1"/>
          <a:stretch/>
        </p:blipFill>
        <p:spPr>
          <a:xfrm>
            <a:off x="0" y="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4970520" y="5899320"/>
            <a:ext cx="417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2000" spc="-1" strike="noStrike">
                <a:solidFill>
                  <a:srgbClr val="000090"/>
                </a:solidFill>
                <a:latin typeface="Calibri"/>
              </a:rPr>
              <a:t>Atelier OSCAR/Surface </a:t>
            </a:r>
            <a:br>
              <a:rPr sz="2000"/>
            </a:br>
            <a:r>
              <a:rPr b="0" lang="de-DE" sz="2000" spc="-1" strike="noStrike">
                <a:solidFill>
                  <a:srgbClr val="000090"/>
                </a:solidFill>
                <a:latin typeface="Calibri"/>
              </a:rPr>
              <a:t>Dakar/Sene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hape 231"/>
          <p:cNvSpPr/>
          <p:nvPr/>
        </p:nvSpPr>
        <p:spPr>
          <a:xfrm>
            <a:off x="120600" y="1003320"/>
            <a:ext cx="886608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90"/>
                </a:solidFill>
                <a:latin typeface="Calibri"/>
              </a:rPr>
              <a:t>TCHAD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000090"/>
                </a:solidFill>
                <a:latin typeface="Calibri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2660760" y="2101680"/>
            <a:ext cx="632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11993"/>
                </a:solidFill>
                <a:latin typeface="Calibri"/>
                <a:ea typeface="Arial"/>
              </a:rPr>
              <a:t>Mr NGAKOUGNON MIN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200" spc="-1" strike="noStrike">
                <a:solidFill>
                  <a:srgbClr val="011993"/>
                </a:solidFill>
                <a:latin typeface="Calibri"/>
                <a:ea typeface="Arial"/>
              </a:rPr>
              <a:t>Chef de Division de la Climatolog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ctivités de burea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Elles consistent à 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llecter, contrôler, traiter, saisir et archiver les données en vue de constituer une banque de données 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fuser les informations et données météorologiques  et agrométéorologiques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ublier les bulletins décadaires et les annuaires ; 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2800" y="274320"/>
            <a:ext cx="84312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000" spc="-1" strike="noStrike">
                <a:solidFill>
                  <a:srgbClr val="000090"/>
                </a:solidFill>
                <a:latin typeface="Calibri"/>
              </a:rPr>
              <a:t>Le Personnel de l’ANAM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60360" y="792000"/>
            <a:ext cx="843120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NAM dispose d’un personnel qualifié composé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0 Ingénieur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6 Techniciens Supérieurs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7 Agents Techniques en Agro météorologi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 Conducteurs des travaux agricole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 Contractuel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 Décisionnaires ;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80 Observateurs bénévoles travaillant au niveau de différentes stations sur l’ensemble du territoire nation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s Observateurs bénéficient des primes d’encouragement du budget de l’Et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ontexte phys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58840" y="1009800"/>
            <a:ext cx="8638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domaine hydrographique  reste dominé par les cours d’eau et les lacs parmi lesquels le Chari et le Logone qui sont des cours d’eau permane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es deux cours d’eau forment le système Chari-Logone dont la superficie de leur bassin versant est de 600 000 km2 à la confluence à N’Djamé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 rang des lacs, le plus important est le Lac Tchad qui est une fraction résiduelle d’une vaste mer intérieure dont sa superficie varie de 25 000 km2 à moins de 7 000 à l’heure actue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Exigences nationales pour les observ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58840" y="600120"/>
            <a:ext cx="863892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s tran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ix des sites des nouveaux aéroport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mensionnement des routes, des barrages, des ponts et ouvrages hydrauliques en fonction des données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’électric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oix des sites pour la production d’énergie éolienne ou solaire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mplantation des lignes  de transport   en fonction de la vitesse de vent et de la fréquence des nuag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a san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ffusion d’avis d’alerte pour la population  sur la brume de poussière (asthme), sur les fortes chaleurs (cancer et méningite), les fortes humidités  (paludisme et choléra)et les temps orageux (troubles nerveux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0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Exigences nationales pour les observations (suite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58840" y="600120"/>
            <a:ext cx="8638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Dans le domaine de l’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urniture d’avis réguliers aux agriculteurs sur l’évolution probable du temps en fonction des donné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urniture d’avis sur le danger d’incidence de maladie de culture ou sur les possibilités de leur attaque par les insectes en fonction de l’évolution du temp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vision des récoltes par région en fonction des conditions météorologiques subies et du temps pour la fin des cultures 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évisions météorologiques à temps réel et des avis des phénomènes météorologiques dangereux (inondations et sécheres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variables observées les plus pertin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76440" y="1677960"/>
          <a:ext cx="8059680" cy="4714920"/>
        </p:xfrm>
        <a:graphic>
          <a:graphicData uri="http://schemas.openxmlformats.org/drawingml/2006/table">
            <a:tbl>
              <a:tblPr/>
              <a:tblGrid>
                <a:gridCol w="515880"/>
                <a:gridCol w="515880"/>
                <a:gridCol w="515880"/>
                <a:gridCol w="515880"/>
                <a:gridCol w="515880"/>
                <a:gridCol w="516240"/>
                <a:gridCol w="514080"/>
                <a:gridCol w="515880"/>
                <a:gridCol w="516240"/>
                <a:gridCol w="731520"/>
                <a:gridCol w="555840"/>
                <a:gridCol w="703080"/>
                <a:gridCol w="735120"/>
                <a:gridCol w="692280"/>
              </a:tblGrid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mu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216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36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1800"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4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Titre 1"/>
          <p:cNvSpPr/>
          <p:nvPr/>
        </p:nvSpPr>
        <p:spPr>
          <a:xfrm>
            <a:off x="231840" y="819000"/>
            <a:ext cx="85024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es variables sont la pluviométrie, la température, le vent et l’humidité et sont illustrées dans les tableaux ci-aprè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es températures maxim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9240" y="831960"/>
          <a:ext cx="8529480" cy="5527440"/>
        </p:xfrm>
        <a:graphic>
          <a:graphicData uri="http://schemas.openxmlformats.org/drawingml/2006/table">
            <a:tbl>
              <a:tblPr/>
              <a:tblGrid>
                <a:gridCol w="556920"/>
                <a:gridCol w="557280"/>
                <a:gridCol w="557280"/>
                <a:gridCol w="557280"/>
                <a:gridCol w="557280"/>
                <a:gridCol w="556920"/>
                <a:gridCol w="559080"/>
                <a:gridCol w="556920"/>
                <a:gridCol w="557280"/>
                <a:gridCol w="743040"/>
                <a:gridCol w="631800"/>
                <a:gridCol w="711360"/>
                <a:gridCol w="699840"/>
                <a:gridCol w="727200"/>
              </a:tblGrid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18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4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24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0080"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640" rIns="8640" tIns="864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640" marR="8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itre 1"/>
          <p:cNvSpPr/>
          <p:nvPr/>
        </p:nvSpPr>
        <p:spPr>
          <a:xfrm>
            <a:off x="439560" y="21924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L’humidité rel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39560" y="941400"/>
          <a:ext cx="8321760" cy="5008680"/>
        </p:xfrm>
        <a:graphic>
          <a:graphicData uri="http://schemas.openxmlformats.org/drawingml/2006/table">
            <a:tbl>
              <a:tblPr/>
              <a:tblGrid>
                <a:gridCol w="533520"/>
                <a:gridCol w="534960"/>
                <a:gridCol w="533520"/>
                <a:gridCol w="533520"/>
                <a:gridCol w="533160"/>
                <a:gridCol w="534960"/>
                <a:gridCol w="533520"/>
                <a:gridCol w="533520"/>
                <a:gridCol w="533160"/>
                <a:gridCol w="803520"/>
                <a:gridCol w="579240"/>
                <a:gridCol w="727200"/>
                <a:gridCol w="726840"/>
                <a:gridCol w="681120"/>
              </a:tblGrid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é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v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évri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ri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uil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oû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pt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cto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écem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yen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72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3360">
                <a:tc>
                  <a:txBody>
                    <a:bodyPr lIns="8280" rIns="8280" tIns="828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280" rIns="8280" tIns="828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8280" marR="8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Calibri"/>
              </a:rPr>
              <a:t>Example d’une liste de s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14520" y="1397160"/>
          <a:ext cx="7861320" cy="6237000"/>
        </p:xfrm>
        <a:graphic>
          <a:graphicData uri="http://schemas.openxmlformats.org/drawingml/2006/table">
            <a:tbl>
              <a:tblPr/>
              <a:tblGrid>
                <a:gridCol w="1122120"/>
                <a:gridCol w="1123920"/>
                <a:gridCol w="1122480"/>
                <a:gridCol w="1123920"/>
                <a:gridCol w="1122480"/>
                <a:gridCol w="1122120"/>
                <a:gridCol w="1124280"/>
              </a:tblGrid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at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ngitu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v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ion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fr-CH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ched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Y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,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,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4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ion temp,hum , hp, vent, évapo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’djamé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,hum,hp,pression, vent,insol,évapo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2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r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,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5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béché</a:t>
                      </a:r>
                      <a:fld id="{2848F13A-2A07-41AE-9F60-A7371D9F8D7D}" type="slidenum"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number&gt;</a:t>
                      </a:fld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0 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r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’une manière générale, L’ANAM vient d’être mi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n place  avec ses différentes structures, 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stimons  que son lancement va se dérouler 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anière  progressive  pour  assumer la mission  qui lui est fixé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90"/>
                </a:solidFill>
                <a:latin typeface="Calibri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ntexte physique du TCHA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xigences nationales pour les observ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82560" indent="-682560">
              <a:spcBef>
                <a:spcPts val="601"/>
              </a:spcBef>
              <a:buClr>
                <a:srgbClr val="000000"/>
              </a:buClr>
              <a:buFont typeface="Calibri"/>
              <a:buAutoNum type="romanU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ventaire des capacités d'observation nationales actuel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wmo2016_powerpoint_standard_v2.jpg"/>
          <p:cNvPicPr/>
          <p:nvPr/>
        </p:nvPicPr>
        <p:blipFill>
          <a:blip r:embed="rId1"/>
          <a:stretch/>
        </p:blipFill>
        <p:spPr>
          <a:xfrm>
            <a:off x="0" y="-54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Title 1"/>
          <p:cNvSpPr/>
          <p:nvPr/>
        </p:nvSpPr>
        <p:spPr>
          <a:xfrm>
            <a:off x="457200" y="2001960"/>
            <a:ext cx="8229600" cy="18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90"/>
                </a:solidFill>
                <a:latin typeface="Calibri"/>
              </a:rPr>
              <a:t>Merci de votre aimable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90"/>
                </a:solidFill>
                <a:latin typeface="Calibri"/>
              </a:rPr>
              <a:t>I.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ys enclavé, le Tchad couvre une superficie de 1.284.000 km² et est situé à la charnière de l’Afrique Saharienne, de l’Afrique Occidentale et de l’Afrique Centra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 population est d’environ 15 millions d’habitants à l’heure actuell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est limité au Nord par la Libye, au Sud par la République Centrafricaine, à l’Est par le Soudan et à l’Ouest par le Niger, le Nigeria et le Camerou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Espace réservé du contenu 3" descr=""/>
          <p:cNvPicPr/>
          <p:nvPr/>
        </p:nvPicPr>
        <p:blipFill>
          <a:blip r:embed="rId1"/>
          <a:stretch/>
        </p:blipFill>
        <p:spPr>
          <a:xfrm>
            <a:off x="2674800" y="189000"/>
            <a:ext cx="4594320" cy="64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90"/>
                </a:solidFill>
                <a:latin typeface="Calibri"/>
              </a:rPr>
              <a:t>Présentation de l’ANAM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Espace réservé du contenu 2"/>
          <p:cNvSpPr/>
          <p:nvPr/>
        </p:nvSpPr>
        <p:spPr>
          <a:xfrm>
            <a:off x="457200" y="860400"/>
            <a:ext cx="8229600" cy="58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gence Nationale de la Météorologie (ANAM) est l’émanation de la Direction Générale de la Météorologie Nationale, créée par Décret N°076/PR/PM/MACMN/2014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Direction Générale de la Météorologie Nationale (DGMN) est une structure technique composée d’une Direction d’Exploitation et des applications Météorologiques et une Direction de Maintenance des Réseaux Météorolog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a DGMN est un établissement public à caractère administratif dotée de la personnalité juridiqu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NAM est créée par la loi N°035/PR/2015 et est placée sous la tutelle du Ministère de l’Aviation Civile et de la Météorologi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90"/>
                </a:solidFill>
                <a:latin typeface="Calibri"/>
              </a:rPr>
              <a:t>Mandat de l’AN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457200" y="750960"/>
            <a:ext cx="8229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Agence Nationale de la Météorologie a pour mission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Concevoir et mettre en œuvre la politique du Gouvernement en matière de la Météorologi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Assurer la veille Météorologique sur l’évolution du clima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Mettre à la disposition des usagers publics et privés les données météorologiques et climatiqu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ettre en œuvre les Conventions et les Protocoles sur les Changements Climat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’ A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ficultés/Contrai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our assumer sa mission, l’ANAM rencontre d’énormes difficultés d’ordre technique et financi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s difficultés d’ordre technique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Insuffisance de personnel qualifi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Structure d’observation en état d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délabrement avancé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Faible densité du réseau d’observation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Manque des moyens roulants et matériel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pour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missions de terrains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 Les difficultés d’ordre financie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960" indent="-22896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Manque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isponibilité financiè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SEAU D’OBSRVATION : l’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N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730080" y="103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ploite 17 stations synoptiques avec l’ASECN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8 stations climatologiques dont 2 seulement fonctionnent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28 stations agro météorologiques dont 5 fonctionnent partiellement et 23 non fonctionne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ère 203 postes pluviométriques dont 95 fonctionnell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54 stations hydrologiques dont 14 fonctionnelles gérées par la D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Les activités de l’AN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lles sont de deux ordr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ivités de bureau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ctivités de ter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31T14:56:00Z</dcterms:created>
  <dc:creator>Timo Proescholdt</dc:creator>
  <dc:description/>
  <dc:language>en-US</dc:language>
  <cp:lastModifiedBy>hp</cp:lastModifiedBy>
  <dcterms:modified xsi:type="dcterms:W3CDTF">2019-04-09T09:50:26Z</dcterms:modified>
  <cp:revision>118</cp:revision>
  <dc:subject/>
  <dc:title>PowerPoint Presentation</dc:title>
</cp:coreProperties>
</file>