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A52A-F24B-4F2C-B8E3-4B9717665A3C}"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6278-522D-46EC-AEDD-F4211C10C8B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EA79-B562-4977-AB54-748741139A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CF43-88A4-4F23-810E-859C08C28C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6422-AEE2-42FB-906E-3EB108EB36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E943-CB90-409E-897C-FF567CBDE2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333E-4ED8-4CD1-8630-FA21028607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4835-FD45-4179-B387-68D3DE01B8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A1F0-E2D3-4A2A-B450-8CABE592B5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3412-42E4-4FB1-904E-2B4D190080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35AF-052C-45B9-AEB7-A01754179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7448-D0D1-416D-A8F5-81AC35E03B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F589-1A83-43C8-81D1-C6768901D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96D3-C68F-4818-871D-A36342CF2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091F-490D-4614-8DD1-611558C518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A7B3-F823-42FE-BCBA-6A33667179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6B0C-762B-4945-A636-84B9EAFA8DF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4DA0-E4AA-4ADE-9AE6-5714C64AA9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DB00-FE21-4E9B-B46E-49AE42C83F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A2D92-4317-49A8-911D-7C4009AC0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5EC40-0132-4C97-AEB3-0484DF05D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652BBA-0D08-4655-A6CF-4D6896C8B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86FE3E-748A-444D-B15A-3F2FBCC142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F0244-E809-4E21-A5BD-3448DDF239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D60AB-495A-4E60-BF2C-43DD0579A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3B803-8DC6-49ED-8B1D-C4B727029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05A6A-C623-4EA4-A8D5-31766B491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6D34AC-13ED-4F69-A3CE-37DA79E8F6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07B654-891A-4A27-AC36-23FB14D784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0B4405-E13D-40E4-91D9-3946C8DA7E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1D47A5-0713-45E0-926E-738304E680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93B77-FF9C-4ACD-A0CE-F3EE4200C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231928-5DC4-4355-BEBF-CD7BEED87E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96AC17-2D7F-4705-A24F-4CD6D6A3EA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C39DB5-E560-4832-8DE8-02E5BED5CB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AA817C-C8C7-4B89-B8C3-D3A1AD2388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B62AB3-487F-4AB0-936F-711344DE7A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821769-7397-43A2-A74F-120AFF13F8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E35635-D8E9-4586-AE89-872001F0C1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D90BF6-BB0F-48F0-A3DC-E088686AF8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8EABA2-B851-4D33-A58D-6F96EA58FB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391BF8-2214-4A48-81EC-AD6B3774F6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28116-4C06-45AE-87DB-67281B1ED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823E2F-B9D4-4BD5-B4B5-C7E3A145E3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BAD88F-1199-4D19-9B5D-5D10E59610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D375C8-039D-4F8F-9795-0F1131296D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D8E4DE-1E17-491B-8428-3CD86F92D2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F69149-5D5F-42AD-A7D4-FFB9586738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38909-417B-47C5-9C61-44E07E4349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85B6F8-F8FC-4896-A0A7-B4D54DC08F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A04AFD-41B9-4E98-8F5C-4253F4E83D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9E2BBB-7FC2-4551-87B9-E72E4EAB83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25FD56-61F7-4D2E-9A6E-A2688F6224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C2C0D-B123-47F6-901C-A6666191D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561AD-FA61-4AA0-989B-97DC006912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FA2150-997C-4845-A4CE-A3BADF711E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5F312A-36DD-48FD-8EE2-3991AB0056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56D8B5-A549-45CC-AEEE-9F0A2014B6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40B24F-74EE-4EDA-AC10-4E0E069A5A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587259-92BD-44B5-8D16-781D5E1318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86A168-37DD-4BA5-BB71-17B9703E57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1645FC-09E7-4CE2-A6F8-9D6E3B6A48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A02C8B-2F37-4D55-9129-0660E8E3F4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647621-5954-4007-B215-F8E7D58502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7FEEF-B44A-4565-9208-8B2D339F4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65A8AD-387B-47D6-B7D8-AEAA69BCCA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E2BAED-AB0F-4DA4-BCED-0D150F9AFD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07AB55-DBF5-47A1-AFB0-BBEFCEC929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5065B8-0834-46E0-BCF6-E7BC5B2EBE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A7B698-E2E9-44F0-B669-18703F88B4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02738F-9231-48FE-AA73-9B714E414E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A577E0-64C3-42B2-AA34-256E3B435A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5CDC51-C628-417F-ACA2-C90EB9FE12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C30835-2055-4CFF-81B3-9826F1AF7B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5683AD-E485-4917-946C-8AB12F43B2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1DF59-13B8-470B-810B-B44030918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BE5CBD-7E77-4B2C-814C-8D9EB05A59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34643-9C6F-4BBA-BD8B-F17705D858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66CAF8-26A8-46E3-A865-89CE5E83AE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417A6D-DCAD-455D-8657-176FD9EA11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3CB518-F04D-463F-AD90-83085E5CA0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47CD1D-7030-4894-90C7-41D37F1316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4557AD-A420-47FE-BD6A-72538B9EDF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9244A9-1148-4308-BE7F-26E145285F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D868E0-8023-47D5-AB1A-B62DFCB069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D5DF96-65C3-43D4-A714-C8E3F7030E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AB009-8263-42E4-AC8B-13AD53B45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942D83-C436-4675-9FBB-ADB371D1DB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FC9DB4-B332-4845-AA02-3148CFA010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1F16D4-F575-4FBC-B46B-04D82C398F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FFC2CB-FB87-4EB5-89CE-FDE2E52336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CE614D-42F6-4214-8D96-BB5ECF96C3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23D40A-6CB5-40CC-87BF-BEA8502D2A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E1FA44-EE44-44C0-8F35-AC33EFB70B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434E3D0-9FA5-48A8-878C-4559631733F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9AD7AC6-0B00-4117-A95C-F140A62734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3193E-B408-4267-B30D-FBF00BF72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F626-0ED7-4715-827A-87B3345B1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B6BF4D-757E-44C4-93B9-F23DE50E8C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F2C3DA-5F8E-40D7-A6E0-3CFC4AABCA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156D0D-9AAF-46CB-AA95-7FFF4C7712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CE8571-AADA-4BD4-857D-936A3464A7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E09433-CF9E-468B-B5E9-4086D1D432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3EA427-A19F-49F6-AD84-7904B129BF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C9939C-AF8E-42F9-BB68-719E445F6E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66DEE7-709B-4B6F-882B-1B4502C1B8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BE9FD5-4127-4C0F-8ED6-D293C036C3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8091D-9FE8-402D-B975-BDE6EDB4E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F9F344-C9E8-4294-BE01-DF84ACFA8F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FA0F82-6233-45C1-87E9-40E4110556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6A0F217-9611-403D-95F6-B98601BA68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04ECF6-17C6-47BF-A806-45C846696AF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C472AC-42C7-4A3D-9B5F-2CCED5615B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5FAE44-9C22-4DCD-B180-15A7F3A6CB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997BDE-45F0-4E4C-A040-C9D04E8777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24F2FA2-00D3-4BD8-8BFB-6606043630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739602-C2FB-4BF3-AEF1-DE720DD2D8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7D91F7-4B88-453A-AB89-5003A2EB39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963C-4F4C-4EAD-9B35-422843DD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678ED-9554-4E40-BB77-3F6EC86CD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3533EB-82C5-4CA1-A818-DAAE29B081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54125F-46EA-4194-B674-29F0D25E3F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751471-FB39-4959-8487-456220DA47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F664C45-CE02-4970-B73B-E8637B95D2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5611880-EF2F-431C-971A-97909451B22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54F7632-30A4-41E3-8485-ED636AD769F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0AC02A1-E367-4495-9377-D9B605DB136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6A6196-F374-49CF-9544-8BF5D33360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F63C87-2609-4773-A95D-1072898E59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056151-5383-4003-8065-04E46A0C30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31CA9-CB14-4EC4-88B9-8B754E0E8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D5AA28D-072A-4831-A7E3-CEE44EDC59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E4F6C7-3D6C-4354-8FA5-DBD7B123FF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E37A5D-43BE-4379-88CF-51EF9408B2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F6B713-4518-402A-AD70-B8BDF0C42B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61DD21-47A3-4E9E-95D0-914782A5AFE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BC17711-B283-46A7-921E-DB5D951DDDE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49B25F4-5B06-43CB-A90C-B82B4E33C2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189C266-9405-4C4C-96BC-53997B8164D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4B7856-0172-484F-BA11-35F3851C4A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D8A2101-F3B3-457C-9915-1CAEE7C6307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A341B-FA0C-499B-904E-37FAE23A8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925D6B-A1C7-4E86-B35B-0E2C138ABC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F281ED6-630B-4ADA-8E1D-78A181D26EC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846519-3D7E-4417-8199-5316FA9E077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347C39-B989-40A7-8B3E-4A3CAE531D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3904E7-6E55-4F80-8D11-B8BB67EE3A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FDE193-F139-452C-B072-B2F426097C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AAA8F1-F1CD-4F73-A3B9-16BDF84170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31415AD-0DD5-4206-BCCA-8C70CA245F8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2C5D01E-6074-4FBF-B5F0-03F2EDE3ABD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B28156-1752-4384-828B-43EE6A5C047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7BB93-2745-4BFA-B946-0FE5A9CC3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28A3D3-F08A-4E9D-B74C-4E18F816B1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93D5BA-3314-40EF-B96A-1E1531F7784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8806F5-12EF-4970-9D11-8D67F11853C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EF52CF-0F27-4E73-A2CD-37A7548588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704348-A327-4C39-A014-24AA42950E2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CB25E4-7164-4DBE-A59F-9992D177E46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0AF90A-FE3D-48AD-A17A-1EC9A1E1E0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97C1CFD-94EB-4558-AB62-F15BF6660C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72222F0-70F6-4CF5-BDCD-A5F7CDDA597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3A3C5F2-550B-4961-9878-FA0CD363E0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DFC14-42CC-45AF-BCF5-EEA67090F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773067-8A9B-4B35-80C8-E04E9C43AD7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4F2DB2D-CB10-4DB2-BDCD-110246AD34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D460D44-E3A8-466F-B720-21661581785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6E3FA4-EA1F-4EEC-B860-51ADB24C5F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7095051-B66F-4BEC-BFDD-DAABADC63A9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7B9D67E-ACB2-42D6-AD9E-D32F99ABFB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F79923-282A-43BA-B7F1-6DC8ED8630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0D9ED6-7184-4021-BA09-5073BF73417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B799DA-50EE-4B83-93B8-53518D73E2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BB273A-DF15-4AD7-9A0C-F957856BEB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D62FB4-01AE-40C8-8FD6-32963EBCB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39E9652-13FA-4FDA-8B1A-2EBA97942D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A391266-3FD1-455B-B26F-85CCE691B96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334DAE4-4F03-4605-8B7A-4FF9F839DC6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54DC59C-37A1-495B-B709-10B675A73B4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1ED27D2-CB91-473B-9C92-1D4BE8A3C5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2FEA705-7072-4EE7-87D8-203F6D8593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9A6F3C-DAD5-49DC-B02C-AEC3555CEE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A947060-8EB4-44F9-A016-E235276F6BD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10A172-BFE1-440C-A0AA-FC5DE003C81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F355CE6-5BA8-4384-896E-18B654D111E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CBBB9-FC0A-4102-A8B1-677583824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7CB8D7-9F29-4D3B-86ED-661E9B807D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198791F-FAE1-4B85-A95C-36FC15C143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A3E183-FAE2-4DCF-A0D0-54D6F3B42D2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6DB094B-4942-44F5-A7F1-7BDA7E247EF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577DB01-E5BD-4107-9EAE-95C3BB01334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621FA2D-D308-4EAA-BFFF-339F5736D63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D076557-ECAF-48B9-A4FF-2CD42DE8F1A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EEE5A8E-CFF2-4E1A-828F-216F1A67E46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EA7BC8-CEF0-4906-AC58-3F386F9E1D7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5C58F4-53C4-4413-BA01-6F0003F3AD3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84697-14E3-4070-AFD0-EDF02C7C7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4FA1993-C12E-4445-89ED-901EE8F68DD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37AB24-F778-4FBA-A54F-348652AD4C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21D0C3-F85D-416C-ACC3-6787BFF268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04CB30-6C7F-4656-84ED-A3FA4ADDA34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073C689-2AED-40D6-AB03-50F3DAC19B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8F7240B-8948-4014-A1A8-56BAFD2D4BC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737ED26-13FF-450C-B760-53DFB9E3A21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1C71EBA-2E6F-43D6-B8DA-ABF2B243098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A1301E-3063-4C28-B2F9-B62FA6B01E4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0669033-CF6B-477C-A39A-914A327A20E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C060A-6513-4735-BF33-23D3608C9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BDB31F3-5DF1-46E0-B8A7-F5B36E67028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F04DE6B-C499-477B-94D3-2DAA638144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C10BE47-72E5-4F62-88F7-2F923C4ADC4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803B843-453F-4BCE-BEF4-2F20B4F2AC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6A680E-3682-4203-AD44-31E406446C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235667-F6D7-4B18-9F5E-560351F18E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A7FCB29-6A9F-4DC7-AAD0-E8F00AB566C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744C891-F275-4979-A5B2-01C63BE46A0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33F3940-3B7C-4EAC-AE18-ABB3B7EBC08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B893409-6D98-4CAB-BDCA-8D32B1A8285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D34D1-CD42-4602-89EF-ABF290D50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35DA2F2-0E35-49F0-ABB6-D1AA07A53C4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4B3E76-B684-4C19-83AC-3AD8DBB7C06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2FF7467-E523-4F0E-9B67-1F2D83DB2F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08ADA93-C5AE-4D4F-81D3-C1F48E40DA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62AE785-1100-444C-A515-3A2934F36D7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2F1F954-89B6-4571-9C6E-2A4FAF4DD09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114804F-17A9-40FE-8E94-020B9666A8A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5D5B016-FF93-41DB-85C1-0C3E08EC852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22637B-7D6A-4C6C-87DD-D6FE3469CDC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524BB00-442E-4E13-81A3-724AA6B13A7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3A69-5126-4762-AAD3-4481DCD7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D79C1-3BDE-4F8E-B922-7ED35A2F4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D1E9A44-7802-41E3-8395-F6C27B2F5E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FDA6C5A-FB0C-4DAF-9C40-A475E4EEF81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ACE8CEA-EFEE-4DB2-8EEE-5E344D2B83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93522E-609A-4059-BD29-AF4DEF6F18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433C22E-E3B7-45BB-9C63-A8C1217055D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7CE9332-B03B-40BE-AF84-D78AA975C0E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0475F46-3E46-4377-B430-D6A607E1F31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1A4431-008D-4471-8C48-81E3CB87F29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BA08F3-9237-477F-BF91-C3076F588CC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0C15A9B-8928-4F63-877A-5EA1812EB36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E30BF-DA59-43A2-8C0A-E854C4596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8891A1D-BA69-4CC0-8AA2-9FCEE6FB86A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71C8F54-ACA8-4999-9791-21C532138EE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4F06518-0C61-4818-A2C7-0D264611662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AA6E7-7869-4958-95D3-7E2ABDDE3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2532D-6187-4040-B332-921100FC7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2EED4-58F6-4AD8-BC61-CC8F13CAB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F46CEE-6E60-4AD5-BDCA-DBC87D1E5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1CB1B-A5BA-420F-9865-BA70CBE3C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07A3F8-D620-42BF-B94F-BC4F7896B0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E4A7C-C244-4FD6-AD09-11C01F119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3FCF9-9434-4084-A158-65EC6FE20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03D5-7254-40D4-A863-F37506AC8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0D652-2846-4F4A-88C2-89C8734D8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AF965-E7AD-4BC1-A1CA-61E49B0C1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678D8-6463-498C-A0F0-76ABCE0E4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9B897-C7CA-4276-A86A-D3B059C13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38F73-8576-46FB-9450-EEFE64E66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328FF-2C47-49A0-BD46-131CB4D0D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D66BB-ED71-4526-9461-6C8BBFE444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747CB8-CC1A-4152-AE4E-B0D70CCAB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C07E24-5224-41CB-9031-9DC80300CA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502234-B4E8-43ED-A075-AC3A2EE352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144C-3238-4BF3-B9DD-2092A671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89C5F-9878-42F3-AA44-BD66EC0FB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4B4B6-5F05-40BB-A757-BFB123A71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5BFCD-5D1E-4CBD-9E35-F349DEA30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AB384-D7EA-4906-BAF7-3C0B31722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80DFF-1AB2-4354-9B72-2C18C23D2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1B945-09B3-404B-8417-4D5E52830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85A13-1F73-435E-8FE2-609909F5A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8A9DF-A6F3-4FC9-AF4A-C28D13F8E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6707E-F5BA-4389-9CB5-6E58DFFA9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EF0D26-7A59-45D9-A5B5-F53F63266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FBD1-241B-411C-AC2C-A8B665DF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1E4E61-2CC0-42F9-90FD-2667BB2882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A7DE8-6B9F-428B-BA7A-0B8D90D4ED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5F6E4-1AF8-40F1-8D05-3501A37D4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092B5-C857-4394-B977-445B8C122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63DBED-8A53-450F-B46A-E632050BCE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4FB8A-0C94-4AF8-AFED-2A5AD7CD7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C3E53-137E-4E6B-AD72-9CBF9C83E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46208-B956-4377-9800-C8A3F36EF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E135C-0376-4002-92D0-5A7DB357E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877B9-0AAC-4DEF-91AE-6EDB65B58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ECBA-8B0C-4FDA-9B88-26EC93E0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4598DA-3018-45E1-BFDF-7DB4EF174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8C6CE-11B6-4DDE-9112-D41073174F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E0CE61-BFC9-4ED1-A2F5-E34A8348F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EB07E8-155D-40BA-8679-EE91B8D3C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52C2B-165B-4323-8F4D-D7F2B9212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5713D-409C-4BEE-AEB3-17997C036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29746-A9B9-404E-A732-823E38F5B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D6E2A6-13C3-4579-AC72-90E4B0772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4EF73-E9BF-495C-B085-F5652A252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90FB3-E019-4A32-89F6-CAA21B598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3583-C704-4AD5-BAD4-2F4634C00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F66C6-FB4A-4B26-BA61-9370D2998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CE874-5A00-4372-8DE9-255AB5C7F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4563C-4887-4E53-9B94-5D5E57EA9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369C23-9E15-4AA8-BBF7-C3CA728AFF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DB2C4-EE61-45D3-AF6B-DB41130FB7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73605A-514B-45D3-88A2-ABCD603F71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BBF00-BDDE-4CF0-82AE-7056CD9E7F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2DC37-2088-49AC-BF21-2BDD5D3CA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56B9B-4AD5-4C05-AB36-735FB3FD9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CB065-83F0-40C8-97D6-E50F3C481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0658-20D5-4C4C-A2BF-90FAB6B8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ECCFD-B4B6-404D-8A5C-5AE36BA220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0505B-ABC5-4C6A-BA7C-AF5271F18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6CD76-FD5F-49F9-90AE-8ED0C3722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E5B06-B645-4D2B-A157-3188F1D5F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0A819-9B09-4E73-9C6B-014F35857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D9E8A5-CA86-4E3D-A2A9-5D2745D82F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E8B427-5C36-45DC-8FA7-6095072E8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E22E80-78B7-4859-B3EF-FB9843A9B6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732A1-593B-40DC-BB62-13BC0E36D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B5888-1EC3-4041-88ED-E0C794EC99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E46F-DA2B-44FD-8A61-AC278AF6B4A3}"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A09D-4343-4181-AC80-D9A7F5D35CE6}"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CE19-6EF8-4CD1-A02F-E3B6BCDF6232}"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AFD5-3801-497F-A228-1B49029D7FB9}"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A985-E70E-4C19-AA0B-22763D446412}"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B938-B5E7-47EE-85DA-06BB5AC573D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7F4C-09D6-4D18-9058-26E9F8DDA710}"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484F-AD4B-45E3-AAD2-C490B2DCF70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37D0-CD8C-44BE-8415-35271F86B9DD}"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06C6-E813-4687-8DE1-02FB575BBDE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0339-F272-4DF7-8295-76687DBC27FD}"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222A-D77F-44D0-A8AD-5246803D9FC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F0C3-B368-4B1C-A176-1B328A1FA655}"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91AB-E272-4647-BCC8-DE6464138FE1}"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003C-6933-42E0-A1E8-1A54BE8BEA06}"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F43A-5EE3-4404-A794-B755929D4FB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CAE0-C1EB-4E41-871C-E266395A2FBC}"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7CFE-DEC8-4F32-8920-EAAE9F05C144}"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74BD-544D-4AC8-9686-47B59DD8561D}"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F336-EE15-4D52-9FAD-8CCBC973A932}"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CD5C-3B97-4BDF-B108-291770C3C6E2}"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BD56-B1B4-4066-AAC1-C13C0DF1E490}"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6514-92F2-450B-B923-414A76FC5950}"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4324-B530-4781-A69C-E0F1A19B6DB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C7D5-027E-4737-AF71-A3E9FE833D9E}"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F720-B119-4E12-9AB6-55E20D22EA2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942D-DABB-4193-880F-B6033DFD9747}"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A3D9-B71F-4929-8474-8E6AE172F54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EBF0-D531-4C79-A078-E0CADB676A37}"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8175-3C53-4B0B-8285-359A491477B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10B2-C7BA-4DCD-8795-6ABD021C077A}"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F90F-AC1E-4B55-BD2F-247397EDAB0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D05F-FAAB-47F5-BF68-AFA897006A05}"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4B50-BAF2-4A56-98D0-E76F8F42562C}"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E2D0-FD4C-4B15-9306-C713EF18FD4D}" type="datetime">
              <a:rPr b="0" lang="tr-TR" sz="1200" spc="-1" strike="noStrike">
                <a:solidFill>
                  <a:srgbClr val="898989"/>
                </a:solidFill>
                <a:latin typeface="Calibri"/>
                <a:ea typeface="Arial"/>
              </a:rPr>
              <a:t>31.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3C54-8EBD-4404-B7BF-6EC3833DFE7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DD9E-22DC-4E18-9AE1-6F1E122EA6C2}"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719A-5990-45C2-A485-93E6ABA79F0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DBDE-C027-43C4-B8AB-9A83752331E4}"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70D3-C9B8-48A6-8EEC-73EC34A1F51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FD12-9475-4455-8F43-52C427FC33D8}"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4670-B99D-4CE2-8031-89C8BB9684C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0EA1-3095-48C1-991E-43A2FDB47993}"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E127-B849-426F-B94C-F7FFE7F6A68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ABDF-2005-4680-A16B-0B79983BC83B}"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BBEF-2CB9-43D8-A484-46E7470B1900}"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AF31-C790-47CB-8AE5-AB7357D643BD}"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C176-62EB-48D5-9E64-C36CC157711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6247-C830-46CD-A1B5-E1C3F2DA06E7}" type="datetime">
              <a:rPr b="0" lang="tr-TR" sz="1200" spc="-1" strike="noStrike">
                <a:solidFill>
                  <a:srgbClr val="898989"/>
                </a:solidFill>
                <a:latin typeface="Times New Roman"/>
                <a:ea typeface="Arial"/>
              </a:rPr>
              <a:t>31.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57C7-5CD0-41C9-9391-CFD8FF9CE12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2ACA-2323-4848-861A-C0CE845F5A33}"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D82A-0EB0-4BA8-93C2-E39DD85CADB2}"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B9D0-ED5A-4F12-BA94-5D3F4ED55227}"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CB22-0336-4F4C-9B6C-BDA30FD4F311}"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A1F6-1D82-4338-AA7E-D52AD8E54A6D}"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27D1-1BF3-455E-8D4A-ED5BBD6D6CB6}"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934D-CBFC-47E7-8256-E339ADCD09C4}"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1E5F-7103-4EE7-9917-B6C27589ADA2}"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