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7.jpeg" ContentType="image/jpeg"/>
  <Override PartName="/ppt/media/image25.jpeg" ContentType="image/jpeg"/>
  <Override PartName="/ppt/media/image32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28.jpeg" ContentType="image/jpeg"/>
  <Override PartName="/ppt/media/image18.png" ContentType="image/png"/>
  <Override PartName="/ppt/media/image11.png" ContentType="image/png"/>
  <Override PartName="/ppt/media/image19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8.png" ContentType="image/png"/>
  <Override PartName="/ppt/media/image14.jpeg" ContentType="image/jpeg"/>
  <Override PartName="/ppt/media/image9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36.png" ContentType="image/png"/>
  <Override PartName="/ppt/media/image6.png" ContentType="image/png"/>
  <Override PartName="/ppt/media/image29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907588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735600" cy="97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145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714240" y="735120"/>
            <a:ext cx="5307120" cy="3674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930708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14560" y="930708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D396F-3AA7-4F02-83A9-B6328D06D5D5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714240" y="735120"/>
            <a:ext cx="5307120" cy="36748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1" name="3 Slayt Numarası Yer Tutucusu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640A8-B322-4263-AEA4-F53A4419E64F}" type="slidenum">
              <a:rPr b="0" lang="tr-T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AEAA-6283-4FAF-B9EA-FF89FB5E8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0AF1-84BA-405D-8A7D-1E5CEFA9A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A3D7-C17F-4D0D-BE47-C9C5991B8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6985-99AA-4765-B773-7F786D2E3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72B4E-A474-4339-8C3A-0102A79EB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C39E3-9C64-496B-B4DA-E8F46C125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D29D9-20CE-4CF1-B7A2-B6A53FD30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87644-A2D6-4F1E-B36D-9A79F9814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72279-F0B3-4630-ABA9-E3E9B05E2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28283-377E-44C5-967B-6DF405B57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219AD-3070-4657-86D0-9C2C3AA5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01B6-7049-423E-8E06-055E781C0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F15B1-BA66-420D-B1B6-1F7323AF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30171-1CD5-40A8-8E4A-CA019CEA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1D07C-63D5-4F05-B9E2-0B8088AB8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F6C58-4105-4ED5-AA4D-4A6761A0E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95475-DF8D-48C7-8B69-20D69413B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76A91-2300-49F6-8D2D-62AF55AA2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F3D88-2B8C-44E9-A821-54C16CECC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DAF30-14B8-4BA5-AAE9-57C187BF9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17EE1-41D5-4A07-8534-C3AFEF6B3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16B16-58EB-4D2C-A5FD-117E7329B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7B55-E3DD-4E32-BBFF-EC7092C3A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EDAB9-3C90-4682-90D0-0DD015CC3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60993-A660-442B-A1A1-550CEB30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319E1-CB62-4C38-BD8F-AD74F4F6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BF76F-5D86-4435-B102-38283884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66480-753E-4177-9DCB-EB2B5A78C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B155A-EA23-4325-9FE9-594A8A327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8B957-95A0-4867-98BC-CF6B46747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8B2A5-76FE-4ED8-AE55-609A90EE3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7D7A5-DFE3-4F4E-9221-2C7A4F811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5D9D3-F699-4A8A-B8E1-A711050FA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5DEA-B888-49B4-AE8C-68E7945A1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4902C-B8E7-4A01-8B0F-8DBA392B9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CBE4D-FDCB-4AFD-85B9-34B79FE40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CD96C-6678-49A9-AF8C-7DDF63414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0EFF4-3010-47A9-84DC-2DFA125C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9B07D-BEBA-4F3E-95A5-1932AC91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E60E8-821D-4726-AD3C-901F5118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87F20-19BC-40A7-955A-B64160C12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7FA8D-D3BD-4A3E-B5D1-16B4D0BDD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670A8-FE3D-4CF9-939A-B3416861E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65E0-8020-4421-A140-644F4824D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636D-E3DA-4B6B-BC36-652D52E88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F2E9-7A3E-44B8-AF52-B10AA0D6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8831-AB43-4399-ABE8-42A39E4E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0206-5EA0-47A4-B11A-CC820E8C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F569A-9569-4C18-8A30-AE93CA89530B}" type="slidenum">
              <a:rPr b="0" lang="ko-K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49C67-E997-4D96-AB65-41DF589B9FF1}" type="slidenum">
              <a:rPr b="0" lang="ko-K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215F7-5640-40EF-A0C4-B1C111068118}" type="slidenum">
              <a:rPr b="0" lang="ko-K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75AE6-50B1-43CF-997D-30799E3B7EDE}" type="slidenum">
              <a:rPr b="0" lang="ko-K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11 Dikdörtgen"/>
          <p:cNvSpPr/>
          <p:nvPr/>
        </p:nvSpPr>
        <p:spPr>
          <a:xfrm>
            <a:off x="598320" y="2679840"/>
            <a:ext cx="9712440" cy="31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0" y="0"/>
            <a:ext cx="990612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6 Slayt Numarası Yer Tutucusu"/>
          <p:cNvSpPr/>
          <p:nvPr/>
        </p:nvSpPr>
        <p:spPr>
          <a:xfrm>
            <a:off x="9164520" y="6492960"/>
            <a:ext cx="663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2C5F5-0780-459C-B7DD-CC42CB0D9B49}" type="slidenum">
              <a:rPr b="1" lang="tr-TR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r>
              <a:rPr b="1" lang="tr-TR" sz="1200" spc="-1" strike="noStrike">
                <a:solidFill>
                  <a:srgbClr val="7f7f7f"/>
                </a:solidFill>
                <a:latin typeface="Arial"/>
              </a:rPr>
              <a:t>/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Image 13" descr="bas de page.jpg"/>
          <p:cNvPicPr/>
          <p:nvPr/>
        </p:nvPicPr>
        <p:blipFill>
          <a:blip r:embed="rId1"/>
          <a:stretch/>
        </p:blipFill>
        <p:spPr>
          <a:xfrm>
            <a:off x="0" y="5857920"/>
            <a:ext cx="9826560" cy="10000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wmo"/>
          <p:cNvPicPr/>
          <p:nvPr/>
        </p:nvPicPr>
        <p:blipFill>
          <a:blip r:embed="rId2"/>
          <a:stretch/>
        </p:blipFill>
        <p:spPr>
          <a:xfrm>
            <a:off x="8899560" y="0"/>
            <a:ext cx="901800" cy="871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76" name="Rectangle 10"/>
          <p:cNvSpPr/>
          <p:nvPr/>
        </p:nvSpPr>
        <p:spPr>
          <a:xfrm>
            <a:off x="5110200" y="5932440"/>
            <a:ext cx="460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Calibri"/>
              </a:rPr>
              <a:t>presented by </a:t>
            </a:r>
            <a:r>
              <a:rPr b="1" lang="fr-FR" sz="2000" spc="-1" strike="noStrike">
                <a:solidFill>
                  <a:srgbClr val="ff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Calibri"/>
              </a:rPr>
              <a:t>PHILIPPE RICH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5"/>
          <p:cNvSpPr/>
          <p:nvPr/>
        </p:nvSpPr>
        <p:spPr>
          <a:xfrm>
            <a:off x="271440" y="2133720"/>
            <a:ext cx="928368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  <a:ea typeface="Arial Unicode MS"/>
              </a:rPr>
              <a:t>Department of National Meteor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  <a:ea typeface="Arial Unicode MS"/>
              </a:rPr>
              <a:t>Yaoundé-Camer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3"/>
          <a:stretch/>
        </p:blipFill>
        <p:spPr>
          <a:xfrm>
            <a:off x="200160" y="216000"/>
            <a:ext cx="69840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제목 17" descr=""/>
          <p:cNvPicPr/>
          <p:nvPr/>
        </p:nvPicPr>
        <p:blipFill>
          <a:blip r:embed="rId1"/>
          <a:stretch/>
        </p:blipFill>
        <p:spPr>
          <a:xfrm>
            <a:off x="6480" y="85680"/>
            <a:ext cx="9856800" cy="74304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356"/>
          <p:cNvSpPr/>
          <p:nvPr/>
        </p:nvSpPr>
        <p:spPr>
          <a:xfrm>
            <a:off x="166680" y="1276200"/>
            <a:ext cx="4734000" cy="537552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56"/>
          <p:cNvSpPr/>
          <p:nvPr/>
        </p:nvSpPr>
        <p:spPr>
          <a:xfrm>
            <a:off x="5005440" y="1276200"/>
            <a:ext cx="4728960" cy="200340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한쪽 모서리는 잘리고 다른 쪽 모서리는 둥근 사각형 6"/>
          <p:cNvSpPr/>
          <p:nvPr/>
        </p:nvSpPr>
        <p:spPr>
          <a:xfrm>
            <a:off x="16668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1) Upper Air Observation St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한쪽 모서리는 잘리고 다른 쪽 모서리는 둥근 사각형 9"/>
          <p:cNvSpPr/>
          <p:nvPr/>
        </p:nvSpPr>
        <p:spPr>
          <a:xfrm>
            <a:off x="500544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2) Problems &amp; Improvement Di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198360" y="1789200"/>
          <a:ext cx="4668840" cy="1603440"/>
        </p:xfrm>
        <a:graphic>
          <a:graphicData uri="http://schemas.openxmlformats.org/drawingml/2006/table">
            <a:tbl>
              <a:tblPr/>
              <a:tblGrid>
                <a:gridCol w="925560"/>
                <a:gridCol w="906480"/>
                <a:gridCol w="2836800"/>
              </a:tblGrid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 of  st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mark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ual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ECNA (Radiosonde: Degrieea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819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aoun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osonde (HT03G-1U GPS, China)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Upper air observation is under consideration; DMN has transferred equipment to ASECNA due to lack of observation personne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gaounde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bal(ASECNA/CCAA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1" name="TextBox 8"/>
          <p:cNvSpPr/>
          <p:nvPr/>
        </p:nvSpPr>
        <p:spPr>
          <a:xfrm>
            <a:off x="166680" y="1425600"/>
            <a:ext cx="4734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ⓐ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Upper Air Observation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10"/>
          <p:cNvSpPr/>
          <p:nvPr/>
        </p:nvSpPr>
        <p:spPr>
          <a:xfrm>
            <a:off x="166680" y="3416400"/>
            <a:ext cx="4734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Upper Air Observation Eleme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201600" y="3770280"/>
          <a:ext cx="4664160" cy="1285920"/>
        </p:xfrm>
        <a:graphic>
          <a:graphicData uri="http://schemas.openxmlformats.org/drawingml/2006/table">
            <a:tbl>
              <a:tblPr/>
              <a:tblGrid>
                <a:gridCol w="927000"/>
                <a:gridCol w="935280"/>
                <a:gridCol w="933480"/>
                <a:gridCol w="1081080"/>
                <a:gridCol w="787320"/>
              </a:tblGrid>
              <a:tr h="4208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Type of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observ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Observatio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elem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Observatio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Peri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Data collection 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cyc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Meth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5760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Radioson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T, H, P, GP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WS, W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 time/d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 time/d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Manu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Etc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 gridSpan="4"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N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5049720" y="1465200"/>
          <a:ext cx="4640400" cy="1733760"/>
        </p:xfrm>
        <a:graphic>
          <a:graphicData uri="http://schemas.openxmlformats.org/drawingml/2006/table">
            <a:tbl>
              <a:tblPr/>
              <a:tblGrid>
                <a:gridCol w="2319480"/>
                <a:gridCol w="2320920"/>
              </a:tblGrid>
              <a:tr h="2890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bl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ment dire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28872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ufficient number of sta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rease number of sta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ufficient number of personn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rease number of staff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ck of train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hance capacity buil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ck of consumab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uring consumab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urity / safety of Hydrog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engthening safety measu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5" name="Rectangle 356"/>
          <p:cNvSpPr/>
          <p:nvPr/>
        </p:nvSpPr>
        <p:spPr>
          <a:xfrm>
            <a:off x="5005440" y="3546360"/>
            <a:ext cx="4728960" cy="310536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한쪽 모서리는 잘리고 다른 쪽 모서리는 둥근 사각형 15"/>
          <p:cNvSpPr/>
          <p:nvPr/>
        </p:nvSpPr>
        <p:spPr>
          <a:xfrm>
            <a:off x="5005440" y="336708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3) Improvement Meas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그림 18" descr="E:\2018\1.프로젝트\04.(NIPA)카메룬(★)\06. 수행\07.2차출장\카메룬1차출장\2018-07-03\DSC06008.JPG"/>
          <p:cNvPicPr/>
          <p:nvPr/>
        </p:nvPicPr>
        <p:blipFill>
          <a:blip r:embed="rId2"/>
          <a:stretch/>
        </p:blipFill>
        <p:spPr>
          <a:xfrm>
            <a:off x="206280" y="5099040"/>
            <a:ext cx="2270160" cy="1488960"/>
          </a:xfrm>
          <a:prstGeom prst="rect">
            <a:avLst/>
          </a:prstGeom>
          <a:ln w="0">
            <a:noFill/>
          </a:ln>
        </p:spPr>
      </p:pic>
      <p:pic>
        <p:nvPicPr>
          <p:cNvPr id="298" name="그림 19" descr="E:\2018\1.프로젝트\04.(NIPA)카메룬(★)\06. 수행\07.2차출장\카메룬1차출장\2018-07-03\DSC06011.JPG"/>
          <p:cNvPicPr/>
          <p:nvPr/>
        </p:nvPicPr>
        <p:blipFill>
          <a:blip r:embed="rId3"/>
          <a:stretch/>
        </p:blipFill>
        <p:spPr>
          <a:xfrm>
            <a:off x="2533680" y="5099040"/>
            <a:ext cx="2317680" cy="148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9" name=""/>
          <p:cNvGraphicFramePr/>
          <p:nvPr/>
        </p:nvGraphicFramePr>
        <p:xfrm>
          <a:off x="5043600" y="3797280"/>
          <a:ext cx="4651200" cy="2641680"/>
        </p:xfrm>
        <a:graphic>
          <a:graphicData uri="http://schemas.openxmlformats.org/drawingml/2006/table">
            <a:tbl>
              <a:tblPr/>
              <a:tblGrid>
                <a:gridCol w="1833480"/>
                <a:gridCol w="2817720"/>
              </a:tblGrid>
              <a:tr h="35892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ment measu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tai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5382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ablish new upper air st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Improvements to the two upper air stations that are currently in oper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rchase consumab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Purchase consumables for radioson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all high-tech observation syst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marL="88920" indent="-88920">
                        <a:lnSpc>
                          <a:spcPct val="13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Installation and operation of wind profiler and radiometer at existing and new sta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ster staffs for upper air observation , capacity buil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Foster technical staffs for upper-air observation  based on WMO standard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제목 17" descr=""/>
          <p:cNvPicPr/>
          <p:nvPr/>
        </p:nvPicPr>
        <p:blipFill>
          <a:blip r:embed="rId1"/>
          <a:stretch/>
        </p:blipFill>
        <p:spPr>
          <a:xfrm>
            <a:off x="36360" y="139680"/>
            <a:ext cx="9777600" cy="68904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356"/>
          <p:cNvSpPr/>
          <p:nvPr/>
        </p:nvSpPr>
        <p:spPr>
          <a:xfrm>
            <a:off x="166680" y="1276200"/>
            <a:ext cx="4734000" cy="182268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한쪽 모서리는 잘리고 다른 쪽 모서리는 둥근 사각형 6"/>
          <p:cNvSpPr/>
          <p:nvPr/>
        </p:nvSpPr>
        <p:spPr>
          <a:xfrm>
            <a:off x="16668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1) Meteorological Satellite St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204840" y="1473120"/>
          <a:ext cx="4657680" cy="1552680"/>
        </p:xfrm>
        <a:graphic>
          <a:graphicData uri="http://schemas.openxmlformats.org/drawingml/2006/table">
            <a:tbl>
              <a:tblPr/>
              <a:tblGrid>
                <a:gridCol w="1057320"/>
                <a:gridCol w="801720"/>
                <a:gridCol w="1003320"/>
                <a:gridCol w="760320"/>
                <a:gridCol w="1035000"/>
              </a:tblGrid>
              <a:tr h="644760"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ific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elli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Country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v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ving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v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ption 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st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907920"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ostationary meteorological satelli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UMETSA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age (Vis, IR, Watervapo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min,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m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MA2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4" name="Rectangle 356"/>
          <p:cNvSpPr/>
          <p:nvPr/>
        </p:nvSpPr>
        <p:spPr>
          <a:xfrm>
            <a:off x="166680" y="3394080"/>
            <a:ext cx="4734000" cy="325764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한쪽 모서리는 잘리고 다른 쪽 모서리는 둥근 사각형 8"/>
          <p:cNvSpPr/>
          <p:nvPr/>
        </p:nvSpPr>
        <p:spPr>
          <a:xfrm>
            <a:off x="166680" y="321300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2) Problems and Improvement Di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209520" y="3630600"/>
          <a:ext cx="4673520" cy="2070000"/>
        </p:xfrm>
        <a:graphic>
          <a:graphicData uri="http://schemas.openxmlformats.org/drawingml/2006/table">
            <a:tbl>
              <a:tblPr/>
              <a:tblGrid>
                <a:gridCol w="2336760"/>
                <a:gridCol w="2336760"/>
              </a:tblGrid>
              <a:tr h="35892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bl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ment Dire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42840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ganizational structu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engthen organization for satellit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ufficient number of personn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rease number of staff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direct satellite receiving syst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ablishment of satellite receiving syst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ck of train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hance capacity building 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stering professional staff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5043600" y="1468440"/>
          <a:ext cx="4672080" cy="3014640"/>
        </p:xfrm>
        <a:graphic>
          <a:graphicData uri="http://schemas.openxmlformats.org/drawingml/2006/table">
            <a:tbl>
              <a:tblPr/>
              <a:tblGrid>
                <a:gridCol w="1930320"/>
                <a:gridCol w="2741760"/>
              </a:tblGrid>
              <a:tr h="3920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ment measu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tai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7146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Reception of geostationary satellite da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marL="88920" indent="-88920">
                        <a:lnSpc>
                          <a:spcPct val="13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Establishing a  system to receive observation data of nearest geostationary orbiting satelli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7142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Reception of polar-orbit meteorological satellite da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marL="88920" indent="-88920">
                        <a:lnSpc>
                          <a:spcPct val="13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Establishing a system to receive observation data of polar orbiting meteorological satelli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7142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Satellite data analysis and utilization of application featu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marL="88920" indent="-88920">
                        <a:lnSpc>
                          <a:spcPct val="13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Establishing a system to develop algorithms and verify calculated data required for creating meteorological element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Foster professional staffs for meteorological satelli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marL="88920" indent="-88920">
                        <a:lnSpc>
                          <a:spcPct val="13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Securing professional manpower / conduct train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Rectangle 356"/>
          <p:cNvSpPr/>
          <p:nvPr/>
        </p:nvSpPr>
        <p:spPr>
          <a:xfrm>
            <a:off x="5005440" y="1276200"/>
            <a:ext cx="4728960" cy="537552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한쪽 모서리는 잘리고 다른 쪽 모서리는 둥근 사각형 11"/>
          <p:cNvSpPr/>
          <p:nvPr/>
        </p:nvSpPr>
        <p:spPr>
          <a:xfrm>
            <a:off x="500544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3) Improvement Meas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제목 17" descr=""/>
          <p:cNvPicPr/>
          <p:nvPr/>
        </p:nvPicPr>
        <p:blipFill>
          <a:blip r:embed="rId1"/>
          <a:stretch/>
        </p:blipFill>
        <p:spPr>
          <a:xfrm>
            <a:off x="6480" y="85680"/>
            <a:ext cx="9807480" cy="74304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356"/>
          <p:cNvSpPr/>
          <p:nvPr/>
        </p:nvSpPr>
        <p:spPr>
          <a:xfrm>
            <a:off x="166680" y="1276200"/>
            <a:ext cx="4734000" cy="336096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56"/>
          <p:cNvSpPr/>
          <p:nvPr/>
        </p:nvSpPr>
        <p:spPr>
          <a:xfrm>
            <a:off x="5005440" y="1276200"/>
            <a:ext cx="4728960" cy="249408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한쪽 모서리는 잘리고 다른 쪽 모서리는 둥근 사각형 6"/>
          <p:cNvSpPr/>
          <p:nvPr/>
        </p:nvSpPr>
        <p:spPr>
          <a:xfrm>
            <a:off x="166680" y="1052640"/>
            <a:ext cx="416736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1) Test &amp; Calibration Status (Met. Instrumen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한쪽 모서리는 잘리고 다른 쪽 모서리는 둥근 사각형 9"/>
          <p:cNvSpPr/>
          <p:nvPr/>
        </p:nvSpPr>
        <p:spPr>
          <a:xfrm>
            <a:off x="500544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2) Problems and Improvement Di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222120" y="2058840"/>
          <a:ext cx="4621320" cy="2513160"/>
        </p:xfrm>
        <a:graphic>
          <a:graphicData uri="http://schemas.openxmlformats.org/drawingml/2006/table">
            <a:tbl>
              <a:tblPr/>
              <a:tblGrid>
                <a:gridCol w="1347840"/>
                <a:gridCol w="1521000"/>
                <a:gridCol w="1100160"/>
                <a:gridCol w="652320"/>
              </a:tblGrid>
              <a:tr h="2858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ified Instru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ifying Peri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ant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5414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eratu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al thermometer, 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mograph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yea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umid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ygrograph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yea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mospheric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su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rometre, Barograph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ye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cipit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 gridSpan="3" rowSpan="3"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72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lar Radi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8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shine dur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16" name="TextBox 10"/>
          <p:cNvSpPr/>
          <p:nvPr/>
        </p:nvSpPr>
        <p:spPr>
          <a:xfrm>
            <a:off x="166680" y="1424160"/>
            <a:ext cx="473400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3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HQ: 1 temperature, 1 humidity, 1 air pressure calibration equipment (Chinese assistance) / No calibration instruments in regional stations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356"/>
          <p:cNvSpPr/>
          <p:nvPr/>
        </p:nvSpPr>
        <p:spPr>
          <a:xfrm>
            <a:off x="5005440" y="4092480"/>
            <a:ext cx="4728960" cy="255924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한쪽 모서리는 잘리고 다른 쪽 모서리는 둥근 사각형 14"/>
          <p:cNvSpPr/>
          <p:nvPr/>
        </p:nvSpPr>
        <p:spPr>
          <a:xfrm>
            <a:off x="5005440" y="3868560"/>
            <a:ext cx="3887640" cy="36072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3) Improvement Meas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5033880" y="4284720"/>
          <a:ext cx="4672080" cy="2222280"/>
        </p:xfrm>
        <a:graphic>
          <a:graphicData uri="http://schemas.openxmlformats.org/drawingml/2006/table">
            <a:tbl>
              <a:tblPr/>
              <a:tblGrid>
                <a:gridCol w="1930320"/>
                <a:gridCol w="2741760"/>
              </a:tblGrid>
              <a:tr h="39672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ment measu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tai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5144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ablish a dedicated department / service for calib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ablish a dedicated department / service for calibr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ablish test &amp; calibration 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marL="88920" indent="-88920">
                        <a:lnSpc>
                          <a:spcPct val="13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Establishing tasks, such as regulations for calibration, and purchasing and operating calibration equip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stering professional staf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Foster professional staffs specialized for test &amp; calibr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0" name="그림 16" descr="E:\2018\1.프로젝트\04.(NIPA)카메룬(★)\06. 수행\07.2차출장\카메룬2차출장\IMG_2658.jpg"/>
          <p:cNvPicPr/>
          <p:nvPr/>
        </p:nvPicPr>
        <p:blipFill>
          <a:blip r:embed="rId2"/>
          <a:stretch/>
        </p:blipFill>
        <p:spPr>
          <a:xfrm>
            <a:off x="166680" y="4729320"/>
            <a:ext cx="2340000" cy="1753920"/>
          </a:xfrm>
          <a:prstGeom prst="rect">
            <a:avLst/>
          </a:prstGeom>
          <a:ln w="0">
            <a:noFill/>
          </a:ln>
        </p:spPr>
      </p:pic>
      <p:pic>
        <p:nvPicPr>
          <p:cNvPr id="321" name="그림 18" descr="E:\2018\1.프로젝트\04.(NIPA)카메룬(★)\06. 수행\07.2차출장\카메룬2차출장\IMG_2652.jpg"/>
          <p:cNvPicPr/>
          <p:nvPr/>
        </p:nvPicPr>
        <p:blipFill>
          <a:blip r:embed="rId3"/>
          <a:stretch/>
        </p:blipFill>
        <p:spPr>
          <a:xfrm>
            <a:off x="2560680" y="4729320"/>
            <a:ext cx="2340000" cy="177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2" name=""/>
          <p:cNvGraphicFramePr/>
          <p:nvPr/>
        </p:nvGraphicFramePr>
        <p:xfrm>
          <a:off x="5033880" y="1481040"/>
          <a:ext cx="4672080" cy="2192400"/>
        </p:xfrm>
        <a:graphic>
          <a:graphicData uri="http://schemas.openxmlformats.org/drawingml/2006/table">
            <a:tbl>
              <a:tblPr/>
              <a:tblGrid>
                <a:gridCol w="2336760"/>
                <a:gridCol w="2335320"/>
              </a:tblGrid>
              <a:tr h="3366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Probl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Improvement Dire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46368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ganizational structu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engthen organization for test &amp; calibratio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ufficient number of personn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rease number of staff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ck of train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hance capacity building 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stering professional staff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ack of equip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ecuring test &amp; calibration equip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제목 17" descr=""/>
          <p:cNvPicPr/>
          <p:nvPr/>
        </p:nvPicPr>
        <p:blipFill>
          <a:blip r:embed="rId1"/>
          <a:stretch/>
        </p:blipFill>
        <p:spPr>
          <a:xfrm>
            <a:off x="36360" y="139680"/>
            <a:ext cx="9704520" cy="689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4" name=""/>
          <p:cNvGraphicFramePr/>
          <p:nvPr/>
        </p:nvGraphicFramePr>
        <p:xfrm>
          <a:off x="210960" y="2647800"/>
          <a:ext cx="4645080" cy="1654200"/>
        </p:xfrm>
        <a:graphic>
          <a:graphicData uri="http://schemas.openxmlformats.org/drawingml/2006/table">
            <a:tbl>
              <a:tblPr/>
              <a:tblGrid>
                <a:gridCol w="1262160"/>
                <a:gridCol w="3382920"/>
              </a:tblGrid>
              <a:tr h="28656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irpo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n du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5374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oual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marL="88920" indent="-88920">
                        <a:lnSpc>
                          <a:spcPct val="15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Generation of avi-met forecast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(Aviation, Take-off/landing forecast, TAF) and dissemin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10774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Yaounde - Nsimalen Ngaounde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arou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marL="88920" indent="-88920">
                        <a:lnSpc>
                          <a:spcPct val="15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Observation data collection and transmit to Douala Airpo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 indent="-88920">
                        <a:lnSpc>
                          <a:spcPct val="15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Provision of service (by using forecast data from Douala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5" name="TextBox 25"/>
          <p:cNvSpPr/>
          <p:nvPr/>
        </p:nvSpPr>
        <p:spPr>
          <a:xfrm>
            <a:off x="166680" y="1420920"/>
            <a:ext cx="47340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(Status)</a:t>
            </a:r>
            <a:r>
              <a:rPr b="0" lang="en-US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 No Avi-met service in D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(International Airport)</a:t>
            </a:r>
            <a:r>
              <a:rPr b="0" lang="en-US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 ASECNA (4 airpor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(Domestic Airport)</a:t>
            </a:r>
            <a:r>
              <a:rPr b="0" lang="en-US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 CCAA</a:t>
            </a:r>
            <a:r>
              <a:rPr b="0" lang="ko-KR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(4</a:t>
            </a:r>
            <a:r>
              <a:rPr b="0" lang="ko-KR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airports)</a:t>
            </a:r>
            <a:r>
              <a:rPr b="0" lang="ko-KR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 → </a:t>
            </a:r>
            <a:r>
              <a:rPr b="0" lang="en-US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Planning to increase to 5</a:t>
            </a:r>
            <a:r>
              <a:rPr b="0" lang="ko-KR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(Bertou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56"/>
          <p:cNvSpPr/>
          <p:nvPr/>
        </p:nvSpPr>
        <p:spPr>
          <a:xfrm>
            <a:off x="166680" y="1276200"/>
            <a:ext cx="4734000" cy="298800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56"/>
          <p:cNvSpPr/>
          <p:nvPr/>
        </p:nvSpPr>
        <p:spPr>
          <a:xfrm>
            <a:off x="5008680" y="1276200"/>
            <a:ext cx="4728960" cy="369900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한쪽 모서리는 잘리고 다른 쪽 모서리는 둥근 사각형 7"/>
          <p:cNvSpPr/>
          <p:nvPr/>
        </p:nvSpPr>
        <p:spPr>
          <a:xfrm>
            <a:off x="500544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3) Communication /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한쪽 모서리는 잘리고 다른 쪽 모서리는 둥근 사각형 33"/>
          <p:cNvSpPr/>
          <p:nvPr/>
        </p:nvSpPr>
        <p:spPr>
          <a:xfrm>
            <a:off x="16668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1) Aviation met. St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356"/>
          <p:cNvSpPr/>
          <p:nvPr/>
        </p:nvSpPr>
        <p:spPr>
          <a:xfrm>
            <a:off x="166680" y="4527720"/>
            <a:ext cx="4734000" cy="212400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한쪽 모서리는 잘리고 다른 쪽 모서리는 둥근 사각형 18"/>
          <p:cNvSpPr/>
          <p:nvPr/>
        </p:nvSpPr>
        <p:spPr>
          <a:xfrm>
            <a:off x="166680" y="434808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2) Aviation met. Observ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204840" y="4983120"/>
          <a:ext cx="4656240" cy="1351080"/>
        </p:xfrm>
        <a:graphic>
          <a:graphicData uri="http://schemas.openxmlformats.org/drawingml/2006/table">
            <a:tbl>
              <a:tblPr/>
              <a:tblGrid>
                <a:gridCol w="1031760"/>
                <a:gridCol w="1890720"/>
                <a:gridCol w="1733760"/>
              </a:tblGrid>
              <a:tr h="2034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servation Elem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servation time, repo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37116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aounde 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Nsimal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AR (T, H, P, WD, WS…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CI (T, H, P, WD, WS…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min / 24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034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ual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030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gaounde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ased on the flight schedule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rou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bal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0min / 24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3" name="텍스트 상자 1"/>
          <p:cNvSpPr/>
          <p:nvPr/>
        </p:nvSpPr>
        <p:spPr>
          <a:xfrm>
            <a:off x="166680" y="4664160"/>
            <a:ext cx="47340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ⓐ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International Air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21"/>
          <p:cNvSpPr/>
          <p:nvPr/>
        </p:nvSpPr>
        <p:spPr>
          <a:xfrm>
            <a:off x="166680" y="6332400"/>
            <a:ext cx="4734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ⓑ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Domestic Airport: Get info from Douala (request-ba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5041800" y="1747800"/>
          <a:ext cx="4662720" cy="1122480"/>
        </p:xfrm>
        <a:graphic>
          <a:graphicData uri="http://schemas.openxmlformats.org/drawingml/2006/table">
            <a:tbl>
              <a:tblPr/>
              <a:tblGrid>
                <a:gridCol w="1177920"/>
                <a:gridCol w="1177920"/>
                <a:gridCol w="2306880"/>
              </a:tblGrid>
              <a:tr h="2332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irp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211320">
                <a:tc rowSpan="4"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T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aound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 rowSpan="4"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one 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LU / LF Aeronautical Telecommunication / SM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1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ua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gaounde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rou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5041800" y="3203640"/>
          <a:ext cx="4662720" cy="1695240"/>
        </p:xfrm>
        <a:graphic>
          <a:graphicData uri="http://schemas.openxmlformats.org/drawingml/2006/table">
            <a:tbl>
              <a:tblPr/>
              <a:tblGrid>
                <a:gridCol w="1189080"/>
                <a:gridCol w="1263600"/>
                <a:gridCol w="1131840"/>
                <a:gridCol w="1078200"/>
              </a:tblGrid>
              <a:tr h="2872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ecast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2872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irport foreca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T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lots and aircraf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ke-off and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nding foreca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 REPORT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Tendenc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net Netwo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lots and aircraf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ral foreca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time/1 day, 07: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rning weath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GWEATH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Regional, Aerodo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dshea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7" name="텍스트 상자 1"/>
          <p:cNvSpPr/>
          <p:nvPr/>
        </p:nvSpPr>
        <p:spPr>
          <a:xfrm>
            <a:off x="5008680" y="1420920"/>
            <a:ext cx="47322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ⓐ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Commun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텍스트 상자 1"/>
          <p:cNvSpPr/>
          <p:nvPr/>
        </p:nvSpPr>
        <p:spPr>
          <a:xfrm>
            <a:off x="5008680" y="2876400"/>
            <a:ext cx="47322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ⓑ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Forec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56"/>
          <p:cNvSpPr/>
          <p:nvPr/>
        </p:nvSpPr>
        <p:spPr>
          <a:xfrm>
            <a:off x="5008680" y="5265720"/>
            <a:ext cx="4728960" cy="138600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한쪽 모서리는 잘리고 다른 쪽 모서리는 둥근 사각형 29"/>
          <p:cNvSpPr/>
          <p:nvPr/>
        </p:nvSpPr>
        <p:spPr>
          <a:xfrm>
            <a:off x="5005440" y="504180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4) Problems / Improvement Di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5070600" y="5483160"/>
          <a:ext cx="4603680" cy="1179720"/>
        </p:xfrm>
        <a:graphic>
          <a:graphicData uri="http://schemas.openxmlformats.org/drawingml/2006/table">
            <a:tbl>
              <a:tblPr/>
              <a:tblGrid>
                <a:gridCol w="2301840"/>
                <a:gridCol w="2301840"/>
              </a:tblGrid>
              <a:tr h="2286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bl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ment direc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54792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Avi-met. Service by other agenc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Reorganization in order to let DNM provide avi-met. Servi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No organiz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Organization, Manpower, Training, Equipment, et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 Light"/>
              </a:rPr>
              <a:t>Private stations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OCAPALM: 03 s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,CDC: 23 raingau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ODECOTON:35 pluviomet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HEVECAM: 05 automatic s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rojet PULCI 47 automatic s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DC:25 automatic s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reation of a ministerial law that oblige any private station to declare its station to DMN and regularly transmit  their data to DM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We are in the process of collecting these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 Light"/>
              </a:rPr>
              <a:t>Difficulté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0760" y="1825200"/>
            <a:ext cx="90262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Vétusté du réseau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nsuffisance du personnel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xistence d’autres entités faisant la meteo au sein du p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 Light"/>
              </a:rPr>
              <a:t>Perspective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Recrutement en cours du personnel(250) tout grade confond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rojet en cours de sauvetage des données histor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TextBox 4" descr=""/>
          <p:cNvPicPr/>
          <p:nvPr/>
        </p:nvPicPr>
        <p:blipFill>
          <a:blip r:embed="rId1"/>
          <a:stretch/>
        </p:blipFill>
        <p:spPr>
          <a:xfrm>
            <a:off x="2328840" y="2036880"/>
            <a:ext cx="5175360" cy="23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1"/>
          <p:cNvSpPr/>
          <p:nvPr/>
        </p:nvSpPr>
        <p:spPr>
          <a:xfrm>
            <a:off x="1539720" y="2690640"/>
            <a:ext cx="7101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2560" indent="-68256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2560" indent="-68256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HYSICAL NATIONAL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2560" indent="-68256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ATIONAL REQUIRMENT ABOUT OBSERV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2560" indent="-68256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VENTORY  OF OBSERVATION 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2560" indent="-68256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ISCELLAN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제목 17" descr=""/>
          <p:cNvPicPr/>
          <p:nvPr/>
        </p:nvPicPr>
        <p:blipFill>
          <a:blip r:embed="rId1"/>
          <a:stretch/>
        </p:blipFill>
        <p:spPr>
          <a:xfrm>
            <a:off x="-19080" y="42840"/>
            <a:ext cx="9759960" cy="78588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356"/>
          <p:cNvSpPr/>
          <p:nvPr/>
        </p:nvSpPr>
        <p:spPr>
          <a:xfrm>
            <a:off x="169920" y="1276200"/>
            <a:ext cx="9564480" cy="537552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57040" y="1495440"/>
          <a:ext cx="4591080" cy="5067360"/>
        </p:xfrm>
        <a:graphic>
          <a:graphicData uri="http://schemas.openxmlformats.org/drawingml/2006/table">
            <a:tbl>
              <a:tblPr/>
              <a:tblGrid>
                <a:gridCol w="1078200"/>
                <a:gridCol w="3512880"/>
              </a:tblGrid>
              <a:tr h="2700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 of count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public of Camero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c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al Africa (Western side), Atlantic coastal l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6856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e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5,442k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im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tropical Climate (Dry season: Dec ~ Mar / Wet season: Jun ~ No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ci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aound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ul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million (201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jor citi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itical capital : Yaoundé / Economic Capital : Doual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meroon Highlander 31%, Equitorial Bantu 19%, Kirdi 11%, Fulani 10%, Northwestern Bantu 8%, Eastern Nigritic 7%, Other African 1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ngua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ench, English, traditional langua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ig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imism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40%), Christian (40%), Islamic 20%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ependence 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60. 1.1 (Independence from France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vernment for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idential Republ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ss Domestic </a:t>
                      </a:r>
                      <a:br>
                        <a:rPr sz="900"/>
                      </a:b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t (GDP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0.9 billion (201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 capita GDP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,303 (201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rrenc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al African CFA Franc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XOF}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ustrial structu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ce 48%, Manufacturing 31%, Agriculture 22% (201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52560" rIns="52560" tIns="14400" bIns="144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jor resourc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troleum, Bauxite, Iron ore, Wood, Fishe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70000">
                <a:tc gridSpan="2"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rce: 2017 World National Handbook (Korea Eximbank), Rising Africa Series - Cameroon (Africa Strategy Center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206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3" name="직선 연결선 3"/>
          <p:cNvSpPr/>
          <p:nvPr/>
        </p:nvSpPr>
        <p:spPr>
          <a:xfrm>
            <a:off x="4933800" y="1413000"/>
            <a:ext cx="0" cy="4898880"/>
          </a:xfrm>
          <a:prstGeom prst="line">
            <a:avLst/>
          </a:prstGeom>
          <a:ln w="6480">
            <a:solidFill>
              <a:srgbClr val="2f5597"/>
            </a:solidFill>
            <a:prstDash val="sysDash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한쪽 모서리는 잘리고 다른 쪽 모서리는 둥근 사각형 12"/>
          <p:cNvSpPr/>
          <p:nvPr/>
        </p:nvSpPr>
        <p:spPr>
          <a:xfrm>
            <a:off x="169920" y="1052640"/>
            <a:ext cx="376236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1. General status of Camero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" descr="https://www.cia.gov/library/publications/the-world-factbook/graphics/maps/large/cm-map.gif"/>
          <p:cNvPicPr/>
          <p:nvPr/>
        </p:nvPicPr>
        <p:blipFill>
          <a:blip r:embed="rId2"/>
          <a:stretch/>
        </p:blipFill>
        <p:spPr>
          <a:xfrm>
            <a:off x="5494320" y="1960560"/>
            <a:ext cx="367344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제목 17" descr=""/>
          <p:cNvPicPr/>
          <p:nvPr/>
        </p:nvPicPr>
        <p:blipFill>
          <a:blip r:embed="rId1"/>
          <a:stretch/>
        </p:blipFill>
        <p:spPr>
          <a:xfrm>
            <a:off x="-19080" y="42840"/>
            <a:ext cx="9759960" cy="78588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356"/>
          <p:cNvSpPr/>
          <p:nvPr/>
        </p:nvSpPr>
        <p:spPr>
          <a:xfrm>
            <a:off x="169920" y="1276200"/>
            <a:ext cx="4734000" cy="306072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한쪽 모서리는 잘리고 다른 쪽 모서리는 둥근 사각형 11"/>
          <p:cNvSpPr/>
          <p:nvPr/>
        </p:nvSpPr>
        <p:spPr>
          <a:xfrm>
            <a:off x="16668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1) Polit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169920" y="4734000"/>
            <a:ext cx="47340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Adequate environment for agricultur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(plentiful amount of natural resources (petroleum, gas, forestry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70% of population in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agriculture, forestry, fishery (20% of GD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9"/>
          <p:cNvSpPr/>
          <p:nvPr/>
        </p:nvSpPr>
        <p:spPr>
          <a:xfrm>
            <a:off x="169920" y="1417680"/>
            <a:ext cx="26128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1960.1.1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- Independence from 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196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- Foundation of 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Cameroonian National Union (CN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1972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- Amendment of the  Constitution (became a unitary sta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Administrative district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10 regions &gt; 58 div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차트 19" descr=""/>
          <p:cNvPicPr/>
          <p:nvPr/>
        </p:nvPicPr>
        <p:blipFill>
          <a:blip r:embed="rId2"/>
          <a:stretch/>
        </p:blipFill>
        <p:spPr>
          <a:xfrm>
            <a:off x="4836960" y="2651040"/>
            <a:ext cx="2710080" cy="2563920"/>
          </a:xfrm>
          <a:prstGeom prst="rect">
            <a:avLst/>
          </a:prstGeom>
          <a:ln w="0">
            <a:noFill/>
          </a:ln>
        </p:spPr>
      </p:pic>
      <p:pic>
        <p:nvPicPr>
          <p:cNvPr id="192" name="그림 17" descr=""/>
          <p:cNvPicPr/>
          <p:nvPr/>
        </p:nvPicPr>
        <p:blipFill>
          <a:blip r:embed="rId3"/>
          <a:stretch/>
        </p:blipFill>
        <p:spPr>
          <a:xfrm>
            <a:off x="2903400" y="1424160"/>
            <a:ext cx="1968480" cy="276696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356"/>
          <p:cNvSpPr/>
          <p:nvPr/>
        </p:nvSpPr>
        <p:spPr>
          <a:xfrm>
            <a:off x="169920" y="4554360"/>
            <a:ext cx="4734000" cy="209736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한쪽 모서리는 잘리고 다른 쪽 모서리는 둥근 사각형 24"/>
          <p:cNvSpPr/>
          <p:nvPr/>
        </p:nvSpPr>
        <p:spPr>
          <a:xfrm>
            <a:off x="166680" y="4373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2) Econom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56"/>
          <p:cNvSpPr/>
          <p:nvPr/>
        </p:nvSpPr>
        <p:spPr>
          <a:xfrm>
            <a:off x="5005440" y="1276200"/>
            <a:ext cx="4728960" cy="537552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한쪽 모서리는 잘리고 다른 쪽 모서리는 둥근 사각형 26"/>
          <p:cNvSpPr/>
          <p:nvPr/>
        </p:nvSpPr>
        <p:spPr>
          <a:xfrm>
            <a:off x="500544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3) So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7"/>
          <p:cNvSpPr/>
          <p:nvPr/>
        </p:nvSpPr>
        <p:spPr>
          <a:xfrm>
            <a:off x="5016600" y="1417680"/>
            <a:ext cx="4717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Total Population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24.01 million (Sex ratio: almost sa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Population structure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pyramid type (life expectancy: 56 yea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Urban population ratio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5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직사각형 28"/>
          <p:cNvSpPr/>
          <p:nvPr/>
        </p:nvSpPr>
        <p:spPr>
          <a:xfrm>
            <a:off x="5005440" y="4983120"/>
            <a:ext cx="471168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Labor participation rate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76% (steadily increas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Enrollment rate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Primary education - Hig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Secondary education- 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(continuous education has not been achiev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Literacy rate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Relatively high (Adults: 75%, Female: 80.4%, Male: 87.1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직사각형 29"/>
          <p:cNvSpPr/>
          <p:nvPr/>
        </p:nvSpPr>
        <p:spPr>
          <a:xfrm>
            <a:off x="6327720" y="4614840"/>
            <a:ext cx="1887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(Urbanization rate, 2017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직사각형 30"/>
          <p:cNvSpPr/>
          <p:nvPr/>
        </p:nvSpPr>
        <p:spPr>
          <a:xfrm>
            <a:off x="7504200" y="3882960"/>
            <a:ext cx="6397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ffffff"/>
                </a:solidFill>
                <a:latin typeface="Calibri"/>
                <a:ea typeface="나눔고딕"/>
              </a:rPr>
              <a:t>카메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그림 31" descr=""/>
          <p:cNvPicPr/>
          <p:nvPr/>
        </p:nvPicPr>
        <p:blipFill>
          <a:blip r:embed="rId4"/>
          <a:stretch/>
        </p:blipFill>
        <p:spPr>
          <a:xfrm>
            <a:off x="5022720" y="2374920"/>
            <a:ext cx="4694400" cy="22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제목 17" descr=""/>
          <p:cNvPicPr/>
          <p:nvPr/>
        </p:nvPicPr>
        <p:blipFill>
          <a:blip r:embed="rId1"/>
          <a:stretch/>
        </p:blipFill>
        <p:spPr>
          <a:xfrm>
            <a:off x="-19080" y="42840"/>
            <a:ext cx="9759960" cy="78588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356"/>
          <p:cNvSpPr/>
          <p:nvPr/>
        </p:nvSpPr>
        <p:spPr>
          <a:xfrm>
            <a:off x="169920" y="1276200"/>
            <a:ext cx="4734000" cy="139392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한쪽 모서리는 잘리고 다른 쪽 모서리는 둥근 사각형 14"/>
          <p:cNvSpPr/>
          <p:nvPr/>
        </p:nvSpPr>
        <p:spPr>
          <a:xfrm>
            <a:off x="16668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1) Roa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56"/>
          <p:cNvSpPr/>
          <p:nvPr/>
        </p:nvSpPr>
        <p:spPr>
          <a:xfrm>
            <a:off x="5005440" y="1276200"/>
            <a:ext cx="4728960" cy="217656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한쪽 모서리는 잘리고 다른 쪽 모서리는 둥근 사각형 27"/>
          <p:cNvSpPr/>
          <p:nvPr/>
        </p:nvSpPr>
        <p:spPr>
          <a:xfrm>
            <a:off x="500544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4) 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33"/>
          <p:cNvSpPr/>
          <p:nvPr/>
        </p:nvSpPr>
        <p:spPr>
          <a:xfrm>
            <a:off x="169920" y="1420920"/>
            <a:ext cx="47340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Total length of roads: 77,000k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/ pavement rate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6% (main roads, 5,100km) 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Difficult to travel during wet season (unpaved)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Planning to pave highway between Douala – Yaounde – Bafoussam - Douala (3,500km) by 20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56"/>
          <p:cNvSpPr/>
          <p:nvPr/>
        </p:nvSpPr>
        <p:spPr>
          <a:xfrm>
            <a:off x="169920" y="2903400"/>
            <a:ext cx="4734000" cy="110520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한쪽 모서리는 잘리고 다른 쪽 모서리는 둥근 사각형 36"/>
          <p:cNvSpPr/>
          <p:nvPr/>
        </p:nvSpPr>
        <p:spPr>
          <a:xfrm>
            <a:off x="166680" y="272412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2) Avi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37"/>
          <p:cNvSpPr/>
          <p:nvPr/>
        </p:nvSpPr>
        <p:spPr>
          <a:xfrm>
            <a:off x="166680" y="3084480"/>
            <a:ext cx="47372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International:</a:t>
            </a:r>
            <a:r>
              <a:rPr b="1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/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Domestic:</a:t>
            </a:r>
            <a:r>
              <a:rPr b="1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11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(In reconstruction: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7)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International: ASECNA  - aviation navigation  &amp; met.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Domestic: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Cameroon Civil Aviation Authority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- met.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56"/>
          <p:cNvSpPr/>
          <p:nvPr/>
        </p:nvSpPr>
        <p:spPr>
          <a:xfrm>
            <a:off x="169920" y="4246560"/>
            <a:ext cx="4734000" cy="240516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한쪽 모서리는 잘리고 다른 쪽 모서리는 둥근 사각형 39"/>
          <p:cNvSpPr/>
          <p:nvPr/>
        </p:nvSpPr>
        <p:spPr>
          <a:xfrm>
            <a:off x="166680" y="406728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3) Railw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40"/>
          <p:cNvSpPr/>
          <p:nvPr/>
        </p:nvSpPr>
        <p:spPr>
          <a:xfrm>
            <a:off x="166680" y="4427640"/>
            <a:ext cx="26416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Total length of railways: 1,009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Important transportation method for domestic cargo logistics (passenger transport is in poor stat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Additional 1,000 km railway will be constructed to transport to the export port of mineral resources with foreign a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그림 41" descr=""/>
          <p:cNvPicPr/>
          <p:nvPr/>
        </p:nvPicPr>
        <p:blipFill>
          <a:blip r:embed="rId2"/>
          <a:stretch/>
        </p:blipFill>
        <p:spPr>
          <a:xfrm>
            <a:off x="2863800" y="4451400"/>
            <a:ext cx="1984320" cy="220032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356"/>
          <p:cNvSpPr/>
          <p:nvPr/>
        </p:nvSpPr>
        <p:spPr>
          <a:xfrm>
            <a:off x="5005440" y="3768840"/>
            <a:ext cx="4728960" cy="288288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한쪽 모서리는 잘리고 다른 쪽 모서리는 둥근 사각형 43"/>
          <p:cNvSpPr/>
          <p:nvPr/>
        </p:nvSpPr>
        <p:spPr>
          <a:xfrm>
            <a:off x="5005440" y="358920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5) Ener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44"/>
          <p:cNvSpPr/>
          <p:nvPr/>
        </p:nvSpPr>
        <p:spPr>
          <a:xfrm>
            <a:off x="5013360" y="1420920"/>
            <a:ext cx="252900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4 marine ports, 6 river 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Douala port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accounted for 80-85% of national port log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Kribi Deep Sea Port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started operation in June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Garoua Port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only available in the rainy season on the Benoué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그림 45" descr=""/>
          <p:cNvPicPr/>
          <p:nvPr/>
        </p:nvPicPr>
        <p:blipFill>
          <a:blip r:embed="rId3"/>
          <a:srcRect l="0" t="0" r="38158" b="0"/>
          <a:stretch/>
        </p:blipFill>
        <p:spPr>
          <a:xfrm>
            <a:off x="7542360" y="1460520"/>
            <a:ext cx="2149200" cy="1905120"/>
          </a:xfrm>
          <a:prstGeom prst="rect">
            <a:avLst/>
          </a:prstGeom>
          <a:ln w="0">
            <a:noFill/>
          </a:ln>
        </p:spPr>
      </p:pic>
      <p:sp>
        <p:nvSpPr>
          <p:cNvPr id="219" name="TextBox 46"/>
          <p:cNvSpPr/>
          <p:nvPr/>
        </p:nvSpPr>
        <p:spPr>
          <a:xfrm>
            <a:off x="5005440" y="3940200"/>
            <a:ext cx="47289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Energy generation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77% hydroelectric power (other: distillation, dies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Current power generation capacity: 1,137M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Required capacity: 2,000MW (to be increased to 3,000MW by 20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5073480" y="4951440"/>
          <a:ext cx="4618080" cy="1738440"/>
        </p:xfrm>
        <a:graphic>
          <a:graphicData uri="http://schemas.openxmlformats.org/drawingml/2006/table">
            <a:tbl>
              <a:tblPr/>
              <a:tblGrid>
                <a:gridCol w="882720"/>
                <a:gridCol w="533520"/>
                <a:gridCol w="533520"/>
                <a:gridCol w="533160"/>
                <a:gridCol w="533520"/>
                <a:gridCol w="533520"/>
                <a:gridCol w="533160"/>
                <a:gridCol w="534960"/>
              </a:tblGrid>
              <a:tr h="304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Electricity supply 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0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0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0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0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401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52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53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55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56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56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58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60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Urb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87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88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89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90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91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Rur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7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8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8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9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0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1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30400">
                <a:tc gridSpan="8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Source : World Bank Open Data, WB(https://data.worldbank.org/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2f5597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제목 17" descr=""/>
          <p:cNvPicPr/>
          <p:nvPr/>
        </p:nvPicPr>
        <p:blipFill>
          <a:blip r:embed="rId1"/>
          <a:stretch/>
        </p:blipFill>
        <p:spPr>
          <a:xfrm>
            <a:off x="-12600" y="42840"/>
            <a:ext cx="9753480" cy="78588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356"/>
          <p:cNvSpPr/>
          <p:nvPr/>
        </p:nvSpPr>
        <p:spPr>
          <a:xfrm>
            <a:off x="166680" y="1276200"/>
            <a:ext cx="8300880" cy="537552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한쪽 모서리는 잘리고 다른 쪽 모서리는 둥근 사각형 14"/>
          <p:cNvSpPr/>
          <p:nvPr/>
        </p:nvSpPr>
        <p:spPr>
          <a:xfrm>
            <a:off x="16668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1) Geograp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33"/>
          <p:cNvSpPr/>
          <p:nvPr/>
        </p:nvSpPr>
        <p:spPr>
          <a:xfrm>
            <a:off x="166680" y="1425600"/>
            <a:ext cx="2633760" cy="19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Location: Central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rica (western side)</a:t>
            </a:r>
            <a:br>
              <a:rPr sz="1200"/>
            </a:b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나눔고딕"/>
              </a:rPr>
              <a:t>(Lat.</a:t>
            </a:r>
            <a:r>
              <a:rPr b="0" lang="ko-KR" sz="11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나눔고딕"/>
              </a:rPr>
              <a:t>2°N – 13°N, Long.</a:t>
            </a:r>
            <a:r>
              <a:rPr b="0" lang="ko-KR" sz="11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나눔고딕"/>
              </a:rPr>
              <a:t>8°E – 17°E)</a:t>
            </a:r>
            <a:r>
              <a:rPr b="0" lang="ko-KR" sz="11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Area: 475,442k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  <a:ea typeface="나눔고딕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Neighboring countries: Nigeria, Chad, Central African Republic, Congo, Gabon, Equatorial Guin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203040" y="3157560"/>
          <a:ext cx="2508480" cy="1584360"/>
        </p:xfrm>
        <a:graphic>
          <a:graphicData uri="http://schemas.openxmlformats.org/drawingml/2006/table">
            <a:tbl>
              <a:tblPr/>
              <a:tblGrid>
                <a:gridCol w="573120"/>
                <a:gridCol w="747720"/>
                <a:gridCol w="1187640"/>
              </a:tblGrid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Sou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Plai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Avg. Alt: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500 ~600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Centr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Highlan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Avg. Alt: 900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Adamawa plateau: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,370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No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Savanna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Downslo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W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Mounta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Mt. Cameroon (Alt: 4,070m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6" name="그림 37" descr="E:\2018\1.프로젝트\04.(NIPA)카메룬(★)\06. 수행\03.자료수집\00.그림자료\Cameroon_Topography.png"/>
          <p:cNvPicPr/>
          <p:nvPr/>
        </p:nvPicPr>
        <p:blipFill>
          <a:blip r:embed="rId2"/>
          <a:stretch/>
        </p:blipFill>
        <p:spPr>
          <a:xfrm>
            <a:off x="3824280" y="1428840"/>
            <a:ext cx="4299120" cy="3327480"/>
          </a:xfrm>
          <a:prstGeom prst="rect">
            <a:avLst/>
          </a:prstGeom>
          <a:ln w="0">
            <a:noFill/>
          </a:ln>
        </p:spPr>
      </p:pic>
      <p:sp>
        <p:nvSpPr>
          <p:cNvPr id="227" name="TextBox 38"/>
          <p:cNvSpPr/>
          <p:nvPr/>
        </p:nvSpPr>
        <p:spPr>
          <a:xfrm>
            <a:off x="174600" y="5018040"/>
            <a:ext cx="253692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Main riv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Sanaga River: (Origin) Adamawa Plateau, (Destination) Atlantic ocean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Benue River: (Origin) Adamawa Plateau, (Destination) Niger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그림 62" descr=""/>
          <p:cNvPicPr/>
          <p:nvPr/>
        </p:nvPicPr>
        <p:blipFill>
          <a:blip r:embed="rId3"/>
          <a:stretch/>
        </p:blipFill>
        <p:spPr>
          <a:xfrm>
            <a:off x="4119480" y="5016600"/>
            <a:ext cx="3986280" cy="15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제목 17" descr=""/>
          <p:cNvPicPr/>
          <p:nvPr/>
        </p:nvPicPr>
        <p:blipFill>
          <a:blip r:embed="rId1"/>
          <a:stretch/>
        </p:blipFill>
        <p:spPr>
          <a:xfrm>
            <a:off x="-23760" y="42840"/>
            <a:ext cx="9764640" cy="78588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356"/>
          <p:cNvSpPr/>
          <p:nvPr/>
        </p:nvSpPr>
        <p:spPr>
          <a:xfrm>
            <a:off x="166680" y="1276200"/>
            <a:ext cx="4734000" cy="537552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한쪽 모서리는 잘리고 다른 쪽 모서리는 둥근 사각형 14"/>
          <p:cNvSpPr/>
          <p:nvPr/>
        </p:nvSpPr>
        <p:spPr>
          <a:xfrm>
            <a:off x="16668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3) Natural disas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56"/>
          <p:cNvSpPr/>
          <p:nvPr/>
        </p:nvSpPr>
        <p:spPr>
          <a:xfrm>
            <a:off x="5005440" y="1276200"/>
            <a:ext cx="4728960" cy="537552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한쪽 모서리는 잘리고 다른 쪽 모서리는 둥근 사각형 27"/>
          <p:cNvSpPr/>
          <p:nvPr/>
        </p:nvSpPr>
        <p:spPr>
          <a:xfrm>
            <a:off x="500544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4) External environment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24"/>
          <p:cNvSpPr/>
          <p:nvPr/>
        </p:nvSpPr>
        <p:spPr>
          <a:xfrm>
            <a:off x="174600" y="1413000"/>
            <a:ext cx="4726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Main natural disasters: heavy rains, floods, landslides, squalls, wind storms, thunderstorms, desertification, drou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290520" y="2171880"/>
          <a:ext cx="4610160" cy="1430280"/>
        </p:xfrm>
        <a:graphic>
          <a:graphicData uri="http://schemas.openxmlformats.org/drawingml/2006/table">
            <a:tbl>
              <a:tblPr/>
              <a:tblGrid>
                <a:gridCol w="1027080"/>
                <a:gridCol w="816120"/>
                <a:gridCol w="922320"/>
                <a:gridCol w="823680"/>
                <a:gridCol w="1020960"/>
              </a:tblGrid>
              <a:tr h="419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Natural disas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Occur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Casualt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Inju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Damage co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(thousand US$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191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Floo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375,3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Drough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98,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Volcanic activ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,7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3,4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Landsli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,7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44440">
                <a:tc gridSpan="5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Source: EM-DAT: The Emergency Events Database - Universite catholique de Louvain (UCL) - CRED, D. Guha-Sapir - www.emdat.be, Brussels, Belgium : April 16, 20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36" name="Rectangle 356"/>
          <p:cNvSpPr/>
          <p:nvPr/>
        </p:nvSpPr>
        <p:spPr>
          <a:xfrm>
            <a:off x="5089680" y="1690560"/>
            <a:ext cx="4555800" cy="123840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0"/>
          <p:cNvSpPr/>
          <p:nvPr/>
        </p:nvSpPr>
        <p:spPr>
          <a:xfrm>
            <a:off x="5089680" y="1440000"/>
            <a:ext cx="1164960" cy="250560"/>
          </a:xfrm>
          <a:prstGeom prst="rect">
            <a:avLst/>
          </a:prstGeom>
          <a:solidFill>
            <a:srgbClr val="2f5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나눔고딕"/>
                <a:ea typeface="나눔고딕"/>
              </a:rPr>
              <a:t>ⓐ </a:t>
            </a:r>
            <a:r>
              <a:rPr b="1" lang="en-US" sz="1000" spc="-1" strike="noStrike">
                <a:solidFill>
                  <a:srgbClr val="ffffff"/>
                </a:solidFill>
                <a:latin typeface="나눔고딕"/>
                <a:ea typeface="나눔고딕"/>
              </a:rPr>
              <a:t>Geograph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56"/>
          <p:cNvSpPr/>
          <p:nvPr/>
        </p:nvSpPr>
        <p:spPr>
          <a:xfrm>
            <a:off x="5089680" y="3255840"/>
            <a:ext cx="4555800" cy="94140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4"/>
          <p:cNvSpPr/>
          <p:nvPr/>
        </p:nvSpPr>
        <p:spPr>
          <a:xfrm>
            <a:off x="5089680" y="3005280"/>
            <a:ext cx="1164960" cy="250560"/>
          </a:xfrm>
          <a:prstGeom prst="rect">
            <a:avLst/>
          </a:prstGeom>
          <a:solidFill>
            <a:srgbClr val="2f5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나눔고딕"/>
                <a:ea typeface="나눔고딕"/>
              </a:rPr>
              <a:t>ⓑ </a:t>
            </a:r>
            <a:r>
              <a:rPr b="1" lang="en-US" sz="1000" spc="-1" strike="noStrike">
                <a:solidFill>
                  <a:srgbClr val="ffffff"/>
                </a:solidFill>
                <a:latin typeface="나눔고딕"/>
                <a:ea typeface="나눔고딕"/>
              </a:rPr>
              <a:t>Climate</a:t>
            </a:r>
            <a:r>
              <a:rPr b="1" lang="ko-KR" sz="1000" spc="-1" strike="noStrike">
                <a:solidFill>
                  <a:srgbClr val="ffffff"/>
                </a:solidFill>
                <a:latin typeface="나눔고딕"/>
                <a:ea typeface="나눔고딕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56"/>
          <p:cNvSpPr/>
          <p:nvPr/>
        </p:nvSpPr>
        <p:spPr>
          <a:xfrm>
            <a:off x="5089680" y="4524480"/>
            <a:ext cx="4555800" cy="94140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46"/>
          <p:cNvSpPr/>
          <p:nvPr/>
        </p:nvSpPr>
        <p:spPr>
          <a:xfrm>
            <a:off x="5089680" y="4273560"/>
            <a:ext cx="1319040" cy="250920"/>
          </a:xfrm>
          <a:prstGeom prst="rect">
            <a:avLst/>
          </a:prstGeom>
          <a:solidFill>
            <a:srgbClr val="2f5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나눔고딕"/>
                <a:ea typeface="나눔고딕"/>
              </a:rPr>
              <a:t>ⓒ </a:t>
            </a:r>
            <a:r>
              <a:rPr b="1" lang="en-US" sz="1000" spc="-1" strike="noStrike">
                <a:solidFill>
                  <a:srgbClr val="ffffff"/>
                </a:solidFill>
                <a:latin typeface="나눔고딕"/>
                <a:ea typeface="나눔고딕"/>
              </a:rPr>
              <a:t>Natural disa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텍스트 상자 2"/>
          <p:cNvSpPr/>
          <p:nvPr/>
        </p:nvSpPr>
        <p:spPr>
          <a:xfrm>
            <a:off x="5097600" y="1711440"/>
            <a:ext cx="45478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Location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Lat.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2°N – 13°N, Long.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8°E – 17°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Area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475,442 k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Based on 6° N Lat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South – plains, North – plateau (highlan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텍스트 상자 12"/>
          <p:cNvSpPr/>
          <p:nvPr/>
        </p:nvSpPr>
        <p:spPr>
          <a:xfrm>
            <a:off x="5089680" y="3251160"/>
            <a:ext cx="4555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Köppen climate zon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: Af, Am, Aw, BSh, BW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Hythergraph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Decrease in precipitation toward north (desert clima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텍스트 상자 14"/>
          <p:cNvSpPr/>
          <p:nvPr/>
        </p:nvSpPr>
        <p:spPr>
          <a:xfrm>
            <a:off x="5097600" y="4535640"/>
            <a:ext cx="45478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Main natural disasters: heavy rains, floods, landslides, drou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Urban floods occur frequently due to heavy 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Landslides caused by heavy rainfall and er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직사각형 1"/>
          <p:cNvSpPr/>
          <p:nvPr/>
        </p:nvSpPr>
        <p:spPr>
          <a:xfrm>
            <a:off x="174600" y="3730680"/>
            <a:ext cx="47260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Heavy rain: leads to flood damages (due to lack of social infrastructure; eg. poor drainage facilit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Landslide: Landslide damage due to heavy rainfall and er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Content Placeholder 3" descr="douala_flood_bonapriso_002"/>
          <p:cNvPicPr/>
          <p:nvPr/>
        </p:nvPicPr>
        <p:blipFill>
          <a:blip r:embed="rId2"/>
          <a:stretch/>
        </p:blipFill>
        <p:spPr>
          <a:xfrm>
            <a:off x="255600" y="4649760"/>
            <a:ext cx="2278080" cy="16048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" descr=""/>
          <p:cNvPicPr/>
          <p:nvPr/>
        </p:nvPicPr>
        <p:blipFill>
          <a:blip r:embed="rId3"/>
          <a:srcRect l="47894" t="20531" r="0" b="0"/>
          <a:stretch/>
        </p:blipFill>
        <p:spPr>
          <a:xfrm>
            <a:off x="2612880" y="4649760"/>
            <a:ext cx="220212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제목 17" descr=""/>
          <p:cNvPicPr/>
          <p:nvPr/>
        </p:nvPicPr>
        <p:blipFill>
          <a:blip r:embed="rId1"/>
          <a:stretch/>
        </p:blipFill>
        <p:spPr>
          <a:xfrm>
            <a:off x="-23760" y="42840"/>
            <a:ext cx="9764640" cy="785880"/>
          </a:xfrm>
          <a:prstGeom prst="rect">
            <a:avLst/>
          </a:prstGeom>
          <a:ln w="0">
            <a:noFill/>
          </a:ln>
        </p:spPr>
      </p:pic>
      <p:sp>
        <p:nvSpPr>
          <p:cNvPr id="249" name="TextBox 14"/>
          <p:cNvSpPr/>
          <p:nvPr/>
        </p:nvSpPr>
        <p:spPr>
          <a:xfrm>
            <a:off x="166680" y="3063960"/>
            <a:ext cx="4734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DMN is authorized by the Presidential Decree 2012/250 to develop and implement the climate policy of Cameroon Information (2012.06.01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6"/>
          <p:cNvSpPr/>
          <p:nvPr/>
        </p:nvSpPr>
        <p:spPr>
          <a:xfrm>
            <a:off x="166680" y="1425600"/>
            <a:ext cx="47340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1884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First weather station in Cameroon (operated by German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1885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Weather information first recor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1920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Established DMN during the French colonial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1960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Operation and management under Cameroon gov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56"/>
          <p:cNvSpPr/>
          <p:nvPr/>
        </p:nvSpPr>
        <p:spPr>
          <a:xfrm>
            <a:off x="166680" y="1276200"/>
            <a:ext cx="4734000" cy="135108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56"/>
          <p:cNvSpPr/>
          <p:nvPr/>
        </p:nvSpPr>
        <p:spPr>
          <a:xfrm>
            <a:off x="5005440" y="1276200"/>
            <a:ext cx="4728960" cy="291492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한쪽 모서리는 잘리고 다른 쪽 모서리는 둥근 사각형 13"/>
          <p:cNvSpPr/>
          <p:nvPr/>
        </p:nvSpPr>
        <p:spPr>
          <a:xfrm>
            <a:off x="5005440" y="1052640"/>
            <a:ext cx="391140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3) Organ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한쪽 모서리는 잘리고 다른 쪽 모서리는 둥근 사각형 9"/>
          <p:cNvSpPr/>
          <p:nvPr/>
        </p:nvSpPr>
        <p:spPr>
          <a:xfrm>
            <a:off x="166680" y="1052640"/>
            <a:ext cx="387972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1) His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56"/>
          <p:cNvSpPr/>
          <p:nvPr/>
        </p:nvSpPr>
        <p:spPr>
          <a:xfrm>
            <a:off x="166680" y="2882880"/>
            <a:ext cx="4734000" cy="376884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한쪽 모서리는 잘리고 다른 쪽 모서리는 둥근 사각형 18"/>
          <p:cNvSpPr/>
          <p:nvPr/>
        </p:nvSpPr>
        <p:spPr>
          <a:xfrm>
            <a:off x="166680" y="2703600"/>
            <a:ext cx="387972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2) 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직사각형 2"/>
          <p:cNvSpPr/>
          <p:nvPr/>
        </p:nvSpPr>
        <p:spPr>
          <a:xfrm>
            <a:off x="263520" y="4125960"/>
            <a:ext cx="454824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1.</a:t>
            </a:r>
            <a:r>
              <a:rPr b="0" lang="ko-KR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Weather and Climate Monito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2.</a:t>
            </a:r>
            <a:r>
              <a:rPr b="0" lang="ko-KR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Met. Data collection and process (International, Domestic)</a:t>
            </a:r>
            <a:r>
              <a:rPr b="0" lang="ko-KR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3. Analysis of collected met.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4. Foreca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5.</a:t>
            </a:r>
            <a:r>
              <a:rPr b="0" lang="ko-KR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Public Weather Serv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6. Met. Statistics &amp; Climate data manag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7. Monitoring of weather surveillance center in the airpo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8. Management of WMO rel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9. Management of implementation on met / atmospheric related agreement and protoc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356"/>
          <p:cNvSpPr/>
          <p:nvPr/>
        </p:nvSpPr>
        <p:spPr>
          <a:xfrm>
            <a:off x="255600" y="4125960"/>
            <a:ext cx="4556160" cy="234792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직사각형 22"/>
          <p:cNvSpPr/>
          <p:nvPr/>
        </p:nvSpPr>
        <p:spPr>
          <a:xfrm>
            <a:off x="255600" y="3875040"/>
            <a:ext cx="1165320" cy="250920"/>
          </a:xfrm>
          <a:prstGeom prst="rect">
            <a:avLst/>
          </a:prstGeom>
          <a:solidFill>
            <a:srgbClr val="2f5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나눔고딕"/>
                <a:ea typeface="나눔고딕"/>
              </a:rPr>
              <a:t>Mi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5964120" y="1774800"/>
            <a:ext cx="2811600" cy="2357640"/>
          </a:xfrm>
          <a:prstGeom prst="rect">
            <a:avLst/>
          </a:prstGeom>
          <a:ln w="0">
            <a:noFill/>
          </a:ln>
        </p:spPr>
      </p:pic>
      <p:sp>
        <p:nvSpPr>
          <p:cNvPr id="261" name="TextBox 24"/>
          <p:cNvSpPr/>
          <p:nvPr/>
        </p:nvSpPr>
        <p:spPr>
          <a:xfrm>
            <a:off x="5005440" y="1425600"/>
            <a:ext cx="47289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1 director, 2 sub-departments, and 8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356"/>
          <p:cNvSpPr/>
          <p:nvPr/>
        </p:nvSpPr>
        <p:spPr>
          <a:xfrm>
            <a:off x="5005440" y="4451400"/>
            <a:ext cx="4728960" cy="220032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한쪽 모서리는 잘리고 다른 쪽 모서리는 둥근 사각형 25"/>
          <p:cNvSpPr/>
          <p:nvPr/>
        </p:nvSpPr>
        <p:spPr>
          <a:xfrm>
            <a:off x="5005440" y="4272120"/>
            <a:ext cx="391140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4) Man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5041800" y="5000760"/>
          <a:ext cx="4656240" cy="531720"/>
        </p:xfrm>
        <a:graphic>
          <a:graphicData uri="http://schemas.openxmlformats.org/drawingml/2006/table">
            <a:tbl>
              <a:tblPr/>
              <a:tblGrid>
                <a:gridCol w="1569960"/>
                <a:gridCol w="3086280"/>
              </a:tblGrid>
              <a:tr h="268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Total Quo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Current Stat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263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3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63 (HQ: 18, Region: 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5" name="직사각형 30"/>
          <p:cNvSpPr/>
          <p:nvPr/>
        </p:nvSpPr>
        <p:spPr>
          <a:xfrm>
            <a:off x="5005440" y="5545080"/>
            <a:ext cx="47289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150000"/>
              </a:lnSpc>
              <a:buClr>
                <a:srgbClr val="000000"/>
              </a:buClr>
              <a:buSzPct val="7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National Advanced School of Polytechnics: Potential staffs are tr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5040360" y="5913360"/>
          <a:ext cx="4659120" cy="692280"/>
        </p:xfrm>
        <a:graphic>
          <a:graphicData uri="http://schemas.openxmlformats.org/drawingml/2006/table">
            <a:tbl>
              <a:tblPr/>
              <a:tblGrid>
                <a:gridCol w="1165320"/>
                <a:gridCol w="1164960"/>
                <a:gridCol w="1163880"/>
                <a:gridCol w="1164960"/>
              </a:tblGrid>
              <a:tr h="478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Met. Engine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Technici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Assistant engine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Assista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214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7" name="직사각형 32"/>
          <p:cNvSpPr/>
          <p:nvPr/>
        </p:nvSpPr>
        <p:spPr>
          <a:xfrm>
            <a:off x="5005440" y="4632480"/>
            <a:ext cx="47289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Current staff number of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DMN: 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제목 17" descr=""/>
          <p:cNvPicPr/>
          <p:nvPr/>
        </p:nvPicPr>
        <p:blipFill>
          <a:blip r:embed="rId1"/>
          <a:stretch/>
        </p:blipFill>
        <p:spPr>
          <a:xfrm>
            <a:off x="-23760" y="42840"/>
            <a:ext cx="9764640" cy="785880"/>
          </a:xfrm>
          <a:prstGeom prst="rect">
            <a:avLst/>
          </a:prstGeom>
          <a:ln w="0">
            <a:noFill/>
          </a:ln>
        </p:spPr>
      </p:pic>
      <p:sp>
        <p:nvSpPr>
          <p:cNvPr id="269" name="TextBox 13"/>
          <p:cNvSpPr/>
          <p:nvPr/>
        </p:nvSpPr>
        <p:spPr>
          <a:xfrm>
            <a:off x="166680" y="1424160"/>
            <a:ext cx="4734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Director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– NMC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– Service of observation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204840" y="2362320"/>
          <a:ext cx="4657680" cy="2490840"/>
        </p:xfrm>
        <a:graphic>
          <a:graphicData uri="http://schemas.openxmlformats.org/drawingml/2006/table">
            <a:tbl>
              <a:tblPr/>
              <a:tblGrid>
                <a:gridCol w="1090440"/>
                <a:gridCol w="809640"/>
                <a:gridCol w="2757600"/>
              </a:tblGrid>
              <a:tr h="4204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i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ff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n du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4222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ad of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ce Netwo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servational network manage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278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taff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(shared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servational network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ppo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onal chie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ordinating the service in the reg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nds the monthly repo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99792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ff in reg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rface observ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ke synoptic code and repo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thly statistics of observation data and send through po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ntain the equip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1" name="Rectangle 356"/>
          <p:cNvSpPr/>
          <p:nvPr/>
        </p:nvSpPr>
        <p:spPr>
          <a:xfrm>
            <a:off x="166680" y="1276200"/>
            <a:ext cx="4734000" cy="59220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356"/>
          <p:cNvSpPr/>
          <p:nvPr/>
        </p:nvSpPr>
        <p:spPr>
          <a:xfrm>
            <a:off x="5005440" y="1276200"/>
            <a:ext cx="4728960" cy="537552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한쪽 모서리는 잘리고 다른 쪽 모서리는 둥근 사각형 33"/>
          <p:cNvSpPr/>
          <p:nvPr/>
        </p:nvSpPr>
        <p:spPr>
          <a:xfrm>
            <a:off x="16668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1) Organ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한쪽 모서리는 잘리고 다른 쪽 모서리는 둥근 사각형 7"/>
          <p:cNvSpPr/>
          <p:nvPr/>
        </p:nvSpPr>
        <p:spPr>
          <a:xfrm>
            <a:off x="500544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3) Surface Observation St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56"/>
          <p:cNvSpPr/>
          <p:nvPr/>
        </p:nvSpPr>
        <p:spPr>
          <a:xfrm>
            <a:off x="166680" y="2166840"/>
            <a:ext cx="4734000" cy="272124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한쪽 모서리는 잘리고 다른 쪽 모서리는 둥근 사각형 17"/>
          <p:cNvSpPr/>
          <p:nvPr/>
        </p:nvSpPr>
        <p:spPr>
          <a:xfrm>
            <a:off x="166680" y="194328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2) Man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5070600" y="1793880"/>
          <a:ext cx="3046320" cy="4786200"/>
        </p:xfrm>
        <a:graphic>
          <a:graphicData uri="http://schemas.openxmlformats.org/drawingml/2006/table">
            <a:tbl>
              <a:tblPr/>
              <a:tblGrid>
                <a:gridCol w="830160"/>
                <a:gridCol w="874800"/>
                <a:gridCol w="733320"/>
                <a:gridCol w="608040"/>
              </a:tblGrid>
              <a:tr h="6602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St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Observation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elemen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Observ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cyc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Data 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collec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Cyc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119232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Synoptic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Stat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(0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*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58 observation stations in pla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T, H, P, WD, WS, PCPN, SD, ST, S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Cloud(A, T, H), Visibility,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Weather phenomen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8 times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/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(hourly/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daytime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8 times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/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(hourly/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daytime)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(phone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12844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Climatological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stations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(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T (Max/min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/avg)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PCPN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(daily sum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T: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 times/day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PCPN: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 time/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 time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/day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(phone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98892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Raingauges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(</a:t>
                      </a: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0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*Plan: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600 stns, Current: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~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00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stns in oper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PCPN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(daily sum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 time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/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 time/mon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(post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AWS 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(20 Japan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8 China)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T, H, P, WD, WS, PCP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Every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5m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Every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5 m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(GPR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78" name="그림 19" descr=""/>
          <p:cNvPicPr/>
          <p:nvPr/>
        </p:nvPicPr>
        <p:blipFill>
          <a:blip r:embed="rId2"/>
          <a:srcRect l="0" t="0" r="50006" b="0"/>
          <a:stretch/>
        </p:blipFill>
        <p:spPr>
          <a:xfrm>
            <a:off x="8185320" y="1511280"/>
            <a:ext cx="1549080" cy="17654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" descr="C:\Users\JY\Downloads\3.scan\img002.jpg"/>
          <p:cNvPicPr/>
          <p:nvPr/>
        </p:nvPicPr>
        <p:blipFill>
          <a:blip r:embed="rId3"/>
          <a:srcRect l="8737" t="7107" r="11847" b="15221"/>
          <a:stretch/>
        </p:blipFill>
        <p:spPr>
          <a:xfrm>
            <a:off x="8234280" y="3281400"/>
            <a:ext cx="1500120" cy="1884240"/>
          </a:xfrm>
          <a:prstGeom prst="rect">
            <a:avLst/>
          </a:prstGeom>
          <a:ln w="0">
            <a:noFill/>
          </a:ln>
        </p:spPr>
      </p:pic>
      <p:sp>
        <p:nvSpPr>
          <p:cNvPr id="280" name="모서리가 둥근 직사각형 21"/>
          <p:cNvSpPr/>
          <p:nvPr/>
        </p:nvSpPr>
        <p:spPr>
          <a:xfrm>
            <a:off x="8238960" y="1363680"/>
            <a:ext cx="1457640" cy="206280"/>
          </a:xfrm>
          <a:prstGeom prst="roundRect">
            <a:avLst>
              <a:gd name="adj" fmla="val 16667"/>
            </a:avLst>
          </a:prstGeom>
          <a:solidFill>
            <a:srgbClr val="de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고딕"/>
                <a:ea typeface="나눔고딕"/>
              </a:rPr>
              <a:t>Surface obs. net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모서리가 둥근 직사각형 22"/>
          <p:cNvSpPr/>
          <p:nvPr/>
        </p:nvSpPr>
        <p:spPr>
          <a:xfrm>
            <a:off x="8331120" y="3335400"/>
            <a:ext cx="1365480" cy="206280"/>
          </a:xfrm>
          <a:prstGeom prst="roundRect">
            <a:avLst>
              <a:gd name="adj" fmla="val 16667"/>
            </a:avLst>
          </a:prstGeom>
          <a:solidFill>
            <a:srgbClr val="de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고딕"/>
                <a:ea typeface="나눔고딕"/>
              </a:rPr>
              <a:t>AWS net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그림 23" descr=""/>
          <p:cNvPicPr/>
          <p:nvPr/>
        </p:nvPicPr>
        <p:blipFill>
          <a:blip r:embed="rId4"/>
          <a:stretch/>
        </p:blipFill>
        <p:spPr>
          <a:xfrm>
            <a:off x="166680" y="4968720"/>
            <a:ext cx="2276640" cy="1683000"/>
          </a:xfrm>
          <a:prstGeom prst="rect">
            <a:avLst/>
          </a:prstGeom>
          <a:ln w="0">
            <a:noFill/>
          </a:ln>
        </p:spPr>
      </p:pic>
      <p:pic>
        <p:nvPicPr>
          <p:cNvPr id="283" name="그림 24" descr="E:\2018\1.프로젝트\04.(NIPA)카메룬(★)\06. 수행\07.2차출장\2018NIPA_카메룬_DMN환경조사 사진모음(기자재, 장비)_20181015_화종\2차출장\EDEA관측소(사무실1).jpg"/>
          <p:cNvPicPr/>
          <p:nvPr/>
        </p:nvPicPr>
        <p:blipFill>
          <a:blip r:embed="rId5"/>
          <a:stretch/>
        </p:blipFill>
        <p:spPr>
          <a:xfrm>
            <a:off x="2533680" y="4968720"/>
            <a:ext cx="2367000" cy="1683000"/>
          </a:xfrm>
          <a:prstGeom prst="rect">
            <a:avLst/>
          </a:prstGeom>
          <a:ln w="0">
            <a:noFill/>
          </a:ln>
        </p:spPr>
      </p:pic>
      <p:pic>
        <p:nvPicPr>
          <p:cNvPr id="284" name="그림 25" descr="E:\2018\1.프로젝트\04.(NIPA)카메룬(★)\06. 수행\07.2차출장\2018NIPA_카메룬_DMN환경조사 사진모음(기자재, 장비)_20181015_화종\2차출장\EDEA관측소(장비1).jpg"/>
          <p:cNvPicPr/>
          <p:nvPr/>
        </p:nvPicPr>
        <p:blipFill>
          <a:blip r:embed="rId6"/>
          <a:stretch/>
        </p:blipFill>
        <p:spPr>
          <a:xfrm>
            <a:off x="8185320" y="5227560"/>
            <a:ext cx="1501560" cy="13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23T14:06:50Z</dcterms:created>
  <dc:creator>WeatherPia</dc:creator>
  <dc:description/>
  <dc:language>en-US</dc:language>
  <cp:lastModifiedBy>mamiThio</cp:lastModifiedBy>
  <cp:lastPrinted>2017-12-11T09:23:58Z</cp:lastPrinted>
  <dcterms:modified xsi:type="dcterms:W3CDTF">2019-04-10T16:10:19Z</dcterms:modified>
  <cp:revision>577</cp:revision>
  <dc:subject/>
  <dc:title>PowerPoint 프레젠테이션</dc:title>
</cp:coreProperties>
</file>