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BA726-A7B3-4FEA-8F98-B4CF78F1A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248F1-E86C-4D5F-B5BD-89D2388AB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59E5-B3B3-41C6-9A2A-4336B0235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E2897-D430-455B-8BB9-FB7383DAB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50CAD-3630-42B5-BE16-9AB90C52D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6251-A6CF-4C2D-8A73-74216B11B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D966-32DC-4A79-8DA6-0EC039A4FB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ED66-A54A-4EF1-9613-E06954851A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A052-41EF-4783-94FD-8AC417B5EB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11EE-2695-4565-9E9C-BCD197B2E5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576D-6A9E-4B0D-990E-7F1E09E058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D501-5A5B-42BA-97F6-5D71BE0E4E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2D3E-D15F-4CEC-BB81-76C313719D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69E3D-886D-42F5-9495-0E09F23B3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32AA-DE0D-4138-92F4-F2308E52C9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C468-C44D-4819-BD78-C0EF304330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2584-699F-46D2-AEA4-3472D2B18D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D52B-6FBE-4614-8BEB-55354E1559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11A0-3E4F-45B7-B403-1A810757D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209C-C60D-4446-8790-F25811E43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02D7-2CB9-41EB-8B5F-0A380C8C5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5050-0FC4-4EA1-B0A7-1E87E8748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2AA4-4774-4FE3-9E6B-AE5622161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E36A-99B9-4799-836B-E539B24FF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C29C-C073-4757-85D5-145EEE49E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F745-A290-4619-A3A9-9A3A9E9435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59DFA-F05B-4A93-BD45-80B442F3D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wmo2016_powerpoint_standard_v2-2.jpg"/>
          <p:cNvPicPr/>
          <p:nvPr/>
        </p:nvPicPr>
        <p:blipFill>
          <a:blip r:embed="rId3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D5B228-1AC0-450A-9B92-4ADF0661C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wmo2016_powerpoint_standard_v2-1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970520" y="5899320"/>
            <a:ext cx="41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Atelier OSCAR/Surface </a:t>
            </a:r>
            <a:br>
              <a:rPr sz="2000"/>
            </a:b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Dakar/Se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hape 231"/>
          <p:cNvSpPr/>
          <p:nvPr/>
        </p:nvSpPr>
        <p:spPr>
          <a:xfrm>
            <a:off x="120600" y="1003320"/>
            <a:ext cx="8866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TCH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60760" y="2101680"/>
            <a:ext cx="632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Mr NGAKOUGNON M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Chef de Division de la Climat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ctivités de bur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lles consistent à 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llecter, contrôler, traiter, saisir et archiver les données en vue de constituer une banque de données 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fuser les informations et données météorologiques  et agrométéorologiqu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ublier les bulletins décadaires et les annuaires ;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2800" y="274320"/>
            <a:ext cx="8431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000" spc="-1" strike="noStrike">
                <a:solidFill>
                  <a:srgbClr val="000090"/>
                </a:solidFill>
                <a:latin typeface="Calibri"/>
              </a:rPr>
              <a:t>Le Personnel de l’ANAM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60360" y="792000"/>
            <a:ext cx="843120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dispose d’un personnel qualifié composé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0 Ingénieur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 Techniciens Supérieurs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 Agents Techniques en Agro météorologi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Conducteurs des travaux agricol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 Contractuel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Décisionnaires ;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80 Observateurs bénévoles travaillant au niveau de différentes stations sur l’ensemble du territoire nat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Observateurs bénéficient des primes d’encouragement du budget de l’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exte phys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8840" y="1009800"/>
            <a:ext cx="8638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domaine hydrographique  reste dominé par les cours d’eau et les lacs parmi lesquels le Chari et le Logone qui sont des cours d’eau perman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deux cours d’eau forment le système Chari-Logone dont la superficie de leur bassin versant est de 600 000 km2 à la confluence à N’Djamé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rang des lacs, le plus important est le Lac Tchad qui est une fraction résiduelle d’une vaste mer intérieure dont sa superficie varie de 25 000 km2 à moins de 7 000 à l’heure actu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58840" y="600120"/>
            <a:ext cx="8638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des nouveaux aéropor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mensionnement des routes, des barrages, des ponts et ouvrages hydrauliques en fonction des donné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électri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pour la production d’énergie éolienne ou solair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mplantation des lignes  de transport   en fonction de la vitesse de vent et de la fréquence des n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a sa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ffusion d’avis d’alerte pour la population  sur la brume de poussière (asthme), sur les fortes chaleurs (cancer et méningite), les fortes humidités  (paludisme et choléra)et les temps orageux (troubles nerveu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Exigences nationales pour les observations (suit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8840" y="600120"/>
            <a:ext cx="8638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réguliers aux agriculteurs sur l’évolution probable du temps en fonction des donné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sur le danger d’incidence de maladie de culture ou sur les possibilités de leur attaque par les insectes en fonction de l’évolution du temp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 des récoltes par région en fonction des conditions météorologiques subies et du temps pour la fin des cultur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s météorologiques à temps réel et des avis des phénomènes météorologiques dangereux (inondations et séchere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variables observées les plus perti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6440" y="1677960"/>
          <a:ext cx="8059680" cy="47149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5880"/>
                <a:gridCol w="515880"/>
                <a:gridCol w="515880"/>
                <a:gridCol w="516240"/>
                <a:gridCol w="514080"/>
                <a:gridCol w="515880"/>
                <a:gridCol w="516240"/>
                <a:gridCol w="731520"/>
                <a:gridCol w="555840"/>
                <a:gridCol w="703080"/>
                <a:gridCol w="735120"/>
                <a:gridCol w="692280"/>
              </a:tblGrid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itre 1"/>
          <p:cNvSpPr/>
          <p:nvPr/>
        </p:nvSpPr>
        <p:spPr>
          <a:xfrm>
            <a:off x="231840" y="819000"/>
            <a:ext cx="8502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s variables sont la pluviométrie, la température, le vent et l’humidité et sont illustrées dans les tableaux ci-aprè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températures max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9240" y="831960"/>
          <a:ext cx="8529480" cy="5527440"/>
        </p:xfrm>
        <a:graphic>
          <a:graphicData uri="http://schemas.openxmlformats.org/drawingml/2006/table">
            <a:tbl>
              <a:tblPr/>
              <a:tblGrid>
                <a:gridCol w="556920"/>
                <a:gridCol w="557280"/>
                <a:gridCol w="557280"/>
                <a:gridCol w="557280"/>
                <a:gridCol w="557280"/>
                <a:gridCol w="556920"/>
                <a:gridCol w="559080"/>
                <a:gridCol w="556920"/>
                <a:gridCol w="557280"/>
                <a:gridCol w="743040"/>
                <a:gridCol w="631800"/>
                <a:gridCol w="711360"/>
                <a:gridCol w="699840"/>
                <a:gridCol w="727200"/>
              </a:tblGrid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’humidité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9560" y="941400"/>
          <a:ext cx="8321760" cy="5008680"/>
        </p:xfrm>
        <a:graphic>
          <a:graphicData uri="http://schemas.openxmlformats.org/drawingml/2006/table">
            <a:tbl>
              <a:tblPr/>
              <a:tblGrid>
                <a:gridCol w="53352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803520"/>
                <a:gridCol w="579240"/>
                <a:gridCol w="727200"/>
                <a:gridCol w="726840"/>
                <a:gridCol w="681120"/>
              </a:tblGrid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Example d’une liste de 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4520" y="1397160"/>
          <a:ext cx="7861320" cy="6237000"/>
        </p:xfrm>
        <a:graphic>
          <a:graphicData uri="http://schemas.openxmlformats.org/drawingml/2006/table">
            <a:tbl>
              <a:tblPr/>
              <a:tblGrid>
                <a:gridCol w="1122120"/>
                <a:gridCol w="1123920"/>
                <a:gridCol w="1122480"/>
                <a:gridCol w="1123920"/>
                <a:gridCol w="1122480"/>
                <a:gridCol w="1122120"/>
                <a:gridCol w="1124280"/>
              </a:tblGrid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t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ng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ion temp,hum , hp, vent, évapo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’djamé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,hum,hp,pression, vent,insol,évap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éché</a:t>
                      </a:r>
                      <a:fld id="{4691966C-2B34-4DE7-AF03-F6044DAB93DD}" type="slidenum"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number&gt;</a:t>
                      </a:fld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’une manière générale, L’ANAM vient d’être m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place  avec ses différentes structures, 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imons  que son lancement va se déroul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nière  progressive  pour  assumer la mission  qui lui est fix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exte physique du TC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ventaire des capacités d'observation nationales actu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wmo2016_powerpoint_standard_v2.jp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itle 1"/>
          <p:cNvSpPr/>
          <p:nvPr/>
        </p:nvSpPr>
        <p:spPr>
          <a:xfrm>
            <a:off x="457200" y="2001960"/>
            <a:ext cx="82296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erci de votre aimabl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I.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ys enclavé, le Tchad couvre une superficie de 1.284.000 km² et est situé à la charnière de l’Afrique Saharienne, de l’Afrique Occidentale et de l’Afrique Centr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 population est d’environ 15 millions d’habitants à l’heure actuel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imité au Nord par la Libye, au Sud par la République Centrafricaine, à l’Est par le Soudan et à l’Ouest par le Niger, le Nigeria et le Camero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Espace réservé du contenu 3" descr=""/>
          <p:cNvPicPr/>
          <p:nvPr/>
        </p:nvPicPr>
        <p:blipFill>
          <a:blip r:embed="rId1"/>
          <a:stretch/>
        </p:blipFill>
        <p:spPr>
          <a:xfrm>
            <a:off x="2674800" y="189000"/>
            <a:ext cx="459432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90"/>
                </a:solidFill>
                <a:latin typeface="Calibri"/>
              </a:rPr>
              <a:t>Présentation de l’ANAM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contenu 2"/>
          <p:cNvSpPr/>
          <p:nvPr/>
        </p:nvSpPr>
        <p:spPr>
          <a:xfrm>
            <a:off x="457200" y="860400"/>
            <a:ext cx="82296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(ANAM) est l’émanation de la Direction Générale de la Météorologie Nationale, créée par Décret N°076/PR/PM/MACMN/20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irection Générale de la Météorologie Nationale (DGMN) est une structure technique composée d’une Direction d’Exploitation et des applications Météorologiques et une Direction de Maintenance des Réseaux Météorolog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GMN est un établissement public à caractère administratif dotée de la personnalité juridi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est créée par la loi N°035/PR/2015 et est placée sous la tutelle du Ministère de l’Aviation Civile et de la Météor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Mandat de l’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75096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a pour mission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cevoir et mettre en œuvre la politique du Gouvernement en matière de la Météorolog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Assurer la veille Météorologique sur l’évolution du clim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ettre à la disposition des usagers publics et privés les données météorologiques et climatiqu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ttre en œuvre les Conventions et les Protocoles sur les Changements Climat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 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icultés/Contrai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ssumer sa mission, l’ANAM rencontre d’énormes difficultés d’ordre technique et financ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techniqu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Insuffisance de personnel qualifi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Structure d’observation en état d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délabrement avanc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Faible densité du réseau d’observati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s moyens roulants et matériel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pou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missions de terrains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financi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ponibilité financi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EAU D’OBSRVATION : l’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008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ploite 17 stations synoptiques avec l’ASEC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8 stations climatologiques dont 2 seulement fonctionnent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8 stations agro météorologiques dont 5 fonctionnent partiellement et 23 non foncti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03 postes pluviométriques dont 95 fonctionnel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4 stations hydrologiques dont 14 fonctionnelles gérées par la D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activités de l’A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s sont de deux ord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burea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ter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1T14:56:00Z</dcterms:created>
  <dc:creator>Timo Proescholdt</dc:creator>
  <dc:description/>
  <dc:language>en-US</dc:language>
  <cp:lastModifiedBy>hp</cp:lastModifiedBy>
  <dcterms:modified xsi:type="dcterms:W3CDTF">2019-04-09T09:50:26Z</dcterms:modified>
  <cp:revision>118</cp:revision>
  <dc:subject/>
  <dc:title>PowerPoint Presentation</dc:title>
</cp:coreProperties>
</file>