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907588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8F16-E975-4444-8797-E5BACD5DE2C6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3 Slayt Numarası Yer Tutucusu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89F5-CA4B-412D-A230-4B27B01F2BD1}" type="slidenum">
              <a:rPr b="0" lang="tr-T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48A-9408-48FB-A6B2-CF73E6F0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AA9-433E-426B-92F4-FDA85EE9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C35-77A0-48FE-8FB3-935D0BFC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5C3-5749-4188-993A-EB9E46C0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EEEB-0C9C-4E1B-8FCE-921ECAE6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012E-F764-4E0A-9B25-BCBC2E2B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198A-C27B-4FC3-92F6-C49C3D9F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0AC6-1536-4ED8-90E0-F91B7AFF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7F3E-CC10-46B8-9DF9-3D1DED9D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4769-6BAD-46FE-98B6-42A3143C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D071-4510-448A-B349-06DE0C0E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383-E098-4842-B313-28D43AE4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33C9-2824-47D5-B0D5-1115B32E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3884-6536-416F-9EB8-31AA16C4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B2A8-1879-4507-A7F0-F287C2E8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403E-7BA2-4F06-9BCF-C8952E4B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563F-B952-47C6-AB20-771F56CF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D8058-8B74-4FD1-B115-AF4B47A6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F8D30-EBA9-4CF0-93E4-A4A2E6B3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27CC-E50F-421C-A365-109E9820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155A-85BC-4F2F-9B47-E465B8C8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DA57D-64ED-45CF-A94F-629805D6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3D0-BABD-4A8A-A821-3FC73DC8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F498-9E3D-4B61-814D-81DC065F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25E5-DEEC-4F4F-9255-AC7EC1D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9D0F-10C8-4889-BE1A-11274319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42DE-1C48-4FE7-95D2-B699458B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E567B-ABD1-4B6F-81B1-A7C8663D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770C7-CE94-4361-8967-0756079D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761EA-A7CE-449F-B7AF-E0B617E1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F6CA2-B71B-4D93-BBB6-4D977720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0E242-EB47-4B4C-AF47-D308C476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DF051-7F59-40EF-A84A-C12134E8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253-98B4-475C-AA07-849D8AF9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A0EBD-A025-4145-89E6-992AEE2A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410BC-AFD0-4621-8AC9-3266261A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FC22-F04F-401B-81F7-A606B28A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D02E4-0399-4F9B-B521-7B6DA414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1958-A9EE-462D-AC7C-9725AD5C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0F33F-FC5E-48B6-9813-8FA4712B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750BB-7590-42B7-9E7D-55B3CF2C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A8A2C-A474-458E-BB0E-4509085D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62B9E-E049-46E4-B803-726A19F6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6E1-3738-4893-B279-5B591017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3D5-17EC-4B99-A827-0DAF188A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FF9-2E59-40CE-8140-EEF5BC4E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CA0-1EB6-4ED6-ABC9-EE3E80E9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139-84A1-44FF-BC1B-163144A8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642B-FD0F-414B-846D-BC5334019C96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9B8A-3046-48C8-A786-55F4995A87F0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F438-AAF7-4A70-8123-B8CD219458C4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2C51-8B5D-4519-8D2D-620327F86501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1 Dikdörtgen"/>
          <p:cNvSpPr/>
          <p:nvPr/>
        </p:nvSpPr>
        <p:spPr>
          <a:xfrm>
            <a:off x="598320" y="2679840"/>
            <a:ext cx="971244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0" y="0"/>
            <a:ext cx="99061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Slayt Numarası Yer Tutucusu"/>
          <p:cNvSpPr/>
          <p:nvPr/>
        </p:nvSpPr>
        <p:spPr>
          <a:xfrm>
            <a:off x="9164520" y="6492960"/>
            <a:ext cx="663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B147-45D3-4815-A21B-9DF24608F0F1}" type="slidenum">
              <a:rPr b="1" lang="tr-TR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1" lang="tr-TR" sz="1200" spc="-1" strike="noStrike">
                <a:solidFill>
                  <a:srgbClr val="7f7f7f"/>
                </a:solidFill>
                <a:latin typeface="Arial"/>
              </a:rPr>
              <a:t>/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 13" descr="bas de page.jpg"/>
          <p:cNvPicPr/>
          <p:nvPr/>
        </p:nvPicPr>
        <p:blipFill>
          <a:blip r:embed="rId1"/>
          <a:stretch/>
        </p:blipFill>
        <p:spPr>
          <a:xfrm>
            <a:off x="0" y="5857920"/>
            <a:ext cx="9826560" cy="100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wmo"/>
          <p:cNvPicPr/>
          <p:nvPr/>
        </p:nvPicPr>
        <p:blipFill>
          <a:blip r:embed="rId2"/>
          <a:stretch/>
        </p:blipFill>
        <p:spPr>
          <a:xfrm>
            <a:off x="8899560" y="0"/>
            <a:ext cx="901800" cy="8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Rectangle 10"/>
          <p:cNvSpPr/>
          <p:nvPr/>
        </p:nvSpPr>
        <p:spPr>
          <a:xfrm>
            <a:off x="5110200" y="5932440"/>
            <a:ext cx="46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alibri"/>
              </a:rPr>
              <a:t>presented by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PHILIPPE RIC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271440" y="2133720"/>
            <a:ext cx="9283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Department of National Meteo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Yaoundé-Camer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200160" y="216000"/>
            <a:ext cx="6984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56800" cy="7430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6"/>
          <p:cNvSpPr/>
          <p:nvPr/>
        </p:nvSpPr>
        <p:spPr>
          <a:xfrm>
            <a:off x="5005440" y="1276200"/>
            <a:ext cx="4728960" cy="2003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Upper Air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&amp;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98360" y="1789200"/>
          <a:ext cx="4668840" cy="1603440"/>
        </p:xfrm>
        <a:graphic>
          <a:graphicData uri="http://schemas.openxmlformats.org/drawingml/2006/table">
            <a:tbl>
              <a:tblPr/>
              <a:tblGrid>
                <a:gridCol w="925560"/>
                <a:gridCol w="906480"/>
                <a:gridCol w="28368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CNA (Radiosonde: Degriee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sonde (HT03G-1U GPS, China)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pper air observation is under consideration; DMN has transferred equipment to ASECNA due to lack of observation personn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(ASECNA/CCA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Box 8"/>
          <p:cNvSpPr/>
          <p:nvPr/>
        </p:nvSpPr>
        <p:spPr>
          <a:xfrm>
            <a:off x="166680" y="14256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166680" y="3416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El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01600" y="3770280"/>
          <a:ext cx="4664160" cy="1285920"/>
        </p:xfrm>
        <a:graphic>
          <a:graphicData uri="http://schemas.openxmlformats.org/drawingml/2006/table">
            <a:tbl>
              <a:tblPr/>
              <a:tblGrid>
                <a:gridCol w="927000"/>
                <a:gridCol w="935280"/>
                <a:gridCol w="933480"/>
                <a:gridCol w="1081080"/>
                <a:gridCol w="787320"/>
              </a:tblGrid>
              <a:tr h="420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ype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collec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76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G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S, 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049720" y="1465200"/>
          <a:ext cx="4640400" cy="1733760"/>
        </p:xfrm>
        <a:graphic>
          <a:graphicData uri="http://schemas.openxmlformats.org/drawingml/2006/table">
            <a:tbl>
              <a:tblPr/>
              <a:tblGrid>
                <a:gridCol w="2319480"/>
                <a:gridCol w="2320920"/>
              </a:tblGrid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ng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 / safety of Hydro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safety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356"/>
          <p:cNvSpPr/>
          <p:nvPr/>
        </p:nvSpPr>
        <p:spPr>
          <a:xfrm>
            <a:off x="5005440" y="3546360"/>
            <a:ext cx="4728960" cy="3105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한쪽 모서리는 잘리고 다른 쪽 모서리는 둥근 사각형 15"/>
          <p:cNvSpPr/>
          <p:nvPr/>
        </p:nvSpPr>
        <p:spPr>
          <a:xfrm>
            <a:off x="5005440" y="3367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그림 18" descr="E:\2018\1.프로젝트\04.(NIPA)카메룬(★)\06. 수행\07.2차출장\카메룬1차출장\2018-07-03\DSC06008.JPG"/>
          <p:cNvPicPr/>
          <p:nvPr/>
        </p:nvPicPr>
        <p:blipFill>
          <a:blip r:embed="rId2"/>
          <a:stretch/>
        </p:blipFill>
        <p:spPr>
          <a:xfrm>
            <a:off x="206280" y="5099040"/>
            <a:ext cx="2270160" cy="1488960"/>
          </a:xfrm>
          <a:prstGeom prst="rect">
            <a:avLst/>
          </a:prstGeom>
          <a:ln w="0">
            <a:noFill/>
          </a:ln>
        </p:spPr>
      </p:pic>
      <p:pic>
        <p:nvPicPr>
          <p:cNvPr id="298" name="그림 19" descr="E:\2018\1.프로젝트\04.(NIPA)카메룬(★)\06. 수행\07.2차출장\카메룬1차출장\2018-07-03\DSC06011.JPG"/>
          <p:cNvPicPr/>
          <p:nvPr/>
        </p:nvPicPr>
        <p:blipFill>
          <a:blip r:embed="rId3"/>
          <a:stretch/>
        </p:blipFill>
        <p:spPr>
          <a:xfrm>
            <a:off x="2533680" y="5099040"/>
            <a:ext cx="2317680" cy="14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5043600" y="3797280"/>
          <a:ext cx="4651200" cy="2641680"/>
        </p:xfrm>
        <a:graphic>
          <a:graphicData uri="http://schemas.openxmlformats.org/drawingml/2006/table">
            <a:tbl>
              <a:tblPr/>
              <a:tblGrid>
                <a:gridCol w="1833480"/>
                <a:gridCol w="281772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new upper air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s to the two upper air stations that are currently in op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chase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urchase consumables for 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all high-tech observation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stallation and operation of wind profiler and radiometer at existing and new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 staffs for upper air observation ,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technical staffs for upper-air observation  based on WMO standar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77600" cy="6890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56"/>
          <p:cNvSpPr/>
          <p:nvPr/>
        </p:nvSpPr>
        <p:spPr>
          <a:xfrm>
            <a:off x="166680" y="1276200"/>
            <a:ext cx="4734000" cy="18226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Meteorological Satellit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04840" y="1473120"/>
          <a:ext cx="4657680" cy="1552680"/>
        </p:xfrm>
        <a:graphic>
          <a:graphicData uri="http://schemas.openxmlformats.org/drawingml/2006/table">
            <a:tbl>
              <a:tblPr/>
              <a:tblGrid>
                <a:gridCol w="1057320"/>
                <a:gridCol w="801720"/>
                <a:gridCol w="1003320"/>
                <a:gridCol w="760320"/>
                <a:gridCol w="1035000"/>
              </a:tblGrid>
              <a:tr h="6447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untr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9079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stationary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METS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(Vis, IR, Watervap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in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MA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356"/>
          <p:cNvSpPr/>
          <p:nvPr/>
        </p:nvSpPr>
        <p:spPr>
          <a:xfrm>
            <a:off x="166680" y="3394080"/>
            <a:ext cx="4734000" cy="32576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한쪽 모서리는 잘리고 다른 쪽 모서리는 둥근 사각형 8"/>
          <p:cNvSpPr/>
          <p:nvPr/>
        </p:nvSpPr>
        <p:spPr>
          <a:xfrm>
            <a:off x="166680" y="32130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09520" y="3630600"/>
          <a:ext cx="4673520" cy="20700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84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satelli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irect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ment of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043600" y="1468440"/>
          <a:ext cx="4672080" cy="301464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2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714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geostationary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 system to receive observation data of nearest geostationary orbiting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polar-orbit meteorological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receive observation data of polar orbiting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tellite data analysis and utilization of application feat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develop algorithms and verify calculated data required for creating meteorological el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for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ecuring professional manpower / conduct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한쪽 모서리는 잘리고 다른 쪽 모서리는 둥근 사각형 11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07480" cy="7430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56"/>
          <p:cNvSpPr/>
          <p:nvPr/>
        </p:nvSpPr>
        <p:spPr>
          <a:xfrm>
            <a:off x="166680" y="1276200"/>
            <a:ext cx="4734000" cy="33609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56"/>
          <p:cNvSpPr/>
          <p:nvPr/>
        </p:nvSpPr>
        <p:spPr>
          <a:xfrm>
            <a:off x="5005440" y="1276200"/>
            <a:ext cx="4728960" cy="2494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한쪽 모서리는 잘리고 다른 쪽 모서리는 둥근 사각형 6"/>
          <p:cNvSpPr/>
          <p:nvPr/>
        </p:nvSpPr>
        <p:spPr>
          <a:xfrm>
            <a:off x="166680" y="1052640"/>
            <a:ext cx="4167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Test &amp; Calibration Status (Met. Instru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22120" y="2058840"/>
          <a:ext cx="4621320" cy="2513160"/>
        </p:xfrm>
        <a:graphic>
          <a:graphicData uri="http://schemas.openxmlformats.org/drawingml/2006/table">
            <a:tbl>
              <a:tblPr/>
              <a:tblGrid>
                <a:gridCol w="1347840"/>
                <a:gridCol w="1521000"/>
                <a:gridCol w="1100160"/>
                <a:gridCol w="652320"/>
              </a:tblGrid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ed Instru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ying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1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thermometer,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g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mospheric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ometre, Ba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ipi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3" rowSpan="3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 Rad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 d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TextBox 10"/>
          <p:cNvSpPr/>
          <p:nvPr/>
        </p:nvSpPr>
        <p:spPr>
          <a:xfrm>
            <a:off x="166680" y="1424160"/>
            <a:ext cx="4734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Q: 1 temperature, 1 humidity, 1 air pressure calibration equipment (Chinese assistance) / No calibration instruments in regional stations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56"/>
          <p:cNvSpPr/>
          <p:nvPr/>
        </p:nvSpPr>
        <p:spPr>
          <a:xfrm>
            <a:off x="5005440" y="4092480"/>
            <a:ext cx="4728960" cy="2559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한쪽 모서리는 잘리고 다른 쪽 모서리는 둥근 사각형 14"/>
          <p:cNvSpPr/>
          <p:nvPr/>
        </p:nvSpPr>
        <p:spPr>
          <a:xfrm>
            <a:off x="5005440" y="3868560"/>
            <a:ext cx="3887640" cy="36072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033880" y="4284720"/>
          <a:ext cx="4672080" cy="222228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67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14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test &amp; calibr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tasks, such as regulations for calibration, and purchasing and operating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specialized for test &amp;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0" name="그림 16" descr="E:\2018\1.프로젝트\04.(NIPA)카메룬(★)\06. 수행\07.2차출장\카메룬2차출장\IMG_2658.jpg"/>
          <p:cNvPicPr/>
          <p:nvPr/>
        </p:nvPicPr>
        <p:blipFill>
          <a:blip r:embed="rId2"/>
          <a:stretch/>
        </p:blipFill>
        <p:spPr>
          <a:xfrm>
            <a:off x="166680" y="4729320"/>
            <a:ext cx="2340000" cy="1753920"/>
          </a:xfrm>
          <a:prstGeom prst="rect">
            <a:avLst/>
          </a:prstGeom>
          <a:ln w="0">
            <a:noFill/>
          </a:ln>
        </p:spPr>
      </p:pic>
      <p:pic>
        <p:nvPicPr>
          <p:cNvPr id="321" name="그림 18" descr="E:\2018\1.프로젝트\04.(NIPA)카메룬(★)\06. 수행\07.2차출장\카메룬2차출장\IMG_2652.jpg"/>
          <p:cNvPicPr/>
          <p:nvPr/>
        </p:nvPicPr>
        <p:blipFill>
          <a:blip r:embed="rId3"/>
          <a:stretch/>
        </p:blipFill>
        <p:spPr>
          <a:xfrm>
            <a:off x="2560680" y="4729320"/>
            <a:ext cx="2340000" cy="177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5033880" y="1481040"/>
          <a:ext cx="4672080" cy="2192400"/>
        </p:xfrm>
        <a:graphic>
          <a:graphicData uri="http://schemas.openxmlformats.org/drawingml/2006/table">
            <a:tbl>
              <a:tblPr/>
              <a:tblGrid>
                <a:gridCol w="2336760"/>
                <a:gridCol w="2335320"/>
              </a:tblGrid>
              <a:tr h="336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test &amp; calibr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ck of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uring test &amp;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04520" cy="6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210960" y="2647800"/>
          <a:ext cx="4645080" cy="1654200"/>
        </p:xfrm>
        <a:graphic>
          <a:graphicData uri="http://schemas.openxmlformats.org/drawingml/2006/table">
            <a:tbl>
              <a:tblPr/>
              <a:tblGrid>
                <a:gridCol w="1262160"/>
                <a:gridCol w="3382920"/>
              </a:tblGrid>
              <a:tr h="286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Generation of avi-met forecast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Aviation, Take-off/landing forecast, TAF) and dissemin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aounde - Nsimalen 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data collection and transmit to Douala 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vision of service (by using forecast data from Doual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Box 25"/>
          <p:cNvSpPr/>
          <p:nvPr/>
        </p:nvSpPr>
        <p:spPr>
          <a:xfrm>
            <a:off x="16668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Status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No Avi-met service in D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International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ASECNA (4 airpo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Domestic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CCAA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4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airports)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→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Planning to increase to 5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Berto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6"/>
          <p:cNvSpPr/>
          <p:nvPr/>
        </p:nvSpPr>
        <p:spPr>
          <a:xfrm>
            <a:off x="166680" y="1276200"/>
            <a:ext cx="4734000" cy="2988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56"/>
          <p:cNvSpPr/>
          <p:nvPr/>
        </p:nvSpPr>
        <p:spPr>
          <a:xfrm>
            <a:off x="5008680" y="1276200"/>
            <a:ext cx="4728960" cy="3699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Communication /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Aviation met.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6"/>
          <p:cNvSpPr/>
          <p:nvPr/>
        </p:nvSpPr>
        <p:spPr>
          <a:xfrm>
            <a:off x="166680" y="4527720"/>
            <a:ext cx="4734000" cy="2124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한쪽 모서리는 잘리고 다른 쪽 모서리는 둥근 사각형 18"/>
          <p:cNvSpPr/>
          <p:nvPr/>
        </p:nvSpPr>
        <p:spPr>
          <a:xfrm>
            <a:off x="166680" y="4348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 met.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04840" y="4983120"/>
          <a:ext cx="4656240" cy="1351080"/>
        </p:xfrm>
        <a:graphic>
          <a:graphicData uri="http://schemas.openxmlformats.org/drawingml/2006/table">
            <a:tbl>
              <a:tblPr/>
              <a:tblGrid>
                <a:gridCol w="1031760"/>
                <a:gridCol w="1890720"/>
                <a:gridCol w="1733760"/>
              </a:tblGrid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time,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711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sim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R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ed on the flight schedul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텍스트 상자 1"/>
          <p:cNvSpPr/>
          <p:nvPr/>
        </p:nvSpPr>
        <p:spPr>
          <a:xfrm>
            <a:off x="166680" y="4664160"/>
            <a:ext cx="473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 Air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166680" y="6332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 Airport: Get info from Douala (request-ba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041800" y="1747800"/>
          <a:ext cx="4662720" cy="1122480"/>
        </p:xfrm>
        <a:graphic>
          <a:graphicData uri="http://schemas.openxmlformats.org/drawingml/2006/table">
            <a:tbl>
              <a:tblPr/>
              <a:tblGrid>
                <a:gridCol w="1177920"/>
                <a:gridCol w="1177920"/>
                <a:gridCol w="2306880"/>
              </a:tblGrid>
              <a:tr h="233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1320"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 / LF Aeronautical Telecommunication / S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5041800" y="3203640"/>
          <a:ext cx="4662720" cy="1695240"/>
        </p:xfrm>
        <a:graphic>
          <a:graphicData uri="http://schemas.openxmlformats.org/drawingml/2006/table">
            <a:tbl>
              <a:tblPr/>
              <a:tblGrid>
                <a:gridCol w="1189080"/>
                <a:gridCol w="1263600"/>
                <a:gridCol w="1131840"/>
                <a:gridCol w="1078200"/>
              </a:tblGrid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cas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e-off and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ing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REPOR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endenc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time/1 day, 0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ning 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Regional, Aerod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sh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텍스트 상자 1"/>
          <p:cNvSpPr/>
          <p:nvPr/>
        </p:nvSpPr>
        <p:spPr>
          <a:xfrm>
            <a:off x="5008680" y="142092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텍스트 상자 1"/>
          <p:cNvSpPr/>
          <p:nvPr/>
        </p:nvSpPr>
        <p:spPr>
          <a:xfrm>
            <a:off x="5008680" y="287640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56"/>
          <p:cNvSpPr/>
          <p:nvPr/>
        </p:nvSpPr>
        <p:spPr>
          <a:xfrm>
            <a:off x="5008680" y="5265720"/>
            <a:ext cx="4728960" cy="1386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한쪽 모서리는 잘리고 다른 쪽 모서리는 둥근 사각형 29"/>
          <p:cNvSpPr/>
          <p:nvPr/>
        </p:nvSpPr>
        <p:spPr>
          <a:xfrm>
            <a:off x="5005440" y="50418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roblems /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070600" y="5483160"/>
          <a:ext cx="4603680" cy="1179720"/>
        </p:xfrm>
        <a:graphic>
          <a:graphicData uri="http://schemas.openxmlformats.org/drawingml/2006/table">
            <a:tbl>
              <a:tblPr/>
              <a:tblGrid>
                <a:gridCol w="2301840"/>
                <a:gridCol w="2301840"/>
              </a:tblGrid>
              <a:tr h="228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79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i-met. Service by other ag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organization in order to let DNM provide avi-met. 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rganization, Manpower, Training, Equipment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rivate station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CAPALM: 03 s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CDC: 23 raingau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DECOTON:35 pluviomet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EVECAM: 0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PULCI 47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DC:2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eation of a ministerial law that oblige any private station to declare its station to DMN and regularly transmit  their data to DM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e are in the process of collecting thes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Difficulté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0760" y="1825200"/>
            <a:ext cx="9026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étusté du rés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suffisance du pers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istence d’autres entités faisant la meteo au sein du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crutement en cours du personnel(250) tout grade confon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en cours de sauvetage des données histor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extBox 4" descr=""/>
          <p:cNvPicPr/>
          <p:nvPr/>
        </p:nvPicPr>
        <p:blipFill>
          <a:blip r:embed="rId1"/>
          <a:stretch/>
        </p:blipFill>
        <p:spPr>
          <a:xfrm>
            <a:off x="2328840" y="2036880"/>
            <a:ext cx="51753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1539720" y="2690640"/>
            <a:ext cx="71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HYSICAL NATION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ATIONAL REQUIRMENT ABOUT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VENTORY  OF OBSERVATION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CELLA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56"/>
          <p:cNvSpPr/>
          <p:nvPr/>
        </p:nvSpPr>
        <p:spPr>
          <a:xfrm>
            <a:off x="169920" y="1276200"/>
            <a:ext cx="95644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7040" y="1495440"/>
          <a:ext cx="4591080" cy="5067360"/>
        </p:xfrm>
        <a:graphic>
          <a:graphicData uri="http://schemas.openxmlformats.org/drawingml/2006/table">
            <a:tbl>
              <a:tblPr/>
              <a:tblGrid>
                <a:gridCol w="1078200"/>
                <a:gridCol w="3512880"/>
              </a:tblGrid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 of count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Camero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 (Western side), Atlantic coastal 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5,442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tropical Climate (Dry season: Dec ~ Mar / Wet season: Jun ~ No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m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c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cal capital : Yaoundé / Economic Capital : Doua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on Highlander 31%, Equitorial Bantu 19%, Kirdi 11%, Fulani 10%, Northwestern Bantu 8%, Eastern Nigritic 7%, Other African 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nch, English, traditional 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g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mism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0%), Christian (40%), Islamic 20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ce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. 1.1 (Independence from Fra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ial Re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Domestic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(GD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9 b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capita GDP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303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n CFA Fran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OF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structu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48%, Manufacturing 31%, Agriculture 22% (20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52560" rIns="52560" tIns="14400" bIns="144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roleum, Bauxite, Iron ore, Wood, Fishe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 gridSpan="2"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: 2017 World National Handbook (Korea Eximbank), Rising Africa Series - Cameroon (Africa Strategy Cent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206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3" name="직선 연결선 3"/>
          <p:cNvSpPr/>
          <p:nvPr/>
        </p:nvSpPr>
        <p:spPr>
          <a:xfrm>
            <a:off x="4933800" y="1413000"/>
            <a:ext cx="0" cy="4898880"/>
          </a:xfrm>
          <a:prstGeom prst="line">
            <a:avLst/>
          </a:prstGeom>
          <a:ln w="6480">
            <a:solidFill>
              <a:srgbClr val="2f5597"/>
            </a:solidFill>
            <a:prstDash val="sys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한쪽 모서리는 잘리고 다른 쪽 모서리는 둥근 사각형 12"/>
          <p:cNvSpPr/>
          <p:nvPr/>
        </p:nvSpPr>
        <p:spPr>
          <a:xfrm>
            <a:off x="169920" y="1052640"/>
            <a:ext cx="3762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. General status of Camer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s://www.cia.gov/library/publications/the-world-factbook/graphics/maps/large/cm-map.gif"/>
          <p:cNvPicPr/>
          <p:nvPr/>
        </p:nvPicPr>
        <p:blipFill>
          <a:blip r:embed="rId2"/>
          <a:stretch/>
        </p:blipFill>
        <p:spPr>
          <a:xfrm>
            <a:off x="5494320" y="1960560"/>
            <a:ext cx="36734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56"/>
          <p:cNvSpPr/>
          <p:nvPr/>
        </p:nvSpPr>
        <p:spPr>
          <a:xfrm>
            <a:off x="169920" y="1276200"/>
            <a:ext cx="4734000" cy="30607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한쪽 모서리는 잘리고 다른 쪽 모서리는 둥근 사각형 11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169920" y="4734000"/>
            <a:ext cx="473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equate environment for agricul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plentiful amount of natural resources (petroleum, gas, forestry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0% of population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griculture, forestry, fishery (20%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169920" y="1417680"/>
            <a:ext cx="2612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.1.1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Independence from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- Foundation of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ian National Union (CN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72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Amendment of the  Constitution (became a unitary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ministrative distri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0 regions &gt; 58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차트 19" descr=""/>
          <p:cNvPicPr/>
          <p:nvPr/>
        </p:nvPicPr>
        <p:blipFill>
          <a:blip r:embed="rId2"/>
          <a:stretch/>
        </p:blipFill>
        <p:spPr>
          <a:xfrm>
            <a:off x="4836960" y="2651040"/>
            <a:ext cx="2710080" cy="2563920"/>
          </a:xfrm>
          <a:prstGeom prst="rect">
            <a:avLst/>
          </a:prstGeom>
          <a:ln w="0">
            <a:noFill/>
          </a:ln>
        </p:spPr>
      </p:pic>
      <p:pic>
        <p:nvPicPr>
          <p:cNvPr id="192" name="그림 17" descr=""/>
          <p:cNvPicPr/>
          <p:nvPr/>
        </p:nvPicPr>
        <p:blipFill>
          <a:blip r:embed="rId3"/>
          <a:stretch/>
        </p:blipFill>
        <p:spPr>
          <a:xfrm>
            <a:off x="2903400" y="1424160"/>
            <a:ext cx="1968480" cy="2766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56"/>
          <p:cNvSpPr/>
          <p:nvPr/>
        </p:nvSpPr>
        <p:spPr>
          <a:xfrm>
            <a:off x="169920" y="4554360"/>
            <a:ext cx="4734000" cy="2097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한쪽 모서리는 잘리고 다른 쪽 모서리는 둥근 사각형 24"/>
          <p:cNvSpPr/>
          <p:nvPr/>
        </p:nvSpPr>
        <p:spPr>
          <a:xfrm>
            <a:off x="166680" y="4373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Econom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한쪽 모서리는 잘리고 다른 쪽 모서리는 둥근 사각형 26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5016600" y="1417680"/>
            <a:ext cx="47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Popul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4.01 million (Sex ratio: almost s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opulation structur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yramid type (life expectancy: 56 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population ratio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5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사각형 28"/>
          <p:cNvSpPr/>
          <p:nvPr/>
        </p:nvSpPr>
        <p:spPr>
          <a:xfrm>
            <a:off x="5005440" y="4983120"/>
            <a:ext cx="4711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bor participation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76% (steadily increa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rollment ra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rimary education - Hi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econdary education-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continuous education has not been achiev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iteracy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Relatively high (Adults: 75%, Female: 80.4%, Male: 87.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29"/>
          <p:cNvSpPr/>
          <p:nvPr/>
        </p:nvSpPr>
        <p:spPr>
          <a:xfrm>
            <a:off x="6327720" y="4614840"/>
            <a:ext cx="1887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Urbanization rate, 201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30"/>
          <p:cNvSpPr/>
          <p:nvPr/>
        </p:nvSpPr>
        <p:spPr>
          <a:xfrm>
            <a:off x="7504200" y="3882960"/>
            <a:ext cx="639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Calibri"/>
                <a:ea typeface="나눔고딕"/>
              </a:rPr>
              <a:t>카메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그림 31" descr=""/>
          <p:cNvPicPr/>
          <p:nvPr/>
        </p:nvPicPr>
        <p:blipFill>
          <a:blip r:embed="rId4"/>
          <a:stretch/>
        </p:blipFill>
        <p:spPr>
          <a:xfrm>
            <a:off x="5022720" y="2374920"/>
            <a:ext cx="46944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56"/>
          <p:cNvSpPr/>
          <p:nvPr/>
        </p:nvSpPr>
        <p:spPr>
          <a:xfrm>
            <a:off x="169920" y="1276200"/>
            <a:ext cx="4734000" cy="1393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R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56"/>
          <p:cNvSpPr/>
          <p:nvPr/>
        </p:nvSpPr>
        <p:spPr>
          <a:xfrm>
            <a:off x="5005440" y="1276200"/>
            <a:ext cx="4728960" cy="21765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3"/>
          <p:cNvSpPr/>
          <p:nvPr/>
        </p:nvSpPr>
        <p:spPr>
          <a:xfrm>
            <a:off x="16992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oads: 77,000k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pavement rate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6% (main roads, 5,100km)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Difficult to travel during wet season (unpaved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lanning to pave highway between Douala – Yaounde – Bafoussam - Douala (3,500km) by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56"/>
          <p:cNvSpPr/>
          <p:nvPr/>
        </p:nvSpPr>
        <p:spPr>
          <a:xfrm>
            <a:off x="169920" y="2903400"/>
            <a:ext cx="4734000" cy="1105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한쪽 모서리는 잘리고 다른 쪽 모서리는 둥근 사각형 36"/>
          <p:cNvSpPr/>
          <p:nvPr/>
        </p:nvSpPr>
        <p:spPr>
          <a:xfrm>
            <a:off x="166680" y="272412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7"/>
          <p:cNvSpPr/>
          <p:nvPr/>
        </p:nvSpPr>
        <p:spPr>
          <a:xfrm>
            <a:off x="166680" y="3084480"/>
            <a:ext cx="473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In reconstruction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 ASECNA  - aviation navigation  &amp;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 Civil Aviation Authority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6"/>
          <p:cNvSpPr/>
          <p:nvPr/>
        </p:nvSpPr>
        <p:spPr>
          <a:xfrm>
            <a:off x="169920" y="4246560"/>
            <a:ext cx="4734000" cy="24051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한쪽 모서리는 잘리고 다른 쪽 모서리는 둥근 사각형 39"/>
          <p:cNvSpPr/>
          <p:nvPr/>
        </p:nvSpPr>
        <p:spPr>
          <a:xfrm>
            <a:off x="166680" y="4067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Rail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0"/>
          <p:cNvSpPr/>
          <p:nvPr/>
        </p:nvSpPr>
        <p:spPr>
          <a:xfrm>
            <a:off x="166680" y="4427640"/>
            <a:ext cx="2641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ailways: 1,009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mportant transportation method for domestic cargo logistics (passenger transport is in poor stat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ditional 1,000 km railway will be constructed to transport to the export port of mineral resources with foreign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그림 41" descr=""/>
          <p:cNvPicPr/>
          <p:nvPr/>
        </p:nvPicPr>
        <p:blipFill>
          <a:blip r:embed="rId2"/>
          <a:stretch/>
        </p:blipFill>
        <p:spPr>
          <a:xfrm>
            <a:off x="2863800" y="4451400"/>
            <a:ext cx="1984320" cy="22003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56"/>
          <p:cNvSpPr/>
          <p:nvPr/>
        </p:nvSpPr>
        <p:spPr>
          <a:xfrm>
            <a:off x="5005440" y="3768840"/>
            <a:ext cx="4728960" cy="28828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한쪽 모서리는 잘리고 다른 쪽 모서리는 둥근 사각형 43"/>
          <p:cNvSpPr/>
          <p:nvPr/>
        </p:nvSpPr>
        <p:spPr>
          <a:xfrm>
            <a:off x="5005440" y="35892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5)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4"/>
          <p:cNvSpPr/>
          <p:nvPr/>
        </p:nvSpPr>
        <p:spPr>
          <a:xfrm>
            <a:off x="5013360" y="1420920"/>
            <a:ext cx="25290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 marine ports, 6 rive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ual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ccounted for 80-85% of national port log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ribi Deep Se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tarted operation in Jun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Garou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only available in the rainy season on the Benoué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그림 45" descr=""/>
          <p:cNvPicPr/>
          <p:nvPr/>
        </p:nvPicPr>
        <p:blipFill>
          <a:blip r:embed="rId3"/>
          <a:srcRect l="0" t="0" r="38158" b="0"/>
          <a:stretch/>
        </p:blipFill>
        <p:spPr>
          <a:xfrm>
            <a:off x="7542360" y="1460520"/>
            <a:ext cx="2149200" cy="19051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6"/>
          <p:cNvSpPr/>
          <p:nvPr/>
        </p:nvSpPr>
        <p:spPr>
          <a:xfrm>
            <a:off x="5005440" y="3940200"/>
            <a:ext cx="4728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ergy gener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7% hydroelectric power (other: distillation, die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power generation capacity: 1,137M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Required capacity: 2,000MW (to be increased to 3,000MW by 20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073480" y="4951440"/>
          <a:ext cx="4618080" cy="1738440"/>
        </p:xfrm>
        <a:graphic>
          <a:graphicData uri="http://schemas.openxmlformats.org/drawingml/2006/table">
            <a:tbl>
              <a:tblPr/>
              <a:tblGrid>
                <a:gridCol w="882720"/>
                <a:gridCol w="533520"/>
                <a:gridCol w="533520"/>
                <a:gridCol w="533160"/>
                <a:gridCol w="533520"/>
                <a:gridCol w="533520"/>
                <a:gridCol w="533160"/>
                <a:gridCol w="53496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ctricity suppl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30400">
                <a:tc gridSpan="8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Source : World Bank Open Data, WB(https://data.worldbank.org/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f5597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제목 17" descr=""/>
          <p:cNvPicPr/>
          <p:nvPr/>
        </p:nvPicPr>
        <p:blipFill>
          <a:blip r:embed="rId1"/>
          <a:stretch/>
        </p:blipFill>
        <p:spPr>
          <a:xfrm>
            <a:off x="-12600" y="42840"/>
            <a:ext cx="975348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56"/>
          <p:cNvSpPr/>
          <p:nvPr/>
        </p:nvSpPr>
        <p:spPr>
          <a:xfrm>
            <a:off x="166680" y="1276200"/>
            <a:ext cx="83008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166680" y="1425600"/>
            <a:ext cx="2633760" cy="19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Centr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(western side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(Lat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)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475,442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  <a:ea typeface="나눔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eighboring countries: Nigeria, Chad, Central African Republic, Congo, Gabon, Equatorial Gui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03040" y="3157560"/>
          <a:ext cx="2508480" cy="1584360"/>
        </p:xfrm>
        <a:graphic>
          <a:graphicData uri="http://schemas.openxmlformats.org/drawingml/2006/table">
            <a:tbl>
              <a:tblPr/>
              <a:tblGrid>
                <a:gridCol w="573120"/>
                <a:gridCol w="747720"/>
                <a:gridCol w="11876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0 ~6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High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 9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damawa plateau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37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vann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ownsl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oun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t. Cameroon (Alt: 4,070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그림 37" descr="E:\2018\1.프로젝트\04.(NIPA)카메룬(★)\06. 수행\03.자료수집\00.그림자료\Cameroon_Topography.png"/>
          <p:cNvPicPr/>
          <p:nvPr/>
        </p:nvPicPr>
        <p:blipFill>
          <a:blip r:embed="rId2"/>
          <a:stretch/>
        </p:blipFill>
        <p:spPr>
          <a:xfrm>
            <a:off x="3824280" y="1428840"/>
            <a:ext cx="4299120" cy="33274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8"/>
          <p:cNvSpPr/>
          <p:nvPr/>
        </p:nvSpPr>
        <p:spPr>
          <a:xfrm>
            <a:off x="174600" y="5018040"/>
            <a:ext cx="25369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ri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anaga River: (Origin) Adamawa Plateau, (Destination) Atlantic ocea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enue River: (Origin) Adamawa Plateau, (Destination) 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그림 62" descr=""/>
          <p:cNvPicPr/>
          <p:nvPr/>
        </p:nvPicPr>
        <p:blipFill>
          <a:blip r:embed="rId3"/>
          <a:stretch/>
        </p:blipFill>
        <p:spPr>
          <a:xfrm>
            <a:off x="4119480" y="5016600"/>
            <a:ext cx="398628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Natural dis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External environmen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174600" y="1413000"/>
            <a:ext cx="472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squalls, wind storms, thunderstorms, desertification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90520" y="2171880"/>
          <a:ext cx="4610160" cy="1430280"/>
        </p:xfrm>
        <a:graphic>
          <a:graphicData uri="http://schemas.openxmlformats.org/drawingml/2006/table">
            <a:tbl>
              <a:tblPr/>
              <a:tblGrid>
                <a:gridCol w="1027080"/>
                <a:gridCol w="816120"/>
                <a:gridCol w="922320"/>
                <a:gridCol w="823680"/>
                <a:gridCol w="1020960"/>
              </a:tblGrid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atural disas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ccur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asual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ju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mage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thousand US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9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l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75,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rou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8,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Volcanic 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3,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Landsl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444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rce: EM-DAT: The Emergency Events Database - Universite catholique de Louvain (UCL) - CRED, D. Guha-Sapir - www.emdat.be, Brussels, Belgium : April 16, 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356"/>
          <p:cNvSpPr/>
          <p:nvPr/>
        </p:nvSpPr>
        <p:spPr>
          <a:xfrm>
            <a:off x="5089680" y="1690560"/>
            <a:ext cx="4555800" cy="1238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0"/>
          <p:cNvSpPr/>
          <p:nvPr/>
        </p:nvSpPr>
        <p:spPr>
          <a:xfrm>
            <a:off x="5089680" y="144000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ⓐ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6"/>
          <p:cNvSpPr/>
          <p:nvPr/>
        </p:nvSpPr>
        <p:spPr>
          <a:xfrm>
            <a:off x="5089680" y="325584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4"/>
          <p:cNvSpPr/>
          <p:nvPr/>
        </p:nvSpPr>
        <p:spPr>
          <a:xfrm>
            <a:off x="5089680" y="300528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ⓑ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Climate</a:t>
            </a: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6"/>
          <p:cNvSpPr/>
          <p:nvPr/>
        </p:nvSpPr>
        <p:spPr>
          <a:xfrm>
            <a:off x="5089680" y="452448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46"/>
          <p:cNvSpPr/>
          <p:nvPr/>
        </p:nvSpPr>
        <p:spPr>
          <a:xfrm>
            <a:off x="5089680" y="4273560"/>
            <a:ext cx="131904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ⓒ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Natural disa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텍스트 상자 2"/>
          <p:cNvSpPr/>
          <p:nvPr/>
        </p:nvSpPr>
        <p:spPr>
          <a:xfrm>
            <a:off x="5097600" y="17114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t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75,442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ased on 6° N La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outh – plains, North – plateau (high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텍스트 상자 12"/>
          <p:cNvSpPr/>
          <p:nvPr/>
        </p:nvSpPr>
        <p:spPr>
          <a:xfrm>
            <a:off x="5089680" y="3251160"/>
            <a:ext cx="45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öppen climate zo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Af, Am, Aw, BSh, BW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ythergrap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ecrease in precipitation toward north (desert cli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텍스트 상자 14"/>
          <p:cNvSpPr/>
          <p:nvPr/>
        </p:nvSpPr>
        <p:spPr>
          <a:xfrm>
            <a:off x="5097600" y="45356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floods occur frequently due to heavy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s caused by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1"/>
          <p:cNvSpPr/>
          <p:nvPr/>
        </p:nvSpPr>
        <p:spPr>
          <a:xfrm>
            <a:off x="174600" y="3730680"/>
            <a:ext cx="472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eavy rain: leads to flood damages (due to lack of social infrastructure; eg. poor drainage facil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: Landslide damage due to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Content Placeholder 3" descr="douala_flood_bonapriso_002"/>
          <p:cNvPicPr/>
          <p:nvPr/>
        </p:nvPicPr>
        <p:blipFill>
          <a:blip r:embed="rId2"/>
          <a:stretch/>
        </p:blipFill>
        <p:spPr>
          <a:xfrm>
            <a:off x="255600" y="4649760"/>
            <a:ext cx="2278080" cy="160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3"/>
          <a:srcRect l="47894" t="20531" r="0" b="0"/>
          <a:stretch/>
        </p:blipFill>
        <p:spPr>
          <a:xfrm>
            <a:off x="2612880" y="4649760"/>
            <a:ext cx="22021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166680" y="306396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 is authorized by the Presidential Decree 2012/250 to develop and implement the climate policy of Cameroon Information (2012.06.01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166680" y="142560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4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irst weather station in Cameroon (operated by Germa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5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information firs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20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stablished DMN during the French coloni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Operation and management under Cameroon gov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56"/>
          <p:cNvSpPr/>
          <p:nvPr/>
        </p:nvSpPr>
        <p:spPr>
          <a:xfrm>
            <a:off x="166680" y="1276200"/>
            <a:ext cx="4734000" cy="1351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56"/>
          <p:cNvSpPr/>
          <p:nvPr/>
        </p:nvSpPr>
        <p:spPr>
          <a:xfrm>
            <a:off x="5005440" y="1276200"/>
            <a:ext cx="4728960" cy="2914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한쪽 모서리는 잘리고 다른 쪽 모서리는 둥근 사각형 13"/>
          <p:cNvSpPr/>
          <p:nvPr/>
        </p:nvSpPr>
        <p:spPr>
          <a:xfrm>
            <a:off x="5005440" y="105264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한쪽 모서리는 잘리고 다른 쪽 모서리는 둥근 사각형 9"/>
          <p:cNvSpPr/>
          <p:nvPr/>
        </p:nvSpPr>
        <p:spPr>
          <a:xfrm>
            <a:off x="166680" y="105264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56"/>
          <p:cNvSpPr/>
          <p:nvPr/>
        </p:nvSpPr>
        <p:spPr>
          <a:xfrm>
            <a:off x="166680" y="2882880"/>
            <a:ext cx="4734000" cy="37688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한쪽 모서리는 잘리고 다른 쪽 모서리는 둥근 사각형 18"/>
          <p:cNvSpPr/>
          <p:nvPr/>
        </p:nvSpPr>
        <p:spPr>
          <a:xfrm>
            <a:off x="166680" y="270360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2"/>
          <p:cNvSpPr/>
          <p:nvPr/>
        </p:nvSpPr>
        <p:spPr>
          <a:xfrm>
            <a:off x="263520" y="4125960"/>
            <a:ext cx="45482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1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and Climate Moni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2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Met. Data collection and process (International, Domestic)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3. Analysis of collected met.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4.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5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Public Weather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6. Met. Statistics &amp; Climate data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7. Monitoring of weather surveillance center in the air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8. Management of WMO re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9. Management of implementation on met / atmospheric related agreement and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56"/>
          <p:cNvSpPr/>
          <p:nvPr/>
        </p:nvSpPr>
        <p:spPr>
          <a:xfrm>
            <a:off x="255600" y="4125960"/>
            <a:ext cx="4556160" cy="2347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22"/>
          <p:cNvSpPr/>
          <p:nvPr/>
        </p:nvSpPr>
        <p:spPr>
          <a:xfrm>
            <a:off x="255600" y="3875040"/>
            <a:ext cx="116532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64120" y="1774800"/>
            <a:ext cx="2811600" cy="2357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4"/>
          <p:cNvSpPr/>
          <p:nvPr/>
        </p:nvSpPr>
        <p:spPr>
          <a:xfrm>
            <a:off x="5005440" y="142560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 director, 2 sub-departments, and 8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56"/>
          <p:cNvSpPr/>
          <p:nvPr/>
        </p:nvSpPr>
        <p:spPr>
          <a:xfrm>
            <a:off x="5005440" y="4451400"/>
            <a:ext cx="4728960" cy="22003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한쪽 모서리는 잘리고 다른 쪽 모서리는 둥근 사각형 25"/>
          <p:cNvSpPr/>
          <p:nvPr/>
        </p:nvSpPr>
        <p:spPr>
          <a:xfrm>
            <a:off x="5005440" y="427212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041800" y="5000760"/>
          <a:ext cx="4656240" cy="531720"/>
        </p:xfrm>
        <a:graphic>
          <a:graphicData uri="http://schemas.openxmlformats.org/drawingml/2006/table">
            <a:tbl>
              <a:tblPr/>
              <a:tblGrid>
                <a:gridCol w="1569960"/>
                <a:gridCol w="3086280"/>
              </a:tblGrid>
              <a:tr h="26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 Quo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urrent 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3 (HQ: 18, Region: 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직사각형 30"/>
          <p:cNvSpPr/>
          <p:nvPr/>
        </p:nvSpPr>
        <p:spPr>
          <a:xfrm>
            <a:off x="5005440" y="55450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ational Advanced School of Polytechnics: Potential staffs are tr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040360" y="5913360"/>
          <a:ext cx="4659120" cy="692280"/>
        </p:xfrm>
        <a:graphic>
          <a:graphicData uri="http://schemas.openxmlformats.org/drawingml/2006/table">
            <a:tbl>
              <a:tblPr/>
              <a:tblGrid>
                <a:gridCol w="1165320"/>
                <a:gridCol w="1164960"/>
                <a:gridCol w="1163880"/>
                <a:gridCol w="1164960"/>
              </a:tblGrid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.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echnic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직사각형 32"/>
          <p:cNvSpPr/>
          <p:nvPr/>
        </p:nvSpPr>
        <p:spPr>
          <a:xfrm>
            <a:off x="5005440" y="46324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staff number of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: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3"/>
          <p:cNvSpPr/>
          <p:nvPr/>
        </p:nvSpPr>
        <p:spPr>
          <a:xfrm>
            <a:off x="166680" y="142416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irector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NMC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Service of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4840" y="2362320"/>
          <a:ext cx="4657680" cy="2490840"/>
        </p:xfrm>
        <a:graphic>
          <a:graphicData uri="http://schemas.openxmlformats.org/drawingml/2006/table">
            <a:tbl>
              <a:tblPr/>
              <a:tblGrid>
                <a:gridCol w="1090440"/>
                <a:gridCol w="809640"/>
                <a:gridCol w="2757600"/>
              </a:tblGrid>
              <a:tr h="420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manag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278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(shar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chie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ng the service in the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ds the monthly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in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ynoptic code and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statistics of observation data and send through p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 the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Rectangle 356"/>
          <p:cNvSpPr/>
          <p:nvPr/>
        </p:nvSpPr>
        <p:spPr>
          <a:xfrm>
            <a:off x="166680" y="1276200"/>
            <a:ext cx="4734000" cy="592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urface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56"/>
          <p:cNvSpPr/>
          <p:nvPr/>
        </p:nvSpPr>
        <p:spPr>
          <a:xfrm>
            <a:off x="166680" y="2166840"/>
            <a:ext cx="4734000" cy="2721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한쪽 모서리는 잘리고 다른 쪽 모서리는 둥근 사각형 17"/>
          <p:cNvSpPr/>
          <p:nvPr/>
        </p:nvSpPr>
        <p:spPr>
          <a:xfrm>
            <a:off x="166680" y="1943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070600" y="1793880"/>
          <a:ext cx="3046320" cy="4786200"/>
        </p:xfrm>
        <a:graphic>
          <a:graphicData uri="http://schemas.openxmlformats.org/drawingml/2006/table">
            <a:tbl>
              <a:tblPr/>
              <a:tblGrid>
                <a:gridCol w="830160"/>
                <a:gridCol w="874800"/>
                <a:gridCol w="733320"/>
                <a:gridCol w="608040"/>
              </a:tblGrid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oll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1923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ynopt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0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 observation stations in pl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, SD, ST, S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oud(A, T, H), Visibility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ather phenomen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284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imatologic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 (Max/mi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avg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s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ingaug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Plan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0 stns, Current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~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ns in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mon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os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WS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20 Japa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China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 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GPR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8" name="그림 19" descr=""/>
          <p:cNvPicPr/>
          <p:nvPr/>
        </p:nvPicPr>
        <p:blipFill>
          <a:blip r:embed="rId2"/>
          <a:srcRect l="0" t="0" r="50006" b="0"/>
          <a:stretch/>
        </p:blipFill>
        <p:spPr>
          <a:xfrm>
            <a:off x="8185320" y="1511280"/>
            <a:ext cx="1549080" cy="1765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C:\Users\JY\Downloads\3.scan\img002.jpg"/>
          <p:cNvPicPr/>
          <p:nvPr/>
        </p:nvPicPr>
        <p:blipFill>
          <a:blip r:embed="rId3"/>
          <a:srcRect l="8737" t="7107" r="11847" b="15221"/>
          <a:stretch/>
        </p:blipFill>
        <p:spPr>
          <a:xfrm>
            <a:off x="8234280" y="3281400"/>
            <a:ext cx="1500120" cy="1884240"/>
          </a:xfrm>
          <a:prstGeom prst="rect">
            <a:avLst/>
          </a:prstGeom>
          <a:ln w="0">
            <a:noFill/>
          </a:ln>
        </p:spPr>
      </p:pic>
      <p:sp>
        <p:nvSpPr>
          <p:cNvPr id="280" name="모서리가 둥근 직사각형 21"/>
          <p:cNvSpPr/>
          <p:nvPr/>
        </p:nvSpPr>
        <p:spPr>
          <a:xfrm>
            <a:off x="8238960" y="1363680"/>
            <a:ext cx="145764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Surface obs.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모서리가 둥근 직사각형 22"/>
          <p:cNvSpPr/>
          <p:nvPr/>
        </p:nvSpPr>
        <p:spPr>
          <a:xfrm>
            <a:off x="8331120" y="3335400"/>
            <a:ext cx="136548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AWS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그림 23" descr=""/>
          <p:cNvPicPr/>
          <p:nvPr/>
        </p:nvPicPr>
        <p:blipFill>
          <a:blip r:embed="rId4"/>
          <a:stretch/>
        </p:blipFill>
        <p:spPr>
          <a:xfrm>
            <a:off x="166680" y="4968720"/>
            <a:ext cx="2276640" cy="1683000"/>
          </a:xfrm>
          <a:prstGeom prst="rect">
            <a:avLst/>
          </a:prstGeom>
          <a:ln w="0">
            <a:noFill/>
          </a:ln>
        </p:spPr>
      </p:pic>
      <p:pic>
        <p:nvPicPr>
          <p:cNvPr id="283" name="그림 24" descr="E:\2018\1.프로젝트\04.(NIPA)카메룬(★)\06. 수행\07.2차출장\2018NIPA_카메룬_DMN환경조사 사진모음(기자재, 장비)_20181015_화종\2차출장\EDEA관측소(사무실1).jpg"/>
          <p:cNvPicPr/>
          <p:nvPr/>
        </p:nvPicPr>
        <p:blipFill>
          <a:blip r:embed="rId5"/>
          <a:stretch/>
        </p:blipFill>
        <p:spPr>
          <a:xfrm>
            <a:off x="2533680" y="4968720"/>
            <a:ext cx="2367000" cy="1683000"/>
          </a:xfrm>
          <a:prstGeom prst="rect">
            <a:avLst/>
          </a:prstGeom>
          <a:ln w="0">
            <a:noFill/>
          </a:ln>
        </p:spPr>
      </p:pic>
      <p:pic>
        <p:nvPicPr>
          <p:cNvPr id="284" name="그림 25" descr="E:\2018\1.프로젝트\04.(NIPA)카메룬(★)\06. 수행\07.2차출장\2018NIPA_카메룬_DMN환경조사 사진모음(기자재, 장비)_20181015_화종\2차출장\EDEA관측소(장비1).jpg"/>
          <p:cNvPicPr/>
          <p:nvPr/>
        </p:nvPicPr>
        <p:blipFill>
          <a:blip r:embed="rId6"/>
          <a:stretch/>
        </p:blipFill>
        <p:spPr>
          <a:xfrm>
            <a:off x="8185320" y="5227560"/>
            <a:ext cx="15015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14:06:50Z</dcterms:created>
  <dc:creator>WeatherPia</dc:creator>
  <dc:description/>
  <dc:language>en-US</dc:language>
  <cp:lastModifiedBy>mamiThio</cp:lastModifiedBy>
  <cp:lastPrinted>2017-12-11T09:23:58Z</cp:lastPrinted>
  <dcterms:modified xsi:type="dcterms:W3CDTF">2019-04-10T16:10:19Z</dcterms:modified>
  <cp:revision>577</cp:revision>
  <dc:subject/>
  <dc:title>PowerPoint 프레젠테이션</dc:title>
</cp:coreProperties>
</file>