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0.jpeg" ContentType="image/jpeg"/>
  <Override PartName="/ppt/media/image30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24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9.png" ContentType="image/png"/>
  <Override PartName="/ppt/media/image22.jpeg" ContentType="image/jpeg"/>
  <Override PartName="/ppt/media/image12.png" ContentType="image/png"/>
  <Override PartName="/ppt/media/image23.jpeg" ContentType="image/jpeg"/>
  <Override PartName="/ppt/media/image2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1AA1-B096-4550-83D4-7D8086E893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D69C-66C8-4A73-892D-F03C8BD30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65CF-911A-4998-B430-21FD9775A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A94E-614E-48A0-9A4B-B4A03F205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2CD0-B3A3-4833-A073-21B2B962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0C5D-D611-4A5B-9B08-821F46FA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31B5-57CE-4465-8DCD-80A00A3B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9D13-0895-4EB5-9C2F-3F40410A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1AB2-758A-42BC-B5D6-1606BF4F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227B-E579-45EE-BDAD-46258721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4948-16EC-4BB4-BCD6-D1B136F1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3506-1304-4537-862B-17FF4AE7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370D-B9A0-4CCF-8468-83B04B9E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2AEA-64F8-45F7-9DBF-F44F1B73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6AA8-AED7-41A4-BB49-61CD72A2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C946-0BFA-4EBB-857A-67848203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26E3-1DAB-4366-9B6C-158CB69E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B5B5-DF32-47A7-A616-41A083AE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A874-1611-4C5D-BF08-648D44FC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8B39-9FCC-4437-9305-DE605EFB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90BB-99F4-4A55-8980-69AED116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63236-232F-4AE6-BC35-AC968CC0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6BBA7-CABC-4E48-943F-7B17CABA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F0535-9C30-4ED4-B19F-18B35F0B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DBA40-9D5D-4E09-9222-E08449C0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0DDB5-99C4-4DED-B59A-822A7C4A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1CE1-7CCF-45F7-9D0D-9D8B9F99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25DFF-6D06-4FDA-A5D2-0DF1586C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FFFF3-EECC-48EF-81B9-5F674F1C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DF315-8847-40F5-9179-59B6DDE6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4B37E-BFF2-4C07-800C-9EC6E243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D9A21-A3CE-49A1-B79E-5C5E2DBE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FA71A-3159-48E6-814C-6B674647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0AB72-2741-4CE1-9E40-5BE92363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46495-EAA7-4E46-940D-C3DDFBBA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1AEE3-D017-4D64-956C-008E4F00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CD05B-A564-43C3-B455-8E29C137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6893-5851-410D-8DD4-E09E7210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D26F4-76A6-43BA-90D7-6687201B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C0DDE-A90D-4EAB-948D-D65D8BAC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D3C43-7F5F-4DA8-BAA7-76B4351F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36167-A724-4F38-A773-E081338A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2F9DB-B7D8-4D47-A293-2E85044B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8D597-1864-4B46-B7CC-5E09989C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1FC5C-1A2C-4FDC-AE8C-2C6A25A0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F8E5F-9408-4F24-98EB-7F72D070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3CD5F-6558-4B8E-99A1-6F18988B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1EDD0-1B9A-4300-83C6-D54783C0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F201-2959-49F6-BFE5-F28969E4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9C00F-16A5-4B5B-8C94-51E581FE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7886C-EE7A-4B96-B406-D9C45294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874E5-C4E9-4C7C-88B9-9C44E521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E674B-8887-4D28-8DF7-47D4C865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BC6C4-B171-46E3-AC77-59976CE7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AEF04-BAC6-4976-84DA-A9DE1D46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5C3E3-0BD0-483F-BFBE-AFB5B00F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0BB67-50AD-4266-AA52-FCEFB5EF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58778-A533-423E-8CD1-75F5196D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B12F8-3F60-46A4-9D09-9DEEDBBC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E7EB-1577-4D33-AAEA-9FB2D995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CA765-C46F-4005-A752-FD873517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D677A-EEE3-4CAE-8B12-B0F8AA8C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23553-ED74-4357-82DB-DD1BC40F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061D4-7DA7-41E3-825A-50FDA76D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DB009-BC26-42BB-8878-3B296925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4E864-F6D8-4AAA-9F3E-D81C7B5A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47426-1DBD-43FA-9E7B-06CDCB76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68DE3-721F-41AA-82CF-A14A2B05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7E0C8-4856-4000-B988-517C1944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EEA88-20A7-4926-8534-84A1E484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5818-34AC-4F71-ADEB-B1A1FD47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50FB2-CB7B-4DE9-A6A3-393FD961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C6BA4-E4B8-40AD-9F76-38A21087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0377B-51C1-4C3F-84E9-C821C5F0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03151-1BA1-4960-B01D-1E3A80BE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73890-2AC0-4A33-B750-90656ABA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ED264-3E9A-4D84-9ED4-D780D810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BA82C-7560-4739-AA0B-599F962B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19B83-CBE1-4F69-AA3A-B638794E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21BBB-7DA0-4158-B35C-B019EDD7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F9697-3528-4F03-8813-2CD29D60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F00C-BC91-4C7D-AA2F-953C850A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F5AC6-170E-4542-8317-66E315DE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2FC54-0F63-413A-8CA2-F314C605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13A70-6350-423F-8469-4F8B36B4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741C7-645D-43C4-A983-C2EBBA26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4E80D-21A5-421F-BE27-4C28209E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4AE70-7FD7-4108-9F23-9248CB11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3ED13-DE86-45BD-82C3-55957566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A63A6-D0A6-451D-A7C3-9055F29A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A89A1-6346-49F9-A6E3-5C8FD2EE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91C31-59D4-4B85-8C5E-4B188D92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3888-CFC6-46FA-8BFF-DEA527F6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3E185-365A-47CB-A515-00DA19B3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A0738-B89C-42AA-867F-6C4AC809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8740A-9E81-4535-87B4-01F539DC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996AD-AC5F-4F9C-9E25-5C27914B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41042-7EDB-453E-970E-9D7B1733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60006-7EC4-4A9D-A844-A4A9938F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CB98C-C62B-45E1-8663-9E46EB0D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3F9F-BFB0-4C3E-B7C2-36653CF43C2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73C0-0A00-4BA8-9278-52575E51AF5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F21B-CEF8-45CB-A4CB-10708E955BE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FDB5-6CB7-43D4-9547-E48F632DBCB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798D-49FC-4E9E-87A0-E805CB471FA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9825-151B-4042-BF6B-D30FCE13F1D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12AF-7E92-4412-9AB5-53C359219D7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4CE1-12D5-4469-B0F3-1E692F016C7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Timor_ppt_bkg_printing"/>
          <p:cNvPicPr/>
          <p:nvPr/>
        </p:nvPicPr>
        <p:blipFill>
          <a:blip r:embed="rId1"/>
          <a:stretch/>
        </p:blipFill>
        <p:spPr>
          <a:xfrm>
            <a:off x="838080" y="2209680"/>
            <a:ext cx="7543800" cy="3732480"/>
          </a:xfrm>
          <a:prstGeom prst="rect">
            <a:avLst/>
          </a:prstGeom>
          <a:ln w="0">
            <a:noFill/>
          </a:ln>
        </p:spPr>
      </p:pic>
      <p:pic>
        <p:nvPicPr>
          <p:cNvPr id="378" name="Subtitle 2" descr=""/>
          <p:cNvPicPr/>
          <p:nvPr/>
        </p:nvPicPr>
        <p:blipFill>
          <a:blip r:embed="rId2"/>
          <a:stretch/>
        </p:blipFill>
        <p:spPr>
          <a:xfrm>
            <a:off x="-55440" y="0"/>
            <a:ext cx="4494240" cy="554040"/>
          </a:xfrm>
          <a:prstGeom prst="rect">
            <a:avLst/>
          </a:prstGeom>
          <a:ln w="0">
            <a:noFill/>
          </a:ln>
        </p:spPr>
      </p:pic>
      <p:sp>
        <p:nvSpPr>
          <p:cNvPr id="379" name="Title 1"/>
          <p:cNvSpPr/>
          <p:nvPr/>
        </p:nvSpPr>
        <p:spPr>
          <a:xfrm>
            <a:off x="609480" y="1447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COUNTRY REPO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2936160" y="2666880"/>
            <a:ext cx="32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Jakart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.Sep,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20</a:t>
            </a:r>
            <a:r>
              <a:rPr b="0" lang="id-ID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Rectangle 6"/>
          <p:cNvGrpSpPr/>
          <p:nvPr/>
        </p:nvGrpSpPr>
        <p:grpSpPr>
          <a:xfrm>
            <a:off x="731880" y="4638600"/>
            <a:ext cx="8040600" cy="1841400"/>
            <a:chOff x="731880" y="4638600"/>
            <a:chExt cx="8040600" cy="1841400"/>
          </a:xfrm>
        </p:grpSpPr>
        <p:pic>
          <p:nvPicPr>
            <p:cNvPr id="382" name="Rectangle 6" descr=""/>
            <p:cNvPicPr/>
            <p:nvPr/>
          </p:nvPicPr>
          <p:blipFill>
            <a:blip r:embed="rId3"/>
            <a:stretch/>
          </p:blipFill>
          <p:spPr>
            <a:xfrm>
              <a:off x="731880" y="4638600"/>
              <a:ext cx="804060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838080" y="4800600"/>
              <a:ext cx="77724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Lucida Sans Unicode"/>
                </a:rPr>
                <a:t>National Directorate of Meteorology and Geophysics of  Timor-Leste (DNMG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560" y="148104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MG Collected Data from 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52-1974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ortuguese time)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 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MG established DNM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gan collecting data in 2003 until now and the data DNMG takes is rainfall (monthly data), but data for now is only data from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ucau 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ct 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Dili. The data for Oe-cusse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strict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e start taking in 2015 because of new tools installed in 2015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1"/>
          <p:cNvSpPr/>
          <p:nvPr/>
        </p:nvSpPr>
        <p:spPr>
          <a:xfrm>
            <a:off x="152280" y="1522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70c0"/>
                </a:solidFill>
                <a:latin typeface="Lucida Sans Unicode"/>
              </a:rPr>
              <a:t>Examples of weather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304920" y="733320"/>
            <a:ext cx="83818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Lucida Sans Unicode"/>
              </a:rPr>
              <a:t>BOM: Forecast - Timor Leste (NT) [SEC=UNCLASSIFIED] (1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DD10170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Australian Government Bureau of Meteorology 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Northern Territory</a:t>
            </a:r>
            <a:br>
              <a:rPr sz="1400"/>
            </a:b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Timor Leste Weather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Issued at 1645 on Thursday the 10th of September 2015</a:t>
            </a:r>
            <a:br>
              <a:rPr sz="1400"/>
            </a:b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Forecast for tonight and Friday: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Partly cloudy, clearing this evening. Mostly sunny tomorrow apart from some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cloud about the ranges and southern coast. Light to moderate east to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southeasterly winds, with moderate seabreezes from mid-morning.</a:t>
            </a:r>
            <a:br>
              <a:rPr sz="1400"/>
            </a:b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Dili: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Partly cloudy, clearing this evening. Mostly sunny tomorrow. Light southeasterly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winds before a moderate northeasterly sea breeze from mid-morning.</a:t>
            </a:r>
            <a:br>
              <a:rPr sz="1400"/>
            </a:b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Min: 21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Max: 30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Outlook for the next two days: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The chance of isolated afternoon showers on and south of the ranges. Mostly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sunny elsewhere. Winds tending moderate east to southeasterly, with moderate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mid-morning sea breez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IDW20840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Australian Government Bureau of Meteorology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Western Australia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Perth Regional Forecasting Centr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Need add more staff with high capacit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Improve capacity with the training in area Forecasting, observation, instrument calibrating, models, etc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Stablish new Headquarter with the modern system for the Meteorology, Climatology and Geophysic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Stablish new AWS in other Municipal (at list 12 mor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Content Placeholder 2"/>
          <p:cNvSpPr/>
          <p:nvPr/>
        </p:nvSpPr>
        <p:spPr>
          <a:xfrm>
            <a:off x="228600" y="762120"/>
            <a:ext cx="8458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b0f0"/>
                </a:solidFill>
                <a:latin typeface="Lucida Sans Unicode"/>
              </a:rPr>
              <a:t>Support and Cooperation Partners country in Application Data Information with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Lucida Sans Unicode"/>
              </a:rPr>
              <a:t>BoM       Provide forecast for Aviation and Tropical Cyclone adversar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Lucida Sans Unicode"/>
              </a:rPr>
              <a:t>RIMES       Provide three days forecast and Earthquake and Tsunami inform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Lucida Sans Unicode"/>
              </a:rPr>
              <a:t>JMA        Provide Satellite Imagery (SATAI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Lucida Sans Unicode"/>
              </a:rPr>
              <a:t>BMKG        on going process signing MOU to provide technical assistant for training and calibration instrumen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overnment instances: Agriculture, Water Resources, Mineral Resources and NGO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ight Arrow 3"/>
          <p:cNvSpPr/>
          <p:nvPr/>
        </p:nvSpPr>
        <p:spPr>
          <a:xfrm flipV="1">
            <a:off x="1368360" y="1539720"/>
            <a:ext cx="4572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ight Arrow 5"/>
          <p:cNvSpPr/>
          <p:nvPr/>
        </p:nvSpPr>
        <p:spPr>
          <a:xfrm flipV="1">
            <a:off x="1554120" y="2209680"/>
            <a:ext cx="4572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ight Arrow 6"/>
          <p:cNvSpPr/>
          <p:nvPr/>
        </p:nvSpPr>
        <p:spPr>
          <a:xfrm flipV="1">
            <a:off x="1387440" y="2895480"/>
            <a:ext cx="4572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ight Arrow 7"/>
          <p:cNvSpPr/>
          <p:nvPr/>
        </p:nvSpPr>
        <p:spPr>
          <a:xfrm flipV="1">
            <a:off x="1593720" y="3352680"/>
            <a:ext cx="4572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le 2" descr=""/>
          <p:cNvPicPr/>
          <p:nvPr/>
        </p:nvPicPr>
        <p:blipFill>
          <a:blip r:embed="rId1"/>
          <a:stretch/>
        </p:blipFill>
        <p:spPr>
          <a:xfrm>
            <a:off x="-237960" y="268200"/>
            <a:ext cx="893124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3" descr=""/>
          <p:cNvPicPr/>
          <p:nvPr/>
        </p:nvPicPr>
        <p:blipFill>
          <a:blip r:embed="rId1"/>
          <a:stretch/>
        </p:blipFill>
        <p:spPr>
          <a:xfrm>
            <a:off x="603360" y="195120"/>
            <a:ext cx="8138880" cy="1116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D:\meteo_contry_report\20090504181022!Diplomatic_missions_in_Timor-Leste.png"/>
          <p:cNvPicPr/>
          <p:nvPr/>
        </p:nvPicPr>
        <p:blipFill>
          <a:blip r:embed="rId2"/>
          <a:stretch/>
        </p:blipFill>
        <p:spPr>
          <a:xfrm>
            <a:off x="378000" y="1596960"/>
            <a:ext cx="8467560" cy="5267520"/>
          </a:xfrm>
          <a:prstGeom prst="rect">
            <a:avLst/>
          </a:prstGeom>
          <a:ln w="0">
            <a:noFill/>
          </a:ln>
        </p:spPr>
      </p:pic>
      <p:sp>
        <p:nvSpPr>
          <p:cNvPr id="386" name="Down Arrow 5"/>
          <p:cNvSpPr/>
          <p:nvPr/>
        </p:nvSpPr>
        <p:spPr>
          <a:xfrm>
            <a:off x="7238880" y="4038480"/>
            <a:ext cx="76320" cy="914400"/>
          </a:xfrm>
          <a:prstGeom prst="downArrow">
            <a:avLst>
              <a:gd name="adj1" fmla="val 50000"/>
              <a:gd name="adj2" fmla="val 5219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3" descr="areamap"/>
          <p:cNvPicPr/>
          <p:nvPr/>
        </p:nvPicPr>
        <p:blipFill>
          <a:blip r:embed="rId3"/>
          <a:stretch/>
        </p:blipFill>
        <p:spPr>
          <a:xfrm>
            <a:off x="987480" y="3803760"/>
            <a:ext cx="3895560" cy="261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6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Democratic Republic of Timor-Leste 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9" name="Down Arrow 5"/>
          <p:cNvSpPr/>
          <p:nvPr/>
        </p:nvSpPr>
        <p:spPr>
          <a:xfrm>
            <a:off x="7315200" y="3124080"/>
            <a:ext cx="76320" cy="914400"/>
          </a:xfrm>
          <a:prstGeom prst="downArrow">
            <a:avLst>
              <a:gd name="adj1" fmla="val 50000"/>
              <a:gd name="adj2" fmla="val 5219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D:\meteo_contry_report\timor.gif"/>
          <p:cNvPicPr/>
          <p:nvPr/>
        </p:nvPicPr>
        <p:blipFill>
          <a:blip r:embed="rId1"/>
          <a:stretch/>
        </p:blipFill>
        <p:spPr>
          <a:xfrm>
            <a:off x="103320" y="212760"/>
            <a:ext cx="8613720" cy="6669000"/>
          </a:xfrm>
          <a:prstGeom prst="rect">
            <a:avLst/>
          </a:prstGeom>
          <a:ln w="0">
            <a:noFill/>
          </a:ln>
        </p:spPr>
      </p:pic>
      <p:pic>
        <p:nvPicPr>
          <p:cNvPr id="391" name="Rectangle 6" descr=""/>
          <p:cNvPicPr/>
          <p:nvPr/>
        </p:nvPicPr>
        <p:blipFill>
          <a:blip r:embed="rId2"/>
          <a:stretch/>
        </p:blipFill>
        <p:spPr>
          <a:xfrm>
            <a:off x="228600" y="504720"/>
            <a:ext cx="2514600" cy="277200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sp>
        <p:nvSpPr>
          <p:cNvPr id="392" name="Rectangle 3"/>
          <p:cNvSpPr/>
          <p:nvPr/>
        </p:nvSpPr>
        <p:spPr>
          <a:xfrm>
            <a:off x="-1409760" y="63180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Rectangle 9" descr=""/>
          <p:cNvPicPr/>
          <p:nvPr/>
        </p:nvPicPr>
        <p:blipFill>
          <a:blip r:embed="rId3"/>
          <a:stretch/>
        </p:blipFill>
        <p:spPr>
          <a:xfrm>
            <a:off x="5943600" y="2292480"/>
            <a:ext cx="321948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NMG established early 2003  under the ministry of Infrastructur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ince the referendum held on September 1999 all Meteorology Services were destroyed in Dili Capital and other districts in Timor-Leste. During the UNTAET period in Timor-Leste meteorology service were provided by Bureau of Meteorology Australia (BoM) in Darwin (just for aviation up to date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NMG become member of  WMO on 4 December 2009 (</a:t>
            </a:r>
            <a:r>
              <a:rPr b="0" lang="id-ID" sz="23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89 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Current</a:t>
            </a:r>
            <a:r>
              <a:rPr b="0" lang="id-ID" sz="2300" spc="-1" strike="noStrike">
                <a:solidFill>
                  <a:srgbClr val="000000"/>
                </a:solidFill>
                <a:latin typeface="Lucida Sans Unicode"/>
              </a:rPr>
              <a:t>ly</a:t>
            </a: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, DNMG office in DILI, under the Ministry of Public Work</a:t>
            </a:r>
            <a:r>
              <a:rPr b="0" lang="id-ID" sz="23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, Transport and Communicatio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With 2</a:t>
            </a:r>
            <a:r>
              <a:rPr b="0" lang="id-ID" sz="23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 staff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4" descr="DSC02264"/>
          <p:cNvPicPr/>
          <p:nvPr/>
        </p:nvPicPr>
        <p:blipFill>
          <a:blip r:embed="rId1"/>
          <a:stretch/>
        </p:blipFill>
        <p:spPr>
          <a:xfrm>
            <a:off x="4572000" y="4191120"/>
            <a:ext cx="4343400" cy="26668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6"/>
          <p:cNvSpPr/>
          <p:nvPr/>
        </p:nvSpPr>
        <p:spPr>
          <a:xfrm>
            <a:off x="228600" y="0"/>
            <a:ext cx="3886200" cy="3049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Facilities Infrastructure of DNM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8" descr="DSC02276"/>
          <p:cNvPicPr/>
          <p:nvPr/>
        </p:nvPicPr>
        <p:blipFill>
          <a:blip r:embed="rId2"/>
          <a:stretch/>
        </p:blipFill>
        <p:spPr>
          <a:xfrm>
            <a:off x="5791320" y="152388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100_5752"/>
          <p:cNvPicPr/>
          <p:nvPr/>
        </p:nvPicPr>
        <p:blipFill>
          <a:blip r:embed="rId3"/>
          <a:stretch/>
        </p:blipFill>
        <p:spPr>
          <a:xfrm>
            <a:off x="0" y="4172040"/>
            <a:ext cx="4267080" cy="26859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"/>
          <p:cNvPicPr/>
          <p:nvPr/>
        </p:nvPicPr>
        <p:blipFill>
          <a:blip r:embed="rId4"/>
          <a:stretch/>
        </p:blipFill>
        <p:spPr>
          <a:xfrm>
            <a:off x="0" y="1600200"/>
            <a:ext cx="5791320" cy="28954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3" descr="DSC02288"/>
          <p:cNvPicPr/>
          <p:nvPr/>
        </p:nvPicPr>
        <p:blipFill>
          <a:blip r:embed="rId5"/>
          <a:stretch/>
        </p:blipFill>
        <p:spPr>
          <a:xfrm>
            <a:off x="4884840" y="4314960"/>
            <a:ext cx="3517920" cy="2638440"/>
          </a:xfrm>
          <a:prstGeom prst="rect">
            <a:avLst/>
          </a:prstGeom>
          <a:ln w="0">
            <a:noFill/>
          </a:ln>
        </p:spPr>
      </p:pic>
      <p:sp>
        <p:nvSpPr>
          <p:cNvPr id="402" name="TextBox 8"/>
          <p:cNvSpPr/>
          <p:nvPr/>
        </p:nvSpPr>
        <p:spPr>
          <a:xfrm>
            <a:off x="609480" y="380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Times New Roman"/>
              </a:rPr>
              <a:t>2 Automatic Weather Statio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2 synoptic s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nual Weather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Times New Roman"/>
              </a:rPr>
              <a:t>CliDe System for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"/>
          <p:cNvSpPr/>
          <p:nvPr/>
        </p:nvSpPr>
        <p:spPr>
          <a:xfrm>
            <a:off x="304920" y="0"/>
            <a:ext cx="464796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spcBef>
                <a:spcPts val="1800"/>
              </a:spcBef>
              <a:buClr>
                <a:srgbClr val="ff8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DNMG </a:t>
            </a:r>
            <a:r>
              <a:rPr b="1" lang="id-ID" sz="2800" spc="-1" strike="noStrike">
                <a:solidFill>
                  <a:srgbClr val="000000"/>
                </a:solidFill>
                <a:latin typeface="Lucida Sans Unicode"/>
              </a:rPr>
              <a:t>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Observation and monitor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2"/>
          <p:cNvSpPr/>
          <p:nvPr/>
        </p:nvSpPr>
        <p:spPr>
          <a:xfrm>
            <a:off x="609480" y="10666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ucida Sans Unicode"/>
              </a:rPr>
              <a:t>Collected data from AWS and Manual 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4" descr="C:\Users\Main User\Pictures\Foto Act Servico DNMG 2008\Actividade Obs1.JPG"/>
          <p:cNvPicPr/>
          <p:nvPr/>
        </p:nvPicPr>
        <p:blipFill>
          <a:blip r:embed="rId1"/>
          <a:stretch/>
        </p:blipFill>
        <p:spPr>
          <a:xfrm>
            <a:off x="6400800" y="60948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Main User\Pictures\Foto Act Servico DNMG 2008\AWS.JPG"/>
          <p:cNvPicPr/>
          <p:nvPr/>
        </p:nvPicPr>
        <p:blipFill>
          <a:blip r:embed="rId2"/>
          <a:stretch/>
        </p:blipFill>
        <p:spPr>
          <a:xfrm>
            <a:off x="6400800" y="2514600"/>
            <a:ext cx="2371680" cy="1779480"/>
          </a:xfrm>
          <a:prstGeom prst="rect">
            <a:avLst/>
          </a:prstGeom>
          <a:ln w="0">
            <a:noFill/>
          </a:ln>
        </p:spPr>
      </p:pic>
      <p:sp>
        <p:nvSpPr>
          <p:cNvPr id="407" name="Right Arrow 3"/>
          <p:cNvSpPr/>
          <p:nvPr/>
        </p:nvSpPr>
        <p:spPr>
          <a:xfrm>
            <a:off x="2286000" y="16765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6"/>
          <p:cNvSpPr/>
          <p:nvPr/>
        </p:nvSpPr>
        <p:spPr>
          <a:xfrm>
            <a:off x="3124080" y="1676520"/>
            <a:ext cx="19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ucida Sans Unicode"/>
              </a:rPr>
              <a:t>Entry to Dat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" descr="C:\Users\Main User\Pictures\Foto Act Servico DNMG 2008\Act. weather forecaster2.JPG"/>
          <p:cNvPicPr/>
          <p:nvPr/>
        </p:nvPicPr>
        <p:blipFill>
          <a:blip r:embed="rId3"/>
          <a:stretch/>
        </p:blipFill>
        <p:spPr>
          <a:xfrm>
            <a:off x="609480" y="2247840"/>
            <a:ext cx="5131080" cy="384804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6705720" y="5105520"/>
            <a:ext cx="18288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ucida Sans Unicode"/>
              </a:rPr>
              <a:t>Analysis of RIMES NWP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Elbow Connector 9"/>
          <p:cNvCxnSpPr/>
          <p:nvPr/>
        </p:nvCxnSpPr>
        <p:spPr>
          <a:xfrm>
            <a:off x="5737320" y="4952520"/>
            <a:ext cx="892800" cy="477000"/>
          </a:xfrm>
          <a:prstGeom prst="bentConnector3">
            <a:avLst>
              <a:gd name="adj1" fmla="val 49979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Lucida Sans Unicode"/>
              </a:rPr>
              <a:t>For </a:t>
            </a:r>
            <a:r>
              <a:rPr b="0" lang="en-AU" sz="2800" spc="-1" strike="noStrike">
                <a:solidFill>
                  <a:srgbClr val="ffffff"/>
                </a:solidFill>
                <a:latin typeface="Lucida Sans Unicode"/>
              </a:rPr>
              <a:t>Hydrology there are </a:t>
            </a:r>
            <a:r>
              <a:rPr b="0" lang="id-ID" sz="2800" spc="-1" strike="noStrike">
                <a:solidFill>
                  <a:srgbClr val="ffffff"/>
                </a:solidFill>
                <a:latin typeface="Lucida Sans Unicode"/>
              </a:rPr>
              <a:t>7th</a:t>
            </a:r>
            <a:r>
              <a:rPr b="0" lang="en-AU" sz="2800" spc="-1" strike="noStrike">
                <a:solidFill>
                  <a:srgbClr val="ffffff"/>
                </a:solidFill>
                <a:latin typeface="Lucida Sans Unicode"/>
              </a:rPr>
              <a:t> automatic and manual weather station and 14 water level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Lucida Sans Unicode"/>
              </a:rPr>
              <a:t>Hydrology there are five water level monitoring stations in Dili </a:t>
            </a:r>
            <a:r>
              <a:rPr b="0" lang="id-ID" sz="2800" spc="-1" strike="noStrike">
                <a:solidFill>
                  <a:srgbClr val="ffffff"/>
                </a:solidFill>
                <a:latin typeface="Lucida Sans Unicode"/>
              </a:rPr>
              <a:t>a</a:t>
            </a:r>
            <a:r>
              <a:rPr b="0" lang="en-AU" sz="2800" spc="-1" strike="noStrike">
                <a:solidFill>
                  <a:srgbClr val="ffffff"/>
                </a:solidFill>
                <a:latin typeface="Lucida Sans Unicode"/>
              </a:rPr>
              <a:t>nd currently Hydrology can only collect data and not yet able to provide information to the public</a:t>
            </a:r>
            <a:r>
              <a:rPr b="0" lang="id-ID" sz="2800" spc="-1" strike="noStrike">
                <a:solidFill>
                  <a:srgbClr val="ffffff"/>
                </a:solidFill>
                <a:latin typeface="Lucida Sans Unicode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3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3" descr=""/>
          <p:cNvPicPr/>
          <p:nvPr/>
        </p:nvPicPr>
        <p:blipFill>
          <a:blip r:embed="rId1"/>
          <a:stretch/>
        </p:blipFill>
        <p:spPr>
          <a:xfrm>
            <a:off x="244440" y="165240"/>
            <a:ext cx="8491680" cy="1298520"/>
          </a:xfrm>
          <a:prstGeom prst="rect">
            <a:avLst/>
          </a:prstGeom>
          <a:ln w="0">
            <a:noFill/>
          </a:ln>
        </p:spPr>
      </p:pic>
      <p:pic>
        <p:nvPicPr>
          <p:cNvPr id="418" name="Content Placeholder 4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8381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4T05:40:20Z</dcterms:created>
  <dc:creator>admin</dc:creator>
  <dc:description/>
  <dc:language>en-US</dc:language>
  <cp:lastModifiedBy>USER</cp:lastModifiedBy>
  <dcterms:modified xsi:type="dcterms:W3CDTF">2018-09-18T06:10:36Z</dcterms:modified>
  <cp:revision>69</cp:revision>
  <dc:subject/>
  <dc:title>COUNTRY REPORT</dc:title>
</cp:coreProperties>
</file>