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02E6-7080-4322-B53E-ED927198A5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BE5A-E4AC-46C6-9B2C-8A1A8063B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94C6-9419-4B28-ACE1-9A1409A93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7D12-C895-4FF1-865D-98299F53E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8FD-640E-4DB7-8A8B-354FB1C5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7E4-6578-4194-8D29-F14DE88C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279-8CBF-4B8D-A626-D531062B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953-F8FD-41B0-A2B9-5E71CBC8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7E75-EC6B-41EC-9F69-C0A5890D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4FE7-BB11-4961-87A3-05FD4FD1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5191-CB94-4177-B7CE-A9D03FD2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8B62-AB61-4FD6-9ED9-AF9D7C91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83DE-A397-47B0-A9FE-53B58A5C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17C7-3EB1-4B09-963E-9809DCF7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5104-6D75-49E0-8A8C-6F346DF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48F-9515-46A1-BFA7-DDD325AA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BC57-030E-4028-9B5F-429FBEC8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7630-E322-4B52-AA01-120CAB21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125E-ACA9-4746-B5F4-562D9A6D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98CF-DD92-4E3D-8799-92178803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D434-FC78-40F3-B230-76D50772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CEAB-0009-4DA0-AA42-31338E40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ACEC-B65C-44E9-BCD4-25AB6A8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332F-3C55-4E13-87C7-0D24E34E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D7FE-A1D2-48BB-A598-B047155C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BC86-DC3B-464E-BAD1-D06CC32F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404-2337-4725-94AF-F1CDF47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EDD4-ABDD-4804-B9BB-4457A870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6C92-F229-4E3E-8679-137C960C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AF57-5C5B-42E4-B732-2E15C1AD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DCF1-F337-45CE-9C33-E4ED19F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C0D2-2ED3-4DDD-B9C8-CBDFDC66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0E27-A3E4-419A-90F4-E1FCFA48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5602-0DC7-4308-A748-9F69574D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ECEC-411B-4052-A5E4-C5A606F5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EC90-6F5D-4BA3-A7B9-DAE6B5F8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3800-2005-48C6-9D45-0DF605DF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EFE-7598-425E-81B9-C72F841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D3E1-DBFA-440F-9141-172ADA39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0F3B-9F09-4C4E-9631-0779992A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0C00-A52B-4A47-B459-267C9972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4FE7-AB10-4AEB-AA7F-2F77AC45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8F5F-B12B-4CEE-AE15-44AD3A1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F448-9EC2-49C7-A707-BC01314B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A26DA-FD99-488D-820A-A97FC52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1005-5173-4917-975D-A221BDAE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A840-BDB8-4B23-A493-2CB15F31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D8A60-5E28-4F75-8B35-C88EF09B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075-9BC9-4EC0-94A0-BA09DB1D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1F1EC-B76A-4FB6-867A-0D256664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732C7-7FB6-44E8-B038-BFE841A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A1F20-16F5-4952-8705-18F19E2E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22A82-31B9-40B6-ACF9-16553076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FA4E-4BCD-4A40-B91E-251F5C15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F10E1-CDD0-41AC-9FE4-34A526C6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02CB-F524-4CAA-A1DD-BAB4D720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BDF47-6ABA-45AE-8AB7-65FE7C8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05C8-009D-4161-9D62-799C3B9D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21C5-EA65-4097-8C64-F9EF9EF4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45F-66D2-4AF9-91BE-AEDF2112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9077-70D2-41B5-BB8B-95EEE1BB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9F631-A798-4259-BE6A-0A5A786E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156EA-B364-46EC-A65D-397BB567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00C3-2C7F-4177-841D-12B7AFA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60979-2D5A-4C96-92DC-7D8E8605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17D4C-352F-49F5-B125-48CC4639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861F3-B8E1-403C-9D1F-BDD8006C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9291D-CFC2-4C2C-A42F-2ED8F226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0BA40-772F-4E67-BC1F-92535C08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129CA-8CFB-47C7-8D75-674248AC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5E8-AD9A-413C-A1D3-120A894F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6A3D-F05A-4EF7-BF42-B5F78768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975AC-5974-4F41-BE8C-6B652EC0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9C7FC-16C6-451B-84C1-E6A4DCB2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BA5CE-83AF-472E-8F51-E5082E75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461AE-A5E3-4FD8-908F-C91C46C8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74A88-10DB-4FF2-90A1-B07CC316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9AD80-D8EE-4C6B-999A-EB99AEA6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317EC-93A4-4151-B0E1-E0B696DB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BFDA-1326-49B7-B72D-21B293D5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99F81-DAFA-45A1-92F6-670BD141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AD3-B6D9-4CCD-BC13-5F57EB7E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7A83-E5D9-4090-ADDB-B131E1BD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51A77-82FD-4658-85AC-DD308D3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3A2A3-D98D-4E64-9F14-5E47921B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4C1D-C65E-4B8E-993B-AE71BAC9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ECB2A-83FF-4E38-A0CF-156CC80E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05878-3DD6-4008-BE13-B604A21F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0DE9F-3EB6-4D68-8A30-A2361379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D9C90-6FD9-42E6-AB5C-AF6F6BA5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E6A22-4F33-43A3-89FD-48A59B1E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F39F5-0A94-48FE-9907-42AA1F60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A8B-9E7C-4DB2-AC64-8A379793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21ECA-2541-4B1A-8646-BF2FC9C7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438AA-5CE4-4AB5-A6E3-FB6A79E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56257-7D2E-4B5C-8EEA-C6903AC7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AE846-C762-4379-9FFC-684E467A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61D85-91E5-4872-ADEC-0C25416A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20D4A-F978-496D-BE18-34ABEF1B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DC619-6EF3-4EEC-B77B-1EE1B1AB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D927-6B18-46ED-B995-A214F2F25E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22BF-B724-4A20-865B-8DA4AFC8F88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6760-92A7-4F97-B0DE-234FBE3DBC2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65F-4E54-4CB0-AF49-6192A2FCA22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0FC5-071C-4531-A09B-90A31E93DA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9339-1CAD-4922-AE8E-E21B44736F6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3AA3-F773-46E7-A0F4-5B9B09FCC90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89C6-6D3E-4741-9752-40F5D65D6F9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Timor_ppt_bkg_printing"/>
          <p:cNvPicPr/>
          <p:nvPr/>
        </p:nvPicPr>
        <p:blipFill>
          <a:blip r:embed="rId1"/>
          <a:stretch/>
        </p:blipFill>
        <p:spPr>
          <a:xfrm>
            <a:off x="838080" y="2209680"/>
            <a:ext cx="7543800" cy="3732480"/>
          </a:xfrm>
          <a:prstGeom prst="rect">
            <a:avLst/>
          </a:prstGeom>
          <a:ln w="0">
            <a:noFill/>
          </a:ln>
        </p:spPr>
      </p:pic>
      <p:pic>
        <p:nvPicPr>
          <p:cNvPr id="378" name="Subtitle 2" descr=""/>
          <p:cNvPicPr/>
          <p:nvPr/>
        </p:nvPicPr>
        <p:blipFill>
          <a:blip r:embed="rId2"/>
          <a:stretch/>
        </p:blipFill>
        <p:spPr>
          <a:xfrm>
            <a:off x="-55440" y="0"/>
            <a:ext cx="4494240" cy="554040"/>
          </a:xfrm>
          <a:prstGeom prst="rect">
            <a:avLst/>
          </a:prstGeom>
          <a:ln w="0">
            <a:noFill/>
          </a:ln>
        </p:spPr>
      </p:pic>
      <p:sp>
        <p:nvSpPr>
          <p:cNvPr id="379" name="Title 1"/>
          <p:cNvSpPr/>
          <p:nvPr/>
        </p:nvSpPr>
        <p:spPr>
          <a:xfrm>
            <a:off x="609480" y="1447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OUNTRY REPO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936160" y="266688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Jakar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Sep,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20</a:t>
            </a: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6"/>
          <p:cNvGrpSpPr/>
          <p:nvPr/>
        </p:nvGrpSpPr>
        <p:grpSpPr>
          <a:xfrm>
            <a:off x="731880" y="4638600"/>
            <a:ext cx="8040600" cy="1841400"/>
            <a:chOff x="731880" y="4638600"/>
            <a:chExt cx="8040600" cy="1841400"/>
          </a:xfrm>
        </p:grpSpPr>
        <p:pic>
          <p:nvPicPr>
            <p:cNvPr id="382" name="Rectangle 6" descr=""/>
            <p:cNvPicPr/>
            <p:nvPr/>
          </p:nvPicPr>
          <p:blipFill>
            <a:blip r:embed="rId3"/>
            <a:stretch/>
          </p:blipFill>
          <p:spPr>
            <a:xfrm>
              <a:off x="731880" y="4638600"/>
              <a:ext cx="80406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838080" y="4800600"/>
              <a:ext cx="7772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National Directorate of Meteorology and Geophysics of  Timor-Leste (DNM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560" y="148104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Collected Data from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2-1974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ortuguese time)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established DN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gan collecting data in 2003 until now and the data DNMG takes is rainfall (monthly data), but data for now is only data fro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ucau 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ili. The data for Oe-cusse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rict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 start taking in 2015 because of new tools installed in 2015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152280" y="152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Lucida Sans Unicode"/>
              </a:rPr>
              <a:t>Examples of weathe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04920" y="733320"/>
            <a:ext cx="83818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Lucida Sans Unicode"/>
              </a:rPr>
              <a:t>BOM: Forecast - Timor Leste (NT) [SEC=UNCLASSIFIED] (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D1017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Northern Territory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imor Leste Weather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ssued at 1645 on Thursday the 10th of September 2015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Forecast for tonight and Friday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 apart from som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cloud about the ranges and southern coast. Light to moderate east to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outheasterly winds, with moderate seabreezes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ili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. Light southeaster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inds before a moderate northeasterly sea breeze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n: 21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ax: 3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Outlook for the next two days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he chance of isolated afternoon showers on and south of the ranges. Most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unny elsewhere. Winds tending moderate east to southeasterly, with moderat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d-morning sea breez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DW2084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estern Australia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erth Regional Forecasting Centr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Need add more staff with high capaci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Improve capacity with the training in area Forecasting, observation, instrument calibrating, models, et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Headquarter with the modern system for the Meteorology, Climatology and Geophys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AWS in other Municipal (at list 12 mor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Content Placeholder 2"/>
          <p:cNvSpPr/>
          <p:nvPr/>
        </p:nvSpPr>
        <p:spPr>
          <a:xfrm>
            <a:off x="22860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b0f0"/>
                </a:solidFill>
                <a:latin typeface="Lucida Sans Unicode"/>
              </a:rPr>
              <a:t>Support and Cooperation Partners country in Application Data Information wit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oM       Provide forecast for Aviation and Tropical Cyclone adver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RIMES       Provide three days forecast and Earthquake and Tsunami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JMA        Provide Satellite Imagery (SATAI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MKG        on going process signing MOU to provide technical assistant for training and calibration instru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vernment instances: Agriculture, Water Resources, Mineral Resources and NG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3"/>
          <p:cNvSpPr/>
          <p:nvPr/>
        </p:nvSpPr>
        <p:spPr>
          <a:xfrm flipV="1">
            <a:off x="1368360" y="153972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ight Arrow 5"/>
          <p:cNvSpPr/>
          <p:nvPr/>
        </p:nvSpPr>
        <p:spPr>
          <a:xfrm flipV="1">
            <a:off x="1554120" y="2209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Arrow 6"/>
          <p:cNvSpPr/>
          <p:nvPr/>
        </p:nvSpPr>
        <p:spPr>
          <a:xfrm flipV="1">
            <a:off x="1387440" y="28954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ight Arrow 7"/>
          <p:cNvSpPr/>
          <p:nvPr/>
        </p:nvSpPr>
        <p:spPr>
          <a:xfrm flipV="1">
            <a:off x="1593720" y="3352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89312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3" descr=""/>
          <p:cNvPicPr/>
          <p:nvPr/>
        </p:nvPicPr>
        <p:blipFill>
          <a:blip r:embed="rId1"/>
          <a:stretch/>
        </p:blipFill>
        <p:spPr>
          <a:xfrm>
            <a:off x="603360" y="195120"/>
            <a:ext cx="8138880" cy="111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meteo_contry_report\20090504181022!Diplomatic_missions_in_Timor-Leste.png"/>
          <p:cNvPicPr/>
          <p:nvPr/>
        </p:nvPicPr>
        <p:blipFill>
          <a:blip r:embed="rId2"/>
          <a:stretch/>
        </p:blipFill>
        <p:spPr>
          <a:xfrm>
            <a:off x="378000" y="1596960"/>
            <a:ext cx="8467560" cy="5267520"/>
          </a:xfrm>
          <a:prstGeom prst="rect">
            <a:avLst/>
          </a:prstGeom>
          <a:ln w="0">
            <a:noFill/>
          </a:ln>
        </p:spPr>
      </p:pic>
      <p:sp>
        <p:nvSpPr>
          <p:cNvPr id="386" name="Down Arrow 5"/>
          <p:cNvSpPr/>
          <p:nvPr/>
        </p:nvSpPr>
        <p:spPr>
          <a:xfrm>
            <a:off x="7238880" y="40384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areamap"/>
          <p:cNvPicPr/>
          <p:nvPr/>
        </p:nvPicPr>
        <p:blipFill>
          <a:blip r:embed="rId3"/>
          <a:stretch/>
        </p:blipFill>
        <p:spPr>
          <a:xfrm>
            <a:off x="987480" y="3803760"/>
            <a:ext cx="389556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Democratic Republic of Timor-Leste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Down Arrow 5"/>
          <p:cNvSpPr/>
          <p:nvPr/>
        </p:nvSpPr>
        <p:spPr>
          <a:xfrm>
            <a:off x="7315200" y="31240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D:\meteo_contry_report\timor.gif"/>
          <p:cNvPicPr/>
          <p:nvPr/>
        </p:nvPicPr>
        <p:blipFill>
          <a:blip r:embed="rId1"/>
          <a:stretch/>
        </p:blipFill>
        <p:spPr>
          <a:xfrm>
            <a:off x="103320" y="212760"/>
            <a:ext cx="8613720" cy="6669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6" descr=""/>
          <p:cNvPicPr/>
          <p:nvPr/>
        </p:nvPicPr>
        <p:blipFill>
          <a:blip r:embed="rId2"/>
          <a:stretch/>
        </p:blipFill>
        <p:spPr>
          <a:xfrm>
            <a:off x="228600" y="504720"/>
            <a:ext cx="2514600" cy="2772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392" name="Rectangle 3"/>
          <p:cNvSpPr/>
          <p:nvPr/>
        </p:nvSpPr>
        <p:spPr>
          <a:xfrm>
            <a:off x="-1409760" y="6318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9" descr=""/>
          <p:cNvPicPr/>
          <p:nvPr/>
        </p:nvPicPr>
        <p:blipFill>
          <a:blip r:embed="rId3"/>
          <a:stretch/>
        </p:blipFill>
        <p:spPr>
          <a:xfrm>
            <a:off x="5943600" y="2292480"/>
            <a:ext cx="32194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established early 2003  under the ministry of Infrastruct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ce the referendum held on September 1999 all Meteorology Services were destroyed in Dili Capital and other districts in Timor-Leste. During the UNTAET period in Timor-Leste meteorology service were provided by Bureau of Meteorology Australia (BoM) in Darwin (just for aviation up to dat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become member of  WMO on 4 December 2009 (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89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Current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ly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DNMG office in DILI, under the Ministry of Public Work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Transport and Communica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With 2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 staff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4" descr="DSC02264"/>
          <p:cNvPicPr/>
          <p:nvPr/>
        </p:nvPicPr>
        <p:blipFill>
          <a:blip r:embed="rId1"/>
          <a:stretch/>
        </p:blipFill>
        <p:spPr>
          <a:xfrm>
            <a:off x="4572000" y="419112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6"/>
          <p:cNvSpPr/>
          <p:nvPr/>
        </p:nvSpPr>
        <p:spPr>
          <a:xfrm>
            <a:off x="228600" y="0"/>
            <a:ext cx="3886200" cy="304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cilities Infrastructure of DN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DSC02276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100_5752"/>
          <p:cNvPicPr/>
          <p:nvPr/>
        </p:nvPicPr>
        <p:blipFill>
          <a:blip r:embed="rId3"/>
          <a:stretch/>
        </p:blipFill>
        <p:spPr>
          <a:xfrm>
            <a:off x="0" y="4172040"/>
            <a:ext cx="4267080" cy="2685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0" y="1600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DSC02288"/>
          <p:cNvPicPr/>
          <p:nvPr/>
        </p:nvPicPr>
        <p:blipFill>
          <a:blip r:embed="rId5"/>
          <a:stretch/>
        </p:blipFill>
        <p:spPr>
          <a:xfrm>
            <a:off x="4884840" y="43149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6094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 Automatic Weather St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2 synoptic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ual Weath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CliDe System fo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304920" y="0"/>
            <a:ext cx="464796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Clr>
                <a:srgbClr val="ff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NMG </a:t>
            </a:r>
            <a:r>
              <a:rPr b="1" lang="id-ID" sz="2800" spc="-1" strike="noStrike">
                <a:solidFill>
                  <a:srgbClr val="000000"/>
                </a:solidFill>
                <a:latin typeface="Lucida Sans Unicode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bservation and monito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609480" y="1066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Collected data from AWS and Manu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C:\Users\Main User\Pictures\Foto Act Servico DNMG 2008\Actividade Obs1.JPG"/>
          <p:cNvPicPr/>
          <p:nvPr/>
        </p:nvPicPr>
        <p:blipFill>
          <a:blip r:embed="rId1"/>
          <a:stretch/>
        </p:blipFill>
        <p:spPr>
          <a:xfrm>
            <a:off x="6400800" y="6094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Main User\Pictures\Foto Act Servico DNMG 2008\AWS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71680" cy="1779480"/>
          </a:xfrm>
          <a:prstGeom prst="rect">
            <a:avLst/>
          </a:prstGeom>
          <a:ln w="0">
            <a:noFill/>
          </a:ln>
        </p:spPr>
      </p:pic>
      <p:sp>
        <p:nvSpPr>
          <p:cNvPr id="407" name="Right Arrow 3"/>
          <p:cNvSpPr/>
          <p:nvPr/>
        </p:nvSpPr>
        <p:spPr>
          <a:xfrm>
            <a:off x="228600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124080" y="167652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Entry to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Main User\Pictures\Foto Act Servico DNMG 2008\Act. weather forecaster2.JPG"/>
          <p:cNvPicPr/>
          <p:nvPr/>
        </p:nvPicPr>
        <p:blipFill>
          <a:blip r:embed="rId3"/>
          <a:stretch/>
        </p:blipFill>
        <p:spPr>
          <a:xfrm>
            <a:off x="609480" y="2247840"/>
            <a:ext cx="5131080" cy="38480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6705720" y="51055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Analysis of RIMES NWP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Elbow Connector 9"/>
          <p:cNvCxnSpPr/>
          <p:nvPr/>
        </p:nvCxnSpPr>
        <p:spPr>
          <a:xfrm>
            <a:off x="5737320" y="4952520"/>
            <a:ext cx="892800" cy="477000"/>
          </a:xfrm>
          <a:prstGeom prst="bentConnector3">
            <a:avLst>
              <a:gd name="adj1" fmla="val 49979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For 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7th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 automatic and manual weather station and 14 water level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five water level monitoring stations in Dili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nd currently Hydrology can only collect data and not yet able to provide information to the public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244440" y="165240"/>
            <a:ext cx="8491680" cy="12985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4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38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5:40:20Z</dcterms:created>
  <dc:creator>admin</dc:creator>
  <dc:description/>
  <dc:language>en-US</dc:language>
  <cp:lastModifiedBy>USER</cp:lastModifiedBy>
  <dcterms:modified xsi:type="dcterms:W3CDTF">2018-09-18T06:10:36Z</dcterms:modified>
  <cp:revision>69</cp:revision>
  <dc:subject/>
  <dc:title>COUNTRY REPORT</dc:title>
</cp:coreProperties>
</file>