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0.jpeg" ContentType="image/jpeg"/>
  <Override PartName="/ppt/media/image30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2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9.png" ContentType="image/png"/>
  <Override PartName="/ppt/media/image22.jpeg" ContentType="image/jpeg"/>
  <Override PartName="/ppt/media/image12.png" ContentType="image/png"/>
  <Override PartName="/ppt/media/image23.jpeg" ContentType="image/jpeg"/>
  <Override PartName="/ppt/media/image2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01A1-295D-43A8-B2B8-C2326C5499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0F80-39A0-4E37-9100-C74F31F8A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E24D-D118-4737-A2BA-65CF85BB6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905D-ED62-45A4-BA99-6137634E5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02A-7EE6-419D-900B-007A6064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3396-1261-4FE1-9064-5757FA6A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5332-F454-452B-B68F-1BF21066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DE4E-69C5-4E5A-82B7-2950C1B5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023C-DF98-44DF-A4A6-E8A7E14E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3E3A-56CD-45EE-9FF5-8F30E074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A746-4BBD-490C-9F11-B04B6ABF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4D37-4CEB-41E2-8A6B-0661F462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AE0C-2FF8-4F52-B5B2-3F8E80B2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72CD-2A0B-4F7A-85C8-41FC96D8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7636-8146-4F17-87F2-DB28384F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0F68-1629-4271-A6D6-50C781CD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96CD-CD67-4257-B7B0-FB0FACE2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2300-BFF6-40A1-B18A-4D299DAE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3165-2A3B-4B56-955A-9B58FC9D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BA27-4BB4-401D-9906-A9F592BF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537D-71A1-49C8-9F24-E4E186AF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5FF1F-36B2-4639-BC4C-59D58F1B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61840-11F6-4662-87BE-BC35CD05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CB2CE-0D51-403D-8DC4-CFD6A30B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1C367-BCF1-4426-B7C2-8ADA1EC2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D8311-DE17-4C0D-809C-EB5CDD38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6534-39E9-425A-A525-590E3CF6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49156-42B0-4A31-B03D-678CA165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44E3B-7BB8-4146-AD28-A94340B3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E18B3-B826-4F51-A165-797BAF70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3D1F1-55CD-4E29-AA15-35699679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503EC-13A9-4E7E-827A-DDB69DA1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C83D9-CFF4-4BEF-AE70-4A6D7265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F0F64-F17B-4DBD-A8F2-351CC553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73F9E-6607-4434-9B8E-EF72E2C7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E0FA1-6F3A-4E89-B930-07B187DD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F8D10-4316-43CE-BE13-B5B4C8F8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0F6-6134-427C-8EDE-170ECF8E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D3B60-A250-4CEA-98F1-CBC7B877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13667-337D-43A9-B550-3674E484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769CB-A16C-4E22-84EC-B7F76D52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5CEA3-2EA6-4F8A-B827-DF35BD63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FFAD1-E97F-46DD-A7B6-0573F4F0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FB0FB-0A83-414E-86DC-AEE7554A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C1E96-0374-4063-B529-AF8BA964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CEA7B-666A-4647-83A2-D6E84D34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A888E-C671-4E8D-8029-C5C15B94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33A06-5C26-4BBF-9EE6-DFFCC851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DE49-BBB8-4BE6-973A-9692C749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1B5D8-9C6C-4BA9-BC6B-5DCD0B6A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51755-68DE-4ED6-8083-EFE1FFE9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14A13-DC26-4BA1-B4BD-B8F2708F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B02DC-EF54-4663-B098-3B1A0F56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7ECA2-3296-42B7-A7A6-3D3917F3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0922B-669F-4036-9ADA-7587DC71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27FF3-C4CB-479D-B65C-60FD051D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9603B-AED8-4C61-A817-B663F37F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48089-D493-46BB-9BE8-8170600B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979CE-7E8E-432E-B40B-4BFB907F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40EE-A84D-4447-91E5-7BF99E8F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A5936-22E3-47D0-98C1-C686E778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35886-E338-4F71-9AA7-BEC4F517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9EE64-1947-4E4F-9FF0-A994C81E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3C6DD-F9B6-4214-AF22-9993E9F9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E0D27-423F-4518-A060-24C94450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3179F-D876-45D2-8F39-C8E05E38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C7FB8-0D8E-4733-862C-2F15DEA8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7F807-BC4E-4100-9F27-F0116ED9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78033-8A4D-4B67-9F5E-D6DC2999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F1022-A7ED-497D-8A11-9C19ED1C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F901-A8C8-4FCC-971B-B9A9CF91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0215F-2C30-4AD2-9131-BF233F45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71F2A-E313-401F-B6F6-AB2C5C25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04CD1-0121-4525-920D-C3D06725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E7E29-FBED-4FE6-939F-D08BAFD9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16742-C838-47B1-AB91-165E39EC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A36E0-E277-4AAC-8A1A-8BDF3F26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458F5-98FD-4098-9656-CAB66B99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EE0B6-286A-477B-B0CF-CF4D3BF0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E8138-CCA0-4E14-BF18-5DBDBD67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2B8AA-CB76-460C-9045-F3D530A1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FC39-65EB-48F0-BAE2-D7277426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D24E9-A4EF-4D4C-B7A1-7EEDAAA5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D430B-EC4B-45F8-82B8-FA29BF15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6E7DF-C1CD-4031-9DF5-CD9EF84F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C2B8C-D3F4-4D53-ACD3-906A782F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25FE8-3E15-4145-89AA-75E15051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01937-FF32-44CB-8CC1-14341093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945AF-7D2C-4916-8502-E1765D2B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90A22-3A81-4A7D-950F-B2B59BEA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C3C3E-7FA3-4D47-A356-9DA62ED7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52CA8-AA11-474D-A797-FBC87CAF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1B4B-8BC1-4ABD-B10C-416AD38B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600A2-738D-452E-B324-D1AA70F6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AFA8B-D5E6-4AE8-BEE4-AB6A17EC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DA852-8FF7-4508-859C-8FB0D3F4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880E6-E090-47D8-81CF-5F4ADA04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C1127-F594-46F2-825C-E4AFFDE8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52DCC-F161-4ACE-B194-6EAE7BEB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6ABB7-8BAC-4E9B-91F0-CD8F75C1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38CD-0A2D-4DFE-A61F-435001AE2A2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74A2-6C4E-47F8-A5D2-1208D3A6D67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7997-0058-4A17-AED0-57C80AAA97A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8ED4-D9AA-4B96-AF88-6AFD79D55D1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E853-FE4C-4C3D-A8EF-23B85A57F54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DE6C-B873-4F89-A022-3856F87633B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5420-C228-4F0A-A497-60A571249E5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3251-659B-4DBB-A747-A39FE1EC06B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Timor_ppt_bkg_printing"/>
          <p:cNvPicPr/>
          <p:nvPr/>
        </p:nvPicPr>
        <p:blipFill>
          <a:blip r:embed="rId1"/>
          <a:stretch/>
        </p:blipFill>
        <p:spPr>
          <a:xfrm>
            <a:off x="838080" y="2209680"/>
            <a:ext cx="7543800" cy="3732480"/>
          </a:xfrm>
          <a:prstGeom prst="rect">
            <a:avLst/>
          </a:prstGeom>
          <a:ln w="0">
            <a:noFill/>
          </a:ln>
        </p:spPr>
      </p:pic>
      <p:pic>
        <p:nvPicPr>
          <p:cNvPr id="378" name="Subtitle 2" descr=""/>
          <p:cNvPicPr/>
          <p:nvPr/>
        </p:nvPicPr>
        <p:blipFill>
          <a:blip r:embed="rId2"/>
          <a:stretch/>
        </p:blipFill>
        <p:spPr>
          <a:xfrm>
            <a:off x="-55440" y="0"/>
            <a:ext cx="4494240" cy="554040"/>
          </a:xfrm>
          <a:prstGeom prst="rect">
            <a:avLst/>
          </a:prstGeom>
          <a:ln w="0">
            <a:noFill/>
          </a:ln>
        </p:spPr>
      </p:pic>
      <p:sp>
        <p:nvSpPr>
          <p:cNvPr id="379" name="Title 1"/>
          <p:cNvSpPr/>
          <p:nvPr/>
        </p:nvSpPr>
        <p:spPr>
          <a:xfrm>
            <a:off x="609480" y="1447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COUNTRY REPO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2936160" y="266688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Jakart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Sep,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20</a:t>
            </a:r>
            <a:r>
              <a:rPr b="0" lang="id-ID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Rectangle 6"/>
          <p:cNvGrpSpPr/>
          <p:nvPr/>
        </p:nvGrpSpPr>
        <p:grpSpPr>
          <a:xfrm>
            <a:off x="731880" y="4638600"/>
            <a:ext cx="8040600" cy="1841400"/>
            <a:chOff x="731880" y="4638600"/>
            <a:chExt cx="8040600" cy="1841400"/>
          </a:xfrm>
        </p:grpSpPr>
        <p:pic>
          <p:nvPicPr>
            <p:cNvPr id="382" name="Rectangle 6" descr=""/>
            <p:cNvPicPr/>
            <p:nvPr/>
          </p:nvPicPr>
          <p:blipFill>
            <a:blip r:embed="rId3"/>
            <a:stretch/>
          </p:blipFill>
          <p:spPr>
            <a:xfrm>
              <a:off x="731880" y="4638600"/>
              <a:ext cx="80406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838080" y="4800600"/>
              <a:ext cx="7772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Lucida Sans Unicode"/>
                </a:rPr>
                <a:t>National Directorate of Meteorology and Geophysics of  Timor-Leste (DNMG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560" y="148104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MG Collected Data from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52-1974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ortuguese time)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MG established DNM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gan collecting data in 2003 until now and the data DNMG takes is rainfall (monthly data), but data for now is only data from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ucau 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ct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Dili. The data for Oe-cusse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strict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e start taking in 2015 because of new tools installed in 2015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152280" y="1522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70c0"/>
                </a:solidFill>
                <a:latin typeface="Lucida Sans Unicode"/>
              </a:rPr>
              <a:t>Examples of weather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304920" y="733320"/>
            <a:ext cx="83818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Lucida Sans Unicode"/>
              </a:rPr>
              <a:t>BOM: Forecast - Timor Leste (NT) [SEC=UNCLASSIFIED] (1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DD10170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Australian Government Bureau of Meteorology 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Northern Territory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Timor Leste Weather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Issued at 1645 on Thursday the 10th of September 2015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Forecast for tonight and Friday: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Partly cloudy, clearing this evening. Mostly sunny tomorrow apart from some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cloud about the ranges and southern coast. Light to moderate east to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southeasterly winds, with moderate seabreezes from mid-morning.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Dili: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Partly cloudy, clearing this evening. Mostly sunny tomorrow. Light southeasterly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winds before a moderate northeasterly sea breeze from mid-morning.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Min: 21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Max: 30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Outlook for the next two days: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The chance of isolated afternoon showers on and south of the ranges. Mostly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sunny elsewhere. Winds tending moderate east to southeasterly, with moderate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mid-morning sea breez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IDW20840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Australian Government Bureau of Meteorology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Western Australia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Perth Regional Forecasting Centr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Need add more staff with high capacit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Improve capacity with the training in area Forecasting, observation, instrument calibrating, models, etc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Stablish new Headquarter with the modern system for the Meteorology, Climatology and Geophysic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Stablish new AWS in other Municipal (at list 12 mor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Content Placeholder 2"/>
          <p:cNvSpPr/>
          <p:nvPr/>
        </p:nvSpPr>
        <p:spPr>
          <a:xfrm>
            <a:off x="228600" y="762120"/>
            <a:ext cx="8458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b0f0"/>
                </a:solidFill>
                <a:latin typeface="Lucida Sans Unicode"/>
              </a:rPr>
              <a:t>Support and Cooperation Partners country in Application Data Information with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BoM       Provide forecast for Aviation and Tropical Cyclone adversar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RIMES       Provide three days forecast and Earthquake and Tsunami in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JMA        Provide Satellite Imagery (SATAI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BMKG        on going process signing MOU to provide technical assistant for training and calibration instrumen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overnment instances: Agriculture, Water Resources, Mineral Resources and NGO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ight Arrow 3"/>
          <p:cNvSpPr/>
          <p:nvPr/>
        </p:nvSpPr>
        <p:spPr>
          <a:xfrm flipV="1">
            <a:off x="1368360" y="153972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ight Arrow 5"/>
          <p:cNvSpPr/>
          <p:nvPr/>
        </p:nvSpPr>
        <p:spPr>
          <a:xfrm flipV="1">
            <a:off x="1554120" y="22096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ight Arrow 6"/>
          <p:cNvSpPr/>
          <p:nvPr/>
        </p:nvSpPr>
        <p:spPr>
          <a:xfrm flipV="1">
            <a:off x="1387440" y="28954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ight Arrow 7"/>
          <p:cNvSpPr/>
          <p:nvPr/>
        </p:nvSpPr>
        <p:spPr>
          <a:xfrm flipV="1">
            <a:off x="1593720" y="33526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2" descr=""/>
          <p:cNvPicPr/>
          <p:nvPr/>
        </p:nvPicPr>
        <p:blipFill>
          <a:blip r:embed="rId1"/>
          <a:stretch/>
        </p:blipFill>
        <p:spPr>
          <a:xfrm>
            <a:off x="-237960" y="268200"/>
            <a:ext cx="893124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3" descr=""/>
          <p:cNvPicPr/>
          <p:nvPr/>
        </p:nvPicPr>
        <p:blipFill>
          <a:blip r:embed="rId1"/>
          <a:stretch/>
        </p:blipFill>
        <p:spPr>
          <a:xfrm>
            <a:off x="603360" y="195120"/>
            <a:ext cx="8138880" cy="1116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D:\meteo_contry_report\20090504181022!Diplomatic_missions_in_Timor-Leste.png"/>
          <p:cNvPicPr/>
          <p:nvPr/>
        </p:nvPicPr>
        <p:blipFill>
          <a:blip r:embed="rId2"/>
          <a:stretch/>
        </p:blipFill>
        <p:spPr>
          <a:xfrm>
            <a:off x="378000" y="1596960"/>
            <a:ext cx="8467560" cy="5267520"/>
          </a:xfrm>
          <a:prstGeom prst="rect">
            <a:avLst/>
          </a:prstGeom>
          <a:ln w="0">
            <a:noFill/>
          </a:ln>
        </p:spPr>
      </p:pic>
      <p:sp>
        <p:nvSpPr>
          <p:cNvPr id="386" name="Down Arrow 5"/>
          <p:cNvSpPr/>
          <p:nvPr/>
        </p:nvSpPr>
        <p:spPr>
          <a:xfrm>
            <a:off x="7238880" y="4038480"/>
            <a:ext cx="76320" cy="914400"/>
          </a:xfrm>
          <a:prstGeom prst="downArrow">
            <a:avLst>
              <a:gd name="adj1" fmla="val 50000"/>
              <a:gd name="adj2" fmla="val 5219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areamap"/>
          <p:cNvPicPr/>
          <p:nvPr/>
        </p:nvPicPr>
        <p:blipFill>
          <a:blip r:embed="rId3"/>
          <a:stretch/>
        </p:blipFill>
        <p:spPr>
          <a:xfrm>
            <a:off x="987480" y="3803760"/>
            <a:ext cx="3895560" cy="26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Democratic Republic of Timor-Leste 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9" name="Down Arrow 5"/>
          <p:cNvSpPr/>
          <p:nvPr/>
        </p:nvSpPr>
        <p:spPr>
          <a:xfrm>
            <a:off x="7315200" y="3124080"/>
            <a:ext cx="76320" cy="914400"/>
          </a:xfrm>
          <a:prstGeom prst="downArrow">
            <a:avLst>
              <a:gd name="adj1" fmla="val 50000"/>
              <a:gd name="adj2" fmla="val 5219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D:\meteo_contry_report\timor.gif"/>
          <p:cNvPicPr/>
          <p:nvPr/>
        </p:nvPicPr>
        <p:blipFill>
          <a:blip r:embed="rId1"/>
          <a:stretch/>
        </p:blipFill>
        <p:spPr>
          <a:xfrm>
            <a:off x="103320" y="212760"/>
            <a:ext cx="8613720" cy="6669000"/>
          </a:xfrm>
          <a:prstGeom prst="rect">
            <a:avLst/>
          </a:prstGeom>
          <a:ln w="0">
            <a:noFill/>
          </a:ln>
        </p:spPr>
      </p:pic>
      <p:pic>
        <p:nvPicPr>
          <p:cNvPr id="391" name="Rectangle 6" descr=""/>
          <p:cNvPicPr/>
          <p:nvPr/>
        </p:nvPicPr>
        <p:blipFill>
          <a:blip r:embed="rId2"/>
          <a:stretch/>
        </p:blipFill>
        <p:spPr>
          <a:xfrm>
            <a:off x="228600" y="504720"/>
            <a:ext cx="2514600" cy="27720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sp>
        <p:nvSpPr>
          <p:cNvPr id="392" name="Rectangle 3"/>
          <p:cNvSpPr/>
          <p:nvPr/>
        </p:nvSpPr>
        <p:spPr>
          <a:xfrm>
            <a:off x="-1409760" y="6318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Rectangle 9" descr=""/>
          <p:cNvPicPr/>
          <p:nvPr/>
        </p:nvPicPr>
        <p:blipFill>
          <a:blip r:embed="rId3"/>
          <a:stretch/>
        </p:blipFill>
        <p:spPr>
          <a:xfrm>
            <a:off x="5943600" y="2292480"/>
            <a:ext cx="32194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NMG established early 2003  under the ministry of Infrastructu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nce the referendum held on September 1999 all Meteorology Services were destroyed in Dili Capital and other districts in Timor-Leste. During the UNTAET period in Timor-Leste meteorology service were provided by Bureau of Meteorology Australia (BoM) in Darwin (just for aviation up to date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NMG become member of  WMO on 4 December 2009 (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89 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Current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ly</a:t>
            </a: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, DNMG office in DILI, under the Ministry of Public Work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, Transport and Communicatio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With 2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 staff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4" descr="DSC02264"/>
          <p:cNvPicPr/>
          <p:nvPr/>
        </p:nvPicPr>
        <p:blipFill>
          <a:blip r:embed="rId1"/>
          <a:stretch/>
        </p:blipFill>
        <p:spPr>
          <a:xfrm>
            <a:off x="4572000" y="419112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6"/>
          <p:cNvSpPr/>
          <p:nvPr/>
        </p:nvSpPr>
        <p:spPr>
          <a:xfrm>
            <a:off x="228600" y="0"/>
            <a:ext cx="3886200" cy="3049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Facilities Infrastructure of DNM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8" descr="DSC02276"/>
          <p:cNvPicPr/>
          <p:nvPr/>
        </p:nvPicPr>
        <p:blipFill>
          <a:blip r:embed="rId2"/>
          <a:stretch/>
        </p:blipFill>
        <p:spPr>
          <a:xfrm>
            <a:off x="5791320" y="152388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100_5752"/>
          <p:cNvPicPr/>
          <p:nvPr/>
        </p:nvPicPr>
        <p:blipFill>
          <a:blip r:embed="rId3"/>
          <a:stretch/>
        </p:blipFill>
        <p:spPr>
          <a:xfrm>
            <a:off x="0" y="4172040"/>
            <a:ext cx="4267080" cy="26859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4"/>
          <a:stretch/>
        </p:blipFill>
        <p:spPr>
          <a:xfrm>
            <a:off x="0" y="1600200"/>
            <a:ext cx="5791320" cy="2895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3" descr="DSC02288"/>
          <p:cNvPicPr/>
          <p:nvPr/>
        </p:nvPicPr>
        <p:blipFill>
          <a:blip r:embed="rId5"/>
          <a:stretch/>
        </p:blipFill>
        <p:spPr>
          <a:xfrm>
            <a:off x="4884840" y="4314960"/>
            <a:ext cx="3517920" cy="26384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8"/>
          <p:cNvSpPr/>
          <p:nvPr/>
        </p:nvSpPr>
        <p:spPr>
          <a:xfrm>
            <a:off x="609480" y="380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Times New Roman"/>
              </a:rPr>
              <a:t>2 Automatic Weather Statio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2 synoptic s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nual Weath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Times New Roman"/>
              </a:rPr>
              <a:t>CliDe System for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"/>
          <p:cNvSpPr/>
          <p:nvPr/>
        </p:nvSpPr>
        <p:spPr>
          <a:xfrm>
            <a:off x="304920" y="0"/>
            <a:ext cx="464796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800"/>
              </a:spcBef>
              <a:buClr>
                <a:srgbClr val="ff8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NMG </a:t>
            </a:r>
            <a:r>
              <a:rPr b="1" lang="id-ID" sz="2800" spc="-1" strike="noStrike">
                <a:solidFill>
                  <a:srgbClr val="000000"/>
                </a:solidFill>
                <a:latin typeface="Lucida Sans Unicode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Observation and monitor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609480" y="1066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ucida Sans Unicode"/>
              </a:rPr>
              <a:t>Collected data from AWS and Manual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4" descr="C:\Users\Main User\Pictures\Foto Act Servico DNMG 2008\Actividade Obs1.JPG"/>
          <p:cNvPicPr/>
          <p:nvPr/>
        </p:nvPicPr>
        <p:blipFill>
          <a:blip r:embed="rId1"/>
          <a:stretch/>
        </p:blipFill>
        <p:spPr>
          <a:xfrm>
            <a:off x="6400800" y="60948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Main User\Pictures\Foto Act Servico DNMG 2008\AWS.JPG"/>
          <p:cNvPicPr/>
          <p:nvPr/>
        </p:nvPicPr>
        <p:blipFill>
          <a:blip r:embed="rId2"/>
          <a:stretch/>
        </p:blipFill>
        <p:spPr>
          <a:xfrm>
            <a:off x="6400800" y="2514600"/>
            <a:ext cx="2371680" cy="1779480"/>
          </a:xfrm>
          <a:prstGeom prst="rect">
            <a:avLst/>
          </a:prstGeom>
          <a:ln w="0">
            <a:noFill/>
          </a:ln>
        </p:spPr>
      </p:pic>
      <p:sp>
        <p:nvSpPr>
          <p:cNvPr id="407" name="Right Arrow 3"/>
          <p:cNvSpPr/>
          <p:nvPr/>
        </p:nvSpPr>
        <p:spPr>
          <a:xfrm>
            <a:off x="2286000" y="16765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3124080" y="167652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ucida Sans Unicode"/>
              </a:rPr>
              <a:t>Entry to Dat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C:\Users\Main User\Pictures\Foto Act Servico DNMG 2008\Act. weather forecaster2.JPG"/>
          <p:cNvPicPr/>
          <p:nvPr/>
        </p:nvPicPr>
        <p:blipFill>
          <a:blip r:embed="rId3"/>
          <a:stretch/>
        </p:blipFill>
        <p:spPr>
          <a:xfrm>
            <a:off x="609480" y="2247840"/>
            <a:ext cx="5131080" cy="384804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6705720" y="5105520"/>
            <a:ext cx="18288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ucida Sans Unicode"/>
              </a:rPr>
              <a:t>Analysis of RIMES NWP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Elbow Connector 9"/>
          <p:cNvCxnSpPr/>
          <p:nvPr/>
        </p:nvCxnSpPr>
        <p:spPr>
          <a:xfrm>
            <a:off x="5737320" y="4952520"/>
            <a:ext cx="892800" cy="477000"/>
          </a:xfrm>
          <a:prstGeom prst="bentConnector3">
            <a:avLst>
              <a:gd name="adj1" fmla="val 49979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For </a:t>
            </a: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Hydrology there are </a:t>
            </a: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7th</a:t>
            </a: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 automatic and manual weather station and 14 water level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Hydrology there are five water level monitoring stations in Dili </a:t>
            </a: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nd currently Hydrology can only collect data and not yet able to provide information to the public</a:t>
            </a: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3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3" descr=""/>
          <p:cNvPicPr/>
          <p:nvPr/>
        </p:nvPicPr>
        <p:blipFill>
          <a:blip r:embed="rId1"/>
          <a:stretch/>
        </p:blipFill>
        <p:spPr>
          <a:xfrm>
            <a:off x="244440" y="165240"/>
            <a:ext cx="8491680" cy="1298520"/>
          </a:xfrm>
          <a:prstGeom prst="rect">
            <a:avLst/>
          </a:prstGeom>
          <a:ln w="0">
            <a:noFill/>
          </a:ln>
        </p:spPr>
      </p:pic>
      <p:pic>
        <p:nvPicPr>
          <p:cNvPr id="418" name="Content Placeholder 4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8381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05:40:20Z</dcterms:created>
  <dc:creator>admin</dc:creator>
  <dc:description/>
  <dc:language>en-US</dc:language>
  <cp:lastModifiedBy>USER</cp:lastModifiedBy>
  <dcterms:modified xsi:type="dcterms:W3CDTF">2018-09-18T06:10:36Z</dcterms:modified>
  <cp:revision>69</cp:revision>
  <dc:subject/>
  <dc:title>COUNTRY REPORT</dc:title>
</cp:coreProperties>
</file>