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2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media/image2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5F49-C820-46F2-9F4B-9CC9EE2522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C64C-825D-4F97-A6A4-02BD3DCB6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DF9B-BEBD-4E3C-851F-027554D6A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0789-9D47-4A5D-952E-FC9F058AA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A64-14F7-40CF-8BD1-46CFA1E6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E75-8421-42BB-96ED-8D506ADD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D76-90AC-42EE-981E-8599EE45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774-E3EC-4942-AF1D-847BB0D2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42D1-BED7-40C3-A19C-74DFE670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89E4-A8DD-40CE-A1A8-40EF76BC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DFA6-86AF-457E-B513-7F938497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6B49-B0B0-4342-BAF2-62672BFA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DE45-8EC7-4BD1-8DF7-10D155C9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FA8C-20CD-4A18-93BE-0241DDAA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C844-DDEB-4C1E-BB04-428681B6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8CD-65C3-4F91-9D63-82ADCE31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0E27-66B6-4890-A0BB-5511B8F1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1324-CDAB-4ED9-8657-79088F92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7D7B-6765-4252-B157-81470A5D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24E2-96CF-410C-A8E5-D4F5242A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A7BE-95BF-4906-93D8-37C217DC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1811-00B5-4BCF-9C35-B5557F28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E4922-8963-41F1-9A1A-4617469E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6E51F-E49A-469A-99B9-EDC4AC2E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88925-5CE9-45A2-86D5-CC47E53E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8C136-A64F-4AB8-AE52-E464C0E8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BF6-C78E-4F8E-B280-545819CF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C498-C63D-4E0F-9ECF-9B3C7CC9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0E8B0-864F-4BA5-A52F-971FB0E2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56526-FCDA-496B-BB1E-208291BB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217F-0DE0-48F0-9E78-6F4BB7F8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0CB17-81C9-4E53-9349-A2304926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B75A3-512C-4FD0-9888-FB6B1971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585BA-66DE-485C-9F9B-18BDC093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8922F-CA58-4A98-A953-7AC8DDA8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E57E1-7DAE-4E31-B172-F77EC1CF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11457-29E3-4F65-9CC5-9E8DBFEF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2EF-CEE5-41C1-95E2-731B5EF6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18D8A-E55C-4017-A012-7E468058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A9C4A-612A-4AF4-87AA-90307467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71D28-A262-48FA-832E-D0C2D794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18434-38A3-4593-BD5E-BEC98781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28149-4F47-467E-B48F-123FFFBA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A73A0-B26C-49C4-8136-E518960D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CECEA-F54F-4F6D-84B9-23BB7D3E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9B25-552C-45AE-BFA3-ECE41DFD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E1087-1EED-4B9B-BD4C-BD12FE71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8A387-5B59-41BC-B7C7-AA5D7FDE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EDF-4F5A-4E5E-9109-8426BC10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C7C59-9BDC-419C-BAC4-90C4D325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C2DA1-8CE1-4F5C-9978-B4219DF0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4BD31-6265-465F-8A85-4918F296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A8345-9977-4634-ABED-E4E42D06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AE0AD-B86D-42E3-852A-9312808C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104F8-5BB1-436D-877E-80B05CE9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951A9-AA96-4D66-B859-23DB53D6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55E95-6B0C-456E-8670-BC35E78F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75FB3-9EE3-4DAB-9558-68170A6F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73D51-BDCF-4E3F-A168-C0CC0621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103-8950-4D92-A0F8-BB6CEE27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0497D-96E6-487B-86BB-51E7EE85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0D948-C503-4979-8C75-017AEACF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AA85D-335C-429C-B095-7178EBCC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31CCC-DF00-4F76-B8D3-0379234A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03D3C-217C-4BF1-A1EA-56CAB6CA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C4B3D-F401-4BD3-9A9D-CA226985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5700A-FFA1-4E9E-89A6-C9408BA8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D55CE-70AE-4E09-94BC-D5E23A3C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89104-7FF2-475E-954E-F8271B5F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1125E-9581-44A6-953B-987C7AE8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41F-74B5-4196-B7C0-434B46A3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5B556-975F-4E11-921C-B58B474B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AC81A-C279-4F3A-BFC3-0CF95627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E99C9-9F98-40C8-BFB2-63F60F3D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6EE65-479E-45F7-8BCE-984B4C35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67F70-7FAE-4E18-978D-D066DA82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1CCF0-824F-4D59-85CD-BA49ADC9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B0208-66B8-4C9A-90E5-CD07CA7E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F81F0-F36B-4678-8BDB-078B4C2C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52448-0B13-4294-82DC-87B66025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61EE1-178D-4E52-AF05-670218FB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FC6-6E75-497E-AAF7-B985D12D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8704B-C668-47FF-A461-0A0AD96B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92778-3854-4B76-87DF-3E22B29D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6B1BE-F05F-4936-9254-D0B60B1E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B71CB-9349-4B9B-A785-D3DC96CB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A0F15-E878-4171-B37E-F7082264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34D3B-0265-4FA6-9724-CF51DAE3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BE27A-2725-4B98-B96C-CC302011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F18AB-00E4-4415-9618-B6240023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01964-0A83-450F-B5F8-6D95DD4D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0ED03-E067-4541-8695-12557751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264-5B4A-45AC-B206-EAD896B6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A4BFE-B346-46BB-8F52-93C5A94A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A4B5A-24B5-452F-83F8-CBA5D5EE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4A081-83FC-4AC8-BB50-94893B56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B34AA-C090-4B56-B773-F306B52B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9A9D1-8FB0-4B02-9EDB-5B34805B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6C19D-1AB8-48FF-9AD3-B66F7A25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26FD0-E4F9-4F17-B0ED-F353B109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D875-DF3D-495A-9690-80EC92C54FF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7880-2076-466C-BC3D-A9C31AD402C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55A9-EC4D-4E29-B9CD-D8BA40D9195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6702-C329-49F3-9A19-A450C61569F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43AA-EEF8-499F-B9C1-71745F8904C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AD75-08F2-49DD-AC8B-3062E937FFC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132F-E95F-457F-87DB-4077F13EBBD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2124-ECE0-4FBC-9251-9DA0C75499B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Timor_ppt_bkg_printing"/>
          <p:cNvPicPr/>
          <p:nvPr/>
        </p:nvPicPr>
        <p:blipFill>
          <a:blip r:embed="rId1"/>
          <a:stretch/>
        </p:blipFill>
        <p:spPr>
          <a:xfrm>
            <a:off x="838080" y="2209680"/>
            <a:ext cx="7543800" cy="3732480"/>
          </a:xfrm>
          <a:prstGeom prst="rect">
            <a:avLst/>
          </a:prstGeom>
          <a:ln w="0">
            <a:noFill/>
          </a:ln>
        </p:spPr>
      </p:pic>
      <p:pic>
        <p:nvPicPr>
          <p:cNvPr id="378" name="Subtitle 2" descr=""/>
          <p:cNvPicPr/>
          <p:nvPr/>
        </p:nvPicPr>
        <p:blipFill>
          <a:blip r:embed="rId2"/>
          <a:stretch/>
        </p:blipFill>
        <p:spPr>
          <a:xfrm>
            <a:off x="-55440" y="0"/>
            <a:ext cx="4494240" cy="554040"/>
          </a:xfrm>
          <a:prstGeom prst="rect">
            <a:avLst/>
          </a:prstGeom>
          <a:ln w="0">
            <a:noFill/>
          </a:ln>
        </p:spPr>
      </p:pic>
      <p:sp>
        <p:nvSpPr>
          <p:cNvPr id="379" name="Title 1"/>
          <p:cNvSpPr/>
          <p:nvPr/>
        </p:nvSpPr>
        <p:spPr>
          <a:xfrm>
            <a:off x="609480" y="1447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COUNTRY REPO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2936160" y="266688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Jakar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Sep,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20</a:t>
            </a:r>
            <a:r>
              <a:rPr b="0" lang="id-ID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6"/>
          <p:cNvGrpSpPr/>
          <p:nvPr/>
        </p:nvGrpSpPr>
        <p:grpSpPr>
          <a:xfrm>
            <a:off x="731880" y="4638600"/>
            <a:ext cx="8040600" cy="1841400"/>
            <a:chOff x="731880" y="4638600"/>
            <a:chExt cx="8040600" cy="1841400"/>
          </a:xfrm>
        </p:grpSpPr>
        <p:pic>
          <p:nvPicPr>
            <p:cNvPr id="382" name="Rectangle 6" descr=""/>
            <p:cNvPicPr/>
            <p:nvPr/>
          </p:nvPicPr>
          <p:blipFill>
            <a:blip r:embed="rId3"/>
            <a:stretch/>
          </p:blipFill>
          <p:spPr>
            <a:xfrm>
              <a:off x="731880" y="4638600"/>
              <a:ext cx="80406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838080" y="4800600"/>
              <a:ext cx="7772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</a:rPr>
                <a:t>National Directorate of Meteorology and Geophysics of  Timor-Leste (DNMG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560" y="148104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MG Collected Data from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52-1974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ortuguese time)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MG established DNM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gan collecting data in 2003 until now and the data DNMG takes is rainfall (monthly data), but data for now is only data from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ucau 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ct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ili. The data for Oe-cusse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strict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e start taking in 2015 because of new tools installed in 2015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152280" y="152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70c0"/>
                </a:solidFill>
                <a:latin typeface="Lucida Sans Unicode"/>
              </a:rPr>
              <a:t>Examples of weather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304920" y="733320"/>
            <a:ext cx="83818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Lucida Sans Unicode"/>
              </a:rPr>
              <a:t>BOM: Forecast - Timor Leste (NT) [SEC=UNCLASSIFIED] (1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DD1017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Australian Government Bureau of Meteorology 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Northern Territory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Timor Leste Weather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Issued at 1645 on Thursday the 10th of September 2015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Forecast for tonight and Friday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artly cloudy, clearing this evening. Mostly sunny tomorrow apart from some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cloud about the ranges and southern coast. Light to moderate east to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southeasterly winds, with moderate seabreezes from mid-morning.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Dili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artly cloudy, clearing this evening. Mostly sunny tomorrow. Light southeasterl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winds before a moderate northeasterly sea breeze from mid-morning.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in: 21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ax: 3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Outlook for the next two days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The chance of isolated afternoon showers on and south of the ranges. Mostl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sunny elsewhere. Winds tending moderate east to southeasterly, with moderate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id-morning sea breez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IDW2084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Australian Government Bureau of Meteorolog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Western Australia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erth Regional Forecasting Centr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Need add more staff with high capacit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Improve capacity with the training in area Forecasting, observation, instrument calibrating, models, et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Stablish new Headquarter with the modern system for the Meteorology, Climatology and Geophysic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Stablish new AWS in other Municipal (at list 12 mor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Content Placeholder 2"/>
          <p:cNvSpPr/>
          <p:nvPr/>
        </p:nvSpPr>
        <p:spPr>
          <a:xfrm>
            <a:off x="228600" y="76212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b0f0"/>
                </a:solidFill>
                <a:latin typeface="Lucida Sans Unicode"/>
              </a:rPr>
              <a:t>Support and Cooperation Partners country in Application Data Information with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BoM       Provide forecast for Aviation and Tropical Cyclone adversar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RIMES       Provide three days forecast and Earthquake and Tsunami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JMA        Provide Satellite Imagery (SATAI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BMKG        on going process signing MOU to provide technical assistant for training and calibration instrumen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overnment instances: Agriculture, Water Resources, Mineral Resources and NG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ight Arrow 3"/>
          <p:cNvSpPr/>
          <p:nvPr/>
        </p:nvSpPr>
        <p:spPr>
          <a:xfrm flipV="1">
            <a:off x="1368360" y="153972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ight Arrow 5"/>
          <p:cNvSpPr/>
          <p:nvPr/>
        </p:nvSpPr>
        <p:spPr>
          <a:xfrm flipV="1">
            <a:off x="1554120" y="22096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ight Arrow 6"/>
          <p:cNvSpPr/>
          <p:nvPr/>
        </p:nvSpPr>
        <p:spPr>
          <a:xfrm flipV="1">
            <a:off x="1387440" y="28954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ight Arrow 7"/>
          <p:cNvSpPr/>
          <p:nvPr/>
        </p:nvSpPr>
        <p:spPr>
          <a:xfrm flipV="1">
            <a:off x="1593720" y="33526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2" descr=""/>
          <p:cNvPicPr/>
          <p:nvPr/>
        </p:nvPicPr>
        <p:blipFill>
          <a:blip r:embed="rId1"/>
          <a:stretch/>
        </p:blipFill>
        <p:spPr>
          <a:xfrm>
            <a:off x="-237960" y="268200"/>
            <a:ext cx="89312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3" descr=""/>
          <p:cNvPicPr/>
          <p:nvPr/>
        </p:nvPicPr>
        <p:blipFill>
          <a:blip r:embed="rId1"/>
          <a:stretch/>
        </p:blipFill>
        <p:spPr>
          <a:xfrm>
            <a:off x="603360" y="195120"/>
            <a:ext cx="8138880" cy="1116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D:\meteo_contry_report\20090504181022!Diplomatic_missions_in_Timor-Leste.png"/>
          <p:cNvPicPr/>
          <p:nvPr/>
        </p:nvPicPr>
        <p:blipFill>
          <a:blip r:embed="rId2"/>
          <a:stretch/>
        </p:blipFill>
        <p:spPr>
          <a:xfrm>
            <a:off x="378000" y="1596960"/>
            <a:ext cx="8467560" cy="5267520"/>
          </a:xfrm>
          <a:prstGeom prst="rect">
            <a:avLst/>
          </a:prstGeom>
          <a:ln w="0">
            <a:noFill/>
          </a:ln>
        </p:spPr>
      </p:pic>
      <p:sp>
        <p:nvSpPr>
          <p:cNvPr id="386" name="Down Arrow 5"/>
          <p:cNvSpPr/>
          <p:nvPr/>
        </p:nvSpPr>
        <p:spPr>
          <a:xfrm>
            <a:off x="7238880" y="4038480"/>
            <a:ext cx="76320" cy="914400"/>
          </a:xfrm>
          <a:prstGeom prst="downArrow">
            <a:avLst>
              <a:gd name="adj1" fmla="val 50000"/>
              <a:gd name="adj2" fmla="val 521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areamap"/>
          <p:cNvPicPr/>
          <p:nvPr/>
        </p:nvPicPr>
        <p:blipFill>
          <a:blip r:embed="rId3"/>
          <a:stretch/>
        </p:blipFill>
        <p:spPr>
          <a:xfrm>
            <a:off x="987480" y="3803760"/>
            <a:ext cx="3895560" cy="26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Democratic Republic of Timor-Leste 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9" name="Down Arrow 5"/>
          <p:cNvSpPr/>
          <p:nvPr/>
        </p:nvSpPr>
        <p:spPr>
          <a:xfrm>
            <a:off x="7315200" y="3124080"/>
            <a:ext cx="76320" cy="914400"/>
          </a:xfrm>
          <a:prstGeom prst="downArrow">
            <a:avLst>
              <a:gd name="adj1" fmla="val 50000"/>
              <a:gd name="adj2" fmla="val 521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D:\meteo_contry_report\timor.gif"/>
          <p:cNvPicPr/>
          <p:nvPr/>
        </p:nvPicPr>
        <p:blipFill>
          <a:blip r:embed="rId1"/>
          <a:stretch/>
        </p:blipFill>
        <p:spPr>
          <a:xfrm>
            <a:off x="103320" y="212760"/>
            <a:ext cx="8613720" cy="666900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le 6" descr=""/>
          <p:cNvPicPr/>
          <p:nvPr/>
        </p:nvPicPr>
        <p:blipFill>
          <a:blip r:embed="rId2"/>
          <a:stretch/>
        </p:blipFill>
        <p:spPr>
          <a:xfrm>
            <a:off x="228600" y="504720"/>
            <a:ext cx="2514600" cy="27720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392" name="Rectangle 3"/>
          <p:cNvSpPr/>
          <p:nvPr/>
        </p:nvSpPr>
        <p:spPr>
          <a:xfrm>
            <a:off x="-1409760" y="6318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9" descr=""/>
          <p:cNvPicPr/>
          <p:nvPr/>
        </p:nvPicPr>
        <p:blipFill>
          <a:blip r:embed="rId3"/>
          <a:stretch/>
        </p:blipFill>
        <p:spPr>
          <a:xfrm>
            <a:off x="5943600" y="2292480"/>
            <a:ext cx="32194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NMG established early 2003  under the ministry of Infrastructu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nce the referendum held on September 1999 all Meteorology Services were destroyed in Dili Capital and other districts in Timor-Leste. During the UNTAET period in Timor-Leste meteorology service were provided by Bureau of Meteorology Australia (BoM) in Darwin (just for aviation up to dat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NMG become member of  WMO on 4 December 2009 (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89 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Current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ly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, DNMG office in DILI, under the Ministry of Public Work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, Transport and Communica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With 2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 staff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4" descr="DSC02264"/>
          <p:cNvPicPr/>
          <p:nvPr/>
        </p:nvPicPr>
        <p:blipFill>
          <a:blip r:embed="rId1"/>
          <a:stretch/>
        </p:blipFill>
        <p:spPr>
          <a:xfrm>
            <a:off x="4572000" y="419112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6"/>
          <p:cNvSpPr/>
          <p:nvPr/>
        </p:nvSpPr>
        <p:spPr>
          <a:xfrm>
            <a:off x="228600" y="0"/>
            <a:ext cx="3886200" cy="3049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acilities Infrastructure of DNM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8" descr="DSC02276"/>
          <p:cNvPicPr/>
          <p:nvPr/>
        </p:nvPicPr>
        <p:blipFill>
          <a:blip r:embed="rId2"/>
          <a:stretch/>
        </p:blipFill>
        <p:spPr>
          <a:xfrm>
            <a:off x="5791320" y="152388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100_5752"/>
          <p:cNvPicPr/>
          <p:nvPr/>
        </p:nvPicPr>
        <p:blipFill>
          <a:blip r:embed="rId3"/>
          <a:stretch/>
        </p:blipFill>
        <p:spPr>
          <a:xfrm>
            <a:off x="0" y="4172040"/>
            <a:ext cx="4267080" cy="26859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4"/>
          <a:stretch/>
        </p:blipFill>
        <p:spPr>
          <a:xfrm>
            <a:off x="0" y="1600200"/>
            <a:ext cx="5791320" cy="2895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3" descr="DSC02288"/>
          <p:cNvPicPr/>
          <p:nvPr/>
        </p:nvPicPr>
        <p:blipFill>
          <a:blip r:embed="rId5"/>
          <a:stretch/>
        </p:blipFill>
        <p:spPr>
          <a:xfrm>
            <a:off x="4884840" y="4314960"/>
            <a:ext cx="3517920" cy="26384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8"/>
          <p:cNvSpPr/>
          <p:nvPr/>
        </p:nvSpPr>
        <p:spPr>
          <a:xfrm>
            <a:off x="609480" y="380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2 Automatic Weather Statio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2 synoptic s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ual Weath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CliDe System fo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304920" y="0"/>
            <a:ext cx="464796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Clr>
                <a:srgbClr val="ff8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NMG </a:t>
            </a:r>
            <a:r>
              <a:rPr b="1" lang="id-ID" sz="2800" spc="-1" strike="noStrike">
                <a:solidFill>
                  <a:srgbClr val="000000"/>
                </a:solidFill>
                <a:latin typeface="Lucida Sans Unicode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Observation and monitor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609480" y="1066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Collected data from AWS and Manual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4" descr="C:\Users\Main User\Pictures\Foto Act Servico DNMG 2008\Actividade Obs1.JPG"/>
          <p:cNvPicPr/>
          <p:nvPr/>
        </p:nvPicPr>
        <p:blipFill>
          <a:blip r:embed="rId1"/>
          <a:stretch/>
        </p:blipFill>
        <p:spPr>
          <a:xfrm>
            <a:off x="6400800" y="6094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Main User\Pictures\Foto Act Servico DNMG 2008\AWS.JPG"/>
          <p:cNvPicPr/>
          <p:nvPr/>
        </p:nvPicPr>
        <p:blipFill>
          <a:blip r:embed="rId2"/>
          <a:stretch/>
        </p:blipFill>
        <p:spPr>
          <a:xfrm>
            <a:off x="6400800" y="2514600"/>
            <a:ext cx="2371680" cy="1779480"/>
          </a:xfrm>
          <a:prstGeom prst="rect">
            <a:avLst/>
          </a:prstGeom>
          <a:ln w="0">
            <a:noFill/>
          </a:ln>
        </p:spPr>
      </p:pic>
      <p:sp>
        <p:nvSpPr>
          <p:cNvPr id="407" name="Right Arrow 3"/>
          <p:cNvSpPr/>
          <p:nvPr/>
        </p:nvSpPr>
        <p:spPr>
          <a:xfrm>
            <a:off x="2286000" y="16765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3124080" y="167652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Entry to 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C:\Users\Main User\Pictures\Foto Act Servico DNMG 2008\Act. weather forecaster2.JPG"/>
          <p:cNvPicPr/>
          <p:nvPr/>
        </p:nvPicPr>
        <p:blipFill>
          <a:blip r:embed="rId3"/>
          <a:stretch/>
        </p:blipFill>
        <p:spPr>
          <a:xfrm>
            <a:off x="609480" y="2247840"/>
            <a:ext cx="5131080" cy="38480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6705720" y="5105520"/>
            <a:ext cx="18288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Analysis of RIMES NWP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Elbow Connector 9"/>
          <p:cNvCxnSpPr/>
          <p:nvPr/>
        </p:nvCxnSpPr>
        <p:spPr>
          <a:xfrm>
            <a:off x="5737320" y="4952520"/>
            <a:ext cx="892800" cy="477000"/>
          </a:xfrm>
          <a:prstGeom prst="bentConnector3">
            <a:avLst>
              <a:gd name="adj1" fmla="val 49979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For 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Hydrology there are 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7th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 automatic and manual weather station and 14 water level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Hydrology there are five water level monitoring stations in Dili 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nd currently Hydrology can only collect data and not yet able to provide information to the public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3" descr=""/>
          <p:cNvPicPr/>
          <p:nvPr/>
        </p:nvPicPr>
        <p:blipFill>
          <a:blip r:embed="rId1"/>
          <a:stretch/>
        </p:blipFill>
        <p:spPr>
          <a:xfrm>
            <a:off x="244440" y="165240"/>
            <a:ext cx="8491680" cy="1298520"/>
          </a:xfrm>
          <a:prstGeom prst="rect">
            <a:avLst/>
          </a:prstGeom>
          <a:ln w="0">
            <a:noFill/>
          </a:ln>
        </p:spPr>
      </p:pic>
      <p:pic>
        <p:nvPicPr>
          <p:cNvPr id="418" name="Content Placeholder 4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381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5:40:20Z</dcterms:created>
  <dc:creator>admin</dc:creator>
  <dc:description/>
  <dc:language>en-US</dc:language>
  <cp:lastModifiedBy>USER</cp:lastModifiedBy>
  <dcterms:modified xsi:type="dcterms:W3CDTF">2018-09-18T06:10:36Z</dcterms:modified>
  <cp:revision>69</cp:revision>
  <dc:subject/>
  <dc:title>COUNTRY REPORT</dc:title>
</cp:coreProperties>
</file>