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2BCA-FCDA-4E22-9103-99826BD13C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7B59-A29C-48E1-80BC-58F12B399A6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A9BE-AF2E-454B-B14C-0844691BAD5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A57D-6CD6-4164-A14E-07B4120DAB0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4A81-FBFD-4E34-96CC-AC257A0EE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93EB-533A-4972-9AAD-CDC24381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73F0-D741-4E7E-B1D7-56C9D1861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F056-DE39-4244-91BD-CFAD6D4AA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EA63-1129-4AA2-8B14-107E9100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83DA-3121-4112-9C42-BF3380F7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6BB1-664D-4B07-8FC6-CB59820D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43F6-00A9-495B-9E16-6D97655C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64D7-21B4-4B46-8139-19A10F52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28F2-61B4-4D41-909E-7AD6F9B7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7A1D-CC41-42F3-90C4-DF85C625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6568-232C-48D5-BDF7-E9CE5457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F920-9550-4888-BC4F-660E749EC9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1E5E-0580-4E5F-A7E6-C10284A36D7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report-cover-powerpoint.jpg"/>
          <p:cNvPicPr/>
          <p:nvPr/>
        </p:nvPicPr>
        <p:blipFill>
          <a:blip r:embed="rId1"/>
          <a:stretch/>
        </p:blipFill>
        <p:spPr>
          <a:xfrm>
            <a:off x="-12600" y="819000"/>
            <a:ext cx="9131040" cy="556272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179280" y="1268280"/>
            <a:ext cx="8713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0253f"/>
                </a:solidFill>
                <a:latin typeface="Century Gothic"/>
              </a:rPr>
              <a:t>PRESENTATION ON RWANDA OBSERVATION CAPABILITY AND NATIONAL REQUIREMENT FOR 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 3" descr="rwanda-meteorological-service-logo.jpg"/>
          <p:cNvPicPr/>
          <p:nvPr/>
        </p:nvPicPr>
        <p:blipFill>
          <a:blip r:embed="rId2"/>
          <a:stretch/>
        </p:blipFill>
        <p:spPr>
          <a:xfrm>
            <a:off x="6129360" y="371520"/>
            <a:ext cx="2666880" cy="1000080"/>
          </a:xfrm>
          <a:prstGeom prst="rect">
            <a:avLst/>
          </a:prstGeom>
          <a:ln w="0">
            <a:noFill/>
          </a:ln>
        </p:spPr>
      </p:pic>
      <p:sp>
        <p:nvSpPr>
          <p:cNvPr id="5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DATA COLLECTION, QUALITY CONTROL AND ARCH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 3" descr="rwanda-meteorological-service-logo.jpg"/>
          <p:cNvPicPr/>
          <p:nvPr/>
        </p:nvPicPr>
        <p:blipFill>
          <a:blip r:embed="rId1"/>
          <a:stretch/>
        </p:blipFill>
        <p:spPr>
          <a:xfrm>
            <a:off x="6659640" y="0"/>
            <a:ext cx="2308320" cy="865080"/>
          </a:xfrm>
          <a:prstGeom prst="rect">
            <a:avLst/>
          </a:prstGeom>
          <a:ln w="0">
            <a:noFill/>
          </a:ln>
        </p:spPr>
      </p:pic>
      <p:sp>
        <p:nvSpPr>
          <p:cNvPr id="9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Content Placeholder 8" descr="Meteorological processes.jpg"/>
          <p:cNvPicPr/>
          <p:nvPr/>
        </p:nvPicPr>
        <p:blipFill>
          <a:blip r:embed="rId2"/>
          <a:stretch/>
        </p:blipFill>
        <p:spPr>
          <a:xfrm>
            <a:off x="539640" y="1557360"/>
            <a:ext cx="8136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Content Placeholder 4" descr=""/>
          <p:cNvPicPr/>
          <p:nvPr/>
        </p:nvPicPr>
        <p:blipFill>
          <a:blip r:embed="rId1"/>
          <a:stretch/>
        </p:blipFill>
        <p:spPr>
          <a:xfrm>
            <a:off x="457200" y="1654200"/>
            <a:ext cx="8229600" cy="44179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"/>
          <p:cNvSpPr/>
          <p:nvPr/>
        </p:nvSpPr>
        <p:spPr>
          <a:xfrm>
            <a:off x="684360" y="620640"/>
            <a:ext cx="845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eo Rwanda Climate Data Management Proces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tional plan for observation net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Acquire s-band weather Rad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 Lightning detector to be ac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radiosondes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DAR program is also plan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register as many as Observing stations in WIGOS/OSC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operate main stations 24hrs/7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77de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6"/>
          <p:cNvSpPr/>
          <p:nvPr/>
        </p:nvSpPr>
        <p:spPr>
          <a:xfrm>
            <a:off x="0" y="609480"/>
            <a:ext cx="9144000" cy="1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 3" descr="rwanda-meteorological-service-logo.jpg"/>
          <p:cNvPicPr/>
          <p:nvPr/>
        </p:nvPicPr>
        <p:blipFill>
          <a:blip r:embed="rId1"/>
          <a:stretch/>
        </p:blipFill>
        <p:spPr>
          <a:xfrm>
            <a:off x="6705720" y="228600"/>
            <a:ext cx="1955520" cy="7333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1483920"/>
            <a:ext cx="820908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YOU FOR YOUR ATTENTION!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ublic of Rw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wanda is mountaineous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ted in central east of Af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Land locked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bordering with 4 countries namely, Uganda in North, Tanzania in East, Burundi in South and DRC in w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ze;26,338k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wanda on African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Content Placeholder 4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5832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8360" y="333360"/>
          <a:ext cx="6551640" cy="4876920"/>
        </p:xfrm>
        <a:graphic>
          <a:graphicData uri="http://schemas.openxmlformats.org/drawingml/2006/table">
            <a:tbl>
              <a:tblPr/>
              <a:tblGrid>
                <a:gridCol w="425520"/>
                <a:gridCol w="1373040"/>
                <a:gridCol w="720720"/>
                <a:gridCol w="1728720"/>
                <a:gridCol w="863640"/>
                <a:gridCol w="1440000"/>
              </a:tblGrid>
              <a:tr h="487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ion 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ame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servations &amp; Repo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19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rface synoptic st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s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inf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mid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 speed 2m, 10m Wind Direction 2m, 10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sh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dow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ly 1 at Kigali International Airport operates 24hrs /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report hourly 12h/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94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ro-meteorologic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inf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mid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 speed 2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 Direction 2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po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il mois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il temper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sh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operation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urly 12h/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755640" y="476280"/>
          <a:ext cx="6551640" cy="5851440"/>
        </p:xfrm>
        <a:graphic>
          <a:graphicData uri="http://schemas.openxmlformats.org/drawingml/2006/table">
            <a:tbl>
              <a:tblPr/>
              <a:tblGrid>
                <a:gridCol w="425520"/>
                <a:gridCol w="1373040"/>
                <a:gridCol w="720720"/>
                <a:gridCol w="1728720"/>
                <a:gridCol w="863640"/>
                <a:gridCol w="1440000"/>
              </a:tblGrid>
              <a:tr h="487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ion 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ame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servations &amp; Repo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1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imatic station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inf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ily records/ monthly repo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al Rain gauge station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inf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ily records/ monthly repo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51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matic Weather st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s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inf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mid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 speed and Direction 2m, 10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sh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Mi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0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matic Rain Gau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inf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9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ather Rad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hr/7da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i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0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 Satellite Receiv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oper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hrs/7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ves data 24h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 synoptic stations registered in Osc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747880" y="2173320"/>
            <a:ext cx="3648240" cy="3381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77de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6"/>
          <p:cNvSpPr/>
          <p:nvPr/>
        </p:nvSpPr>
        <p:spPr>
          <a:xfrm>
            <a:off x="0" y="609480"/>
            <a:ext cx="9144000" cy="1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380880" y="1828800"/>
            <a:ext cx="84582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Photo-0606.jpg"/>
          <p:cNvPicPr/>
          <p:nvPr/>
        </p:nvPicPr>
        <p:blipFill>
          <a:blip r:embed="rId1"/>
          <a:stretch/>
        </p:blipFill>
        <p:spPr>
          <a:xfrm>
            <a:off x="6242040" y="800280"/>
            <a:ext cx="2901960" cy="2993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125280" y="907920"/>
            <a:ext cx="3076560" cy="2449800"/>
          </a:xfrm>
          <a:prstGeom prst="rect">
            <a:avLst/>
          </a:prstGeom>
          <a:ln w="0">
            <a:noFill/>
          </a:ln>
        </p:spPr>
      </p:pic>
      <p:sp>
        <p:nvSpPr>
          <p:cNvPr id="72" name="TextBox 6"/>
          <p:cNvSpPr/>
          <p:nvPr/>
        </p:nvSpPr>
        <p:spPr>
          <a:xfrm>
            <a:off x="-1249200" y="0"/>
            <a:ext cx="79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OBSERVING SYSTEM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C:\Documents and Settings\Administrator\Desktop\Meteo Rwanda Logo copy.JPG"/>
          <p:cNvPicPr/>
          <p:nvPr/>
        </p:nvPicPr>
        <p:blipFill>
          <a:blip r:embed="rId3"/>
          <a:stretch/>
        </p:blipFill>
        <p:spPr>
          <a:xfrm>
            <a:off x="7427880" y="-27000"/>
            <a:ext cx="175248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20150126_104232"/>
          <p:cNvPicPr/>
          <p:nvPr/>
        </p:nvPicPr>
        <p:blipFill>
          <a:blip r:embed="rId4"/>
          <a:stretch/>
        </p:blipFill>
        <p:spPr>
          <a:xfrm>
            <a:off x="6242040" y="3868560"/>
            <a:ext cx="2868480" cy="2352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IMG-20150602-WA0008"/>
          <p:cNvPicPr/>
          <p:nvPr/>
        </p:nvPicPr>
        <p:blipFill>
          <a:blip r:embed="rId5"/>
          <a:stretch/>
        </p:blipFill>
        <p:spPr>
          <a:xfrm>
            <a:off x="0" y="3854520"/>
            <a:ext cx="3262320" cy="2367000"/>
          </a:xfrm>
          <a:prstGeom prst="rect">
            <a:avLst/>
          </a:prstGeom>
          <a:ln w="0">
            <a:noFill/>
          </a:ln>
        </p:spPr>
      </p:pic>
      <p:sp>
        <p:nvSpPr>
          <p:cNvPr id="76" name="Freccia a destra 3"/>
          <p:cNvSpPr/>
          <p:nvPr/>
        </p:nvSpPr>
        <p:spPr>
          <a:xfrm rot="10800000">
            <a:off x="3564000" y="1053360"/>
            <a:ext cx="2232000" cy="107964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asellaDiTesto 5"/>
          <p:cNvSpPr/>
          <p:nvPr/>
        </p:nvSpPr>
        <p:spPr>
          <a:xfrm>
            <a:off x="3602160" y="10508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utomatic 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ccia a destra 6"/>
          <p:cNvSpPr/>
          <p:nvPr/>
        </p:nvSpPr>
        <p:spPr>
          <a:xfrm>
            <a:off x="3713040" y="2297160"/>
            <a:ext cx="2529000" cy="12031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asellaDiTesto 7"/>
          <p:cNvSpPr/>
          <p:nvPr/>
        </p:nvSpPr>
        <p:spPr>
          <a:xfrm>
            <a:off x="3759120" y="2759040"/>
            <a:ext cx="183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nual 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ccia a destra 8"/>
          <p:cNvSpPr/>
          <p:nvPr/>
        </p:nvSpPr>
        <p:spPr>
          <a:xfrm rot="10800000">
            <a:off x="3274560" y="3868560"/>
            <a:ext cx="2343240" cy="9367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asellaDiTesto 9"/>
          <p:cNvSpPr/>
          <p:nvPr/>
        </p:nvSpPr>
        <p:spPr>
          <a:xfrm>
            <a:off x="3564000" y="4149720"/>
            <a:ext cx="20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atellite 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ccia a destra 10"/>
          <p:cNvSpPr/>
          <p:nvPr/>
        </p:nvSpPr>
        <p:spPr>
          <a:xfrm>
            <a:off x="3995640" y="5445000"/>
            <a:ext cx="2376720" cy="77652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asellaDiTesto 11"/>
          <p:cNvSpPr/>
          <p:nvPr/>
        </p:nvSpPr>
        <p:spPr>
          <a:xfrm>
            <a:off x="4284720" y="566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eather Ra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ooter Placeholder 1"/>
          <p:cNvSpPr/>
          <p:nvPr/>
        </p:nvSpPr>
        <p:spPr>
          <a:xfrm>
            <a:off x="3419640" y="6093000"/>
            <a:ext cx="23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7" name="Picture 3" descr="report-cover-powerpoint.jpg"/>
          <p:cNvPicPr/>
          <p:nvPr/>
        </p:nvPicPr>
        <p:blipFill>
          <a:blip r:embed="rId1"/>
          <a:stretch/>
        </p:blipFill>
        <p:spPr>
          <a:xfrm>
            <a:off x="0" y="1371600"/>
            <a:ext cx="9005760" cy="548640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1835280" y="-314280"/>
            <a:ext cx="32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253f"/>
                </a:solidFill>
                <a:latin typeface="Century Gothic"/>
              </a:rPr>
              <a:t>Capabilities    CONT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 3" descr="rwanda-meteorological-service-logo.jpg"/>
          <p:cNvPicPr/>
          <p:nvPr/>
        </p:nvPicPr>
        <p:blipFill>
          <a:blip r:embed="rId2"/>
          <a:stretch/>
        </p:blipFill>
        <p:spPr>
          <a:xfrm>
            <a:off x="6129360" y="371520"/>
            <a:ext cx="2666880" cy="1000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"/>
          <p:cNvSpPr/>
          <p:nvPr/>
        </p:nvSpPr>
        <p:spPr>
          <a:xfrm>
            <a:off x="557280" y="652320"/>
            <a:ext cx="658800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dar Coverage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50 Km, beam width: 1-degree, polarisation: dual pol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ADIS 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installed at the airport and its oper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WOS at the airport: it is operation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igh capacity computing systems (cluster server)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or databank management and NWP mod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ernational Data Sharing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tomatic Message Switching System (AMSS) acqui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PATIAL DISTRIBUTION OF OBSERVING SYSTEM NET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Content Placeholder 3" descr="report-cover-powerpoint.jpg"/>
          <p:cNvPicPr/>
          <p:nvPr/>
        </p:nvPicPr>
        <p:blipFill>
          <a:blip r:embed="rId1"/>
          <a:stretch/>
        </p:blipFill>
        <p:spPr>
          <a:xfrm>
            <a:off x="857160" y="1600200"/>
            <a:ext cx="742968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 3" descr="rwanda-meteorological-service-logo.jpg"/>
          <p:cNvPicPr/>
          <p:nvPr/>
        </p:nvPicPr>
        <p:blipFill>
          <a:blip r:embed="rId2"/>
          <a:stretch/>
        </p:blipFill>
        <p:spPr>
          <a:xfrm>
            <a:off x="6154560" y="0"/>
            <a:ext cx="2667240" cy="1000080"/>
          </a:xfrm>
          <a:prstGeom prst="rect">
            <a:avLst/>
          </a:prstGeom>
          <a:ln w="0">
            <a:noFill/>
          </a:ln>
        </p:spPr>
      </p:pic>
      <p:sp>
        <p:nvSpPr>
          <p:cNvPr id="9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3"/>
          <a:stretch/>
        </p:blipFill>
        <p:spPr>
          <a:xfrm>
            <a:off x="1979640" y="1557360"/>
            <a:ext cx="5472000" cy="403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1T13:01:48Z</dcterms:created>
  <dc:creator>steve.palmer</dc:creator>
  <dc:description/>
  <dc:language>en-US</dc:language>
  <cp:lastModifiedBy>Godfrey</cp:lastModifiedBy>
  <cp:lastPrinted>2014-09-11T06:35:56Z</cp:lastPrinted>
  <dcterms:modified xsi:type="dcterms:W3CDTF">2018-08-15T09:15:37Z</dcterms:modified>
  <cp:revision>320</cp:revision>
  <dc:subject/>
  <dc:title>Slide 1</dc:title>
</cp:coreProperties>
</file>