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6095-2BD6-4DEE-AFA6-7B86C76FBBC4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1EDF-37C3-40D7-90DE-C0A937C238A6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1AA3-AFFD-4E7D-89E6-1B2FA1DC8913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901B-1F18-4737-9325-4C3854E4BED4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A410-8A5E-4272-BD09-2AF029765E27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1807-2A01-47B3-973B-1B854583AB3F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0A54-482D-4579-8A72-0D7B2DEABA2B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AEE3-888C-4CF1-8B6C-64C6E673944D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7999-9205-451C-83BF-3A5B8E0D765E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2813-C849-436F-ADA9-224984F21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E3B7-EC87-4781-B717-7F0A0EB7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A27DFC-E3C4-41DD-8A4B-8E73331F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2762A-393C-447E-B089-5D6FFA62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B3267-2153-4E55-8C44-4E796EB9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3D658-79BD-45BC-8C1F-92B80841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873E6-5E52-499C-A232-50D31FCF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3C281-8556-41C6-9FCD-8D2F9A4C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5B164-5197-4FE9-8C09-8077B6CD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2891E-D061-458A-B8D5-D5390BE3D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02025-243C-40ED-87FD-B19DB9D8C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064901-EA68-49D2-8323-A80CED25A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83EB-34CA-47D1-9B47-08D36798A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B2FF2E-BEB6-4091-B68C-A566BB9C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38E32-D830-464D-B7CD-1EE8B564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ACB78-46F1-4E1B-92D1-863A7328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F291E9-7ED7-480B-9D13-47FC17DD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E0A9E3-B15B-43DD-9BDA-C1524B41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B4CCB4-1AC0-43D7-BAAD-DEE2F936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8377E-3704-48B8-A312-8876C4EC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11692-43EE-4B33-B2CA-AD7CB1B4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46AA71-0D6A-447D-A643-DF3E3CBD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BDF743-9AD2-4C98-BA37-F6DA1A5E2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F4BC-A17F-42FF-AF8F-C86154C79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5AB118-1F9A-4E2A-B2C7-5B0AA7B39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281AA-01B1-416E-8ECA-4888BAD90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51579-FF10-4912-B954-22F9AAFA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BD9BB-211F-45A3-A4BF-586B75E2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768A9-9DDB-4F40-AFA3-CECCDEE1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80A3A-1E9F-4648-9AF6-868E2C28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A8749-091F-4FE3-ADAD-EA51AFD7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1B459-F81E-4D4E-916F-59E0DFD4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3BF39-3B70-4F34-AFC8-2ADD4094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11F64-DF61-4958-8764-D4F86C34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67A2-EF1C-4580-999E-726AC505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61CB2-9605-4D92-B0E9-56C34737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840C2-7FAD-4078-8CAA-31C300BF8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6B9FB-087D-42BA-B2F2-4391BDBB8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CA0B7F-106C-4795-B532-AAA73FB1E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2C0610-6725-4FEB-81B6-55AFFADF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C7F1BB-A838-4215-BD79-F311BC14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5B373C-5F1D-458C-96E8-A59D9D34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B9BFE4-26A8-4481-94F4-DD1B5665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B2FB30-1EA1-45D3-B9B3-927CD7C2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2AA8A3-B350-475D-82E6-5317BC6E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C0C6-D84D-4ED3-AC1B-2D1F65D3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CC990C-9086-4C13-9C50-5C1FABED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E0CA8D-6737-433D-8043-21B7571D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55783B-688A-4168-BC8C-ACF0301D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048667-F01C-4EA0-B2EC-ABAE8F69E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4D047-E8CE-4A51-A5A3-BCE913D6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6BA412-00E5-40D1-ACDC-A985641CB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249604-B2E7-4314-A4C8-E6B77005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D87D7E-9FEC-4474-84E5-65D1627B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027EB0-0C37-408A-8FD6-37195DB3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60F252-9AFC-4879-A559-6A68D30F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8CA1-BD9F-4BF7-8C10-9ABDF51E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F99388-3F6A-47E4-A3A5-0E5A946B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7B12E7-5DB2-4534-9E61-047DF6AD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999137-950C-498A-B1E1-8FFC3945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E730A9-32ED-4030-AA2A-6A073D7F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4AF28D-CB0A-4BD4-ACBE-0974D902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7B1A07-80FA-4BE9-834B-7B169D12D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4B3F5F-554A-4176-B265-53E7D3310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1EFC10-95D6-4410-8121-F8633A8A3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9B78D2-2037-4DEC-B1F7-8921216F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C0DEBE-B24C-450D-B46A-2F89D8AE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983E-D0DD-41A7-AF9B-CA6D9251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BD8C25-D292-487A-A533-A7B02E69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56055B-4C61-466C-84EF-BA28CB13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36FA9F-FDBE-4158-8333-DB4720DB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58E1A6-F18F-458F-A9BD-7032FD49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4F8801-42D4-4C12-865F-942F50AB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BCBCF5-502C-4289-A11B-79090309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2F895C-4227-4308-83FC-D41FE095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31284F-BC02-4A11-A282-4F6A7884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3F6F58-767B-420A-A564-42AFF9230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8C9535-77A3-46C6-A9B0-77C472BB4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8BED-9895-40A8-8107-F4508394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FC6238-54D3-44AF-AC87-BE479DFE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2781FB-E619-4597-9D37-58578623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3ADA4C-3039-4ADF-AC5A-38A4A395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1CDFE0-A331-4426-B7E2-56FDCDB2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F9E197-86AA-4188-BB0E-102DC9C5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1E46F1-1905-4368-9C00-EB2979EC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F63FEB-AF34-4E81-A8F0-109DDA10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AC4426-C05D-44FC-B6B9-AEBBA130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BC5162-5BC6-4101-9257-E939486B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A433D4-31CB-4090-B57C-0F30B8DF9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E251-C37B-4B07-BB70-EA10FA23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48F535-EDD1-4D84-9A4D-A0FF7C616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27E2B-D7F2-4B39-8885-A572AC1A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6B33-35EB-43C0-8AD1-8ACCAF90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5213-BC80-406B-8BAB-9A9CD86A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51D6-956E-4F5F-B35D-570BF2B0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F037-DEF8-4D65-A0A1-A50AFE15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8649-3B35-425B-AFC8-C4080E6E0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D362-85A1-445D-A7F6-319D01CD5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7A13A-1ABE-4E6E-8EEA-FADE00822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130AD-8B05-4A73-9F07-1E63699A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D3858-6A83-4B7F-A7EE-30A05EE5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2FF47-F483-4356-99D5-358C8FD2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1ED53-EA80-4B81-A13B-14F0A0BE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DA22-4225-4431-9401-758C659D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2A769-CD79-411E-B40E-339C4E0D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30F2D-F1EB-4B45-A532-B3377179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80029-C432-45B1-A669-DDF68806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170E3-A67D-4DBE-9684-029A4864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08B76-ADF4-441B-891E-293B11D9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3FA2C-3556-4935-920E-B1DAFD7A7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BCA7E-37F0-4C15-B7D4-90C282B5C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F837D-451C-4886-BE07-2081DC25E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87349-CCBE-490F-A827-3DEE5016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84CCE-8C5F-4423-89CB-D6BC6CD6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5795-9140-4CEB-84DC-2AB2C1D5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9082D-B927-4436-AE57-10D28AE9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004B3-36DD-4C33-A7E0-C21782BA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F12AB-2B4F-45AB-84CF-F3D853E9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2BD6A-887C-4547-A56B-923C1DC3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C4B98-DAE6-46AC-B195-5D6E7A49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4F68E-3514-4F62-A938-A5E84C28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84FDE-2A39-48BE-8825-EB0E2D87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C7262-560B-4DC2-B892-C059D59EB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879ED-FE33-417E-AD7B-584E81791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AE077-490B-4FD7-A185-1FC2B6FAE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579A-E9B1-438C-9313-6FE61C96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1F349-A416-4D1F-84F7-62865A0F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A5163-DE47-444D-9CA9-392D5184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DA415-70EB-4580-B84A-5B06AE4C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3CB86-B06C-4FAC-A8C3-42812619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6C253-A1F2-4EB4-A943-D4BBDBA2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1EFFD-CFCB-4E61-83C9-85A12A5A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92884-F6A6-41FC-A285-1A8485B6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576EC-922F-4867-99A6-4BB9BA82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94F1B-BA3B-436C-96A5-DE6622BF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D1905-D20A-4008-82C3-383CC3D1E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0215-4FE6-4138-9096-8C4AF2AB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C3540-D65C-48F3-A022-060D03EDE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D0757-018D-4002-9639-AAA9AA2A7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AB43B-E268-4910-863B-C4F81B25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5B3CA-2D4D-4F64-8448-15E0C2B1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D900B-3FB2-47B2-960E-C5349B37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62C74-65BC-4219-8DDE-747DA36A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82977-1D69-412B-BEBD-CBAFA2BA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2158F-1518-45F6-AA57-7D958099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9E601-0510-4BB7-9518-7EAF3672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2DBB5-DC94-41F8-B866-9272B47E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BCBE-FCF0-4A26-A3C0-697598E7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4D4E6-569A-4F18-9EEE-E11F8A21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B65FF-C368-417B-9443-28C617309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11EA1-C985-4917-9321-8D026CA5C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F5376-3EDE-4E12-A4FE-7258A5B30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36CEE-E1C6-446D-925E-FAEEC82F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B68C3-1479-4CED-ABF4-4A511194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88EAD-FFAA-4E48-AD62-0D75AF18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A21F3-5795-4615-A846-F8D89D8E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9D2C2-C23A-4AE9-AF30-EE2C1697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7E4B7-DBCF-4873-A40E-C25CDF63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2575-2443-473E-9AE9-C510EFEC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12D97-F51B-47D3-A209-24720A58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41874-88A3-4DE0-8BA6-72A01AB0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64A37-8452-491E-A2EA-5D1C4D57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ADE19-0CDD-44C3-B3AD-B507D981E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8A4EF-3AEE-47FC-90E7-81198E2CF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3436E-9A18-4AF5-8D20-F4632A85A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5330B-F539-49C2-9AEF-927AA7D1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8A979-51C7-48D0-BA57-83198188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3E65C-91C4-43A5-AEC6-BB299355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5D3BB-DEF6-4909-A344-1D5DC89E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18B1-DADC-4758-8304-7EA6FD48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0AB2B-50F3-458E-A0EA-9536590A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6C6C7-458D-47BA-B937-14A7490C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A9D0F-D56D-4F1F-8DD5-677664EC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97110-9194-4ED9-96B9-1B7F7CA1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CE622-FF44-4EF5-AC25-1145DC9D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46589-5DD6-40F1-9578-B856816D0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E2C66-A69C-4D0C-87F2-C64D0F552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FDF15-3EF4-4584-A26B-8A47BBFE2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0A444-6FE0-4D34-9B0F-FC92C493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3BF48-B474-4694-A041-D8523AF3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CD09-10F6-4FF8-BF6B-DCA7A73EA8A2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7285-84BE-4C9C-B2E8-70DCD9AC9E51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36E0-E8A1-41C6-838B-37CBBA60436C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2793600" y="6356520"/>
            <a:ext cx="358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5394-437B-47C5-AAE5-EF2BFF03AFD0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02C1-0E79-4F21-B7C3-951225409899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2"/>
          </p:nvPr>
        </p:nvSpPr>
        <p:spPr>
          <a:xfrm>
            <a:off x="2777760" y="6356520"/>
            <a:ext cx="356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1261-935A-4A23-B0D0-060193FD8274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C3A3-CF79-4A67-A102-C1232D68B5A0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5"/>
          </p:nvPr>
        </p:nvSpPr>
        <p:spPr>
          <a:xfrm>
            <a:off x="2793960" y="6356520"/>
            <a:ext cx="356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D765-9E2C-47FE-A155-27641D4FBC35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7"/>
          <p:cNvSpPr/>
          <p:nvPr/>
        </p:nvSpPr>
        <p:spPr>
          <a:xfrm>
            <a:off x="79200" y="1639800"/>
            <a:ext cx="9144000" cy="346248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8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187F-A9B1-4028-B16C-6056D076F44F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8"/>
          </p:nvPr>
        </p:nvSpPr>
        <p:spPr>
          <a:xfrm>
            <a:off x="2760840" y="6356520"/>
            <a:ext cx="3622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AC63-11F3-4CCB-B176-21AD83F47A7E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4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521F-386F-4BCB-B56E-EE9EE4AA2AA9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41"/>
          </p:nvPr>
        </p:nvSpPr>
        <p:spPr>
          <a:xfrm>
            <a:off x="2768760" y="6356520"/>
            <a:ext cx="360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5DE9-78C4-497E-B2DF-1C896FF2FE64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dt" idx="4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E80F-CBEE-4534-8396-626B9624617B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44"/>
          </p:nvPr>
        </p:nvSpPr>
        <p:spPr>
          <a:xfrm>
            <a:off x="2685960" y="6356520"/>
            <a:ext cx="374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7DE9-11A6-47EA-8B96-8AB2415E1AD4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044E-BEB4-45A2-8CB6-5DE1DF1A23D0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78120" y="6356520"/>
            <a:ext cx="357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5651-4DD8-443D-BB2B-D64886DBA20F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8E07-7689-4C13-81BD-B5D70821DE06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778120" y="6356520"/>
            <a:ext cx="3587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5BCB-367D-4D1A-AD5F-A1866C047AFC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97F5-E70C-4B4A-BB5D-CF6A15BB98BF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778120" y="6356520"/>
            <a:ext cx="3587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C0FC-DCD7-4722-A8A7-6508784AD850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B1F7-56C0-49E1-A302-3630D9903255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2778120" y="6356520"/>
            <a:ext cx="3587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DD0F-0A04-43A9-818A-92AEF66860E6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5A5D-DCE9-4296-9BA1-4544E21080B6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2803320" y="6356520"/>
            <a:ext cx="357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1706-A564-439B-B03B-710D8D232250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03ED-B46B-45AA-8EBD-48E56B032492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2803320" y="6356520"/>
            <a:ext cx="357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9C30-59C5-42C2-869C-89E0D0E5BACC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DD46-9609-4C57-B7EE-FC931363FB28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2793600" y="6356520"/>
            <a:ext cx="358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AC73-685B-41D0-89DF-2A747914CB66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CD3B-F012-4454-B00D-1C296455AACA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2793600" y="6356520"/>
            <a:ext cx="358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A943-33B7-485B-9EB3-95E2703486E9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F46D-5DD8-4BE9-B2F5-1FC8F2E15B79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5B90-2AAD-48D4-BAF2-62CD2FB37A8F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itle 1"/>
          <p:cNvSpPr/>
          <p:nvPr/>
        </p:nvSpPr>
        <p:spPr>
          <a:xfrm>
            <a:off x="0" y="1882800"/>
            <a:ext cx="9144000" cy="216216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000000"/>
                </a:solidFill>
                <a:latin typeface="Calibri"/>
              </a:rPr>
              <a:t>South African Weather Service </a:t>
            </a:r>
            <a:r>
              <a:rPr b="1" lang="en-ZA" sz="3200" spc="-1" strike="noStrike">
                <a:solidFill>
                  <a:srgbClr val="000000"/>
                </a:solidFill>
                <a:latin typeface="Calibri"/>
              </a:rPr>
              <a:t>Surface Observation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13"/>
          <p:cNvSpPr/>
          <p:nvPr/>
        </p:nvSpPr>
        <p:spPr>
          <a:xfrm>
            <a:off x="2629080" y="4927680"/>
            <a:ext cx="3870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3864"/>
                </a:solidFill>
                <a:latin typeface="Calibri"/>
              </a:rPr>
              <a:t>Ms. Sam Linn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54CA-8D9F-41A7-B13F-2B68EC0DF910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2A7D-CB82-4739-837B-933AC47377F0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itle 1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alibri"/>
              </a:rPr>
              <a:t>SAWS Surface Observation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13"/>
          <p:cNvSpPr/>
          <p:nvPr/>
        </p:nvSpPr>
        <p:spPr>
          <a:xfrm>
            <a:off x="345960" y="1246320"/>
            <a:ext cx="50706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235080" y="1211400"/>
          <a:ext cx="8493120" cy="5341680"/>
        </p:xfrm>
        <a:graphic>
          <a:graphicData uri="http://schemas.openxmlformats.org/drawingml/2006/table">
            <a:tbl>
              <a:tblPr/>
              <a:tblGrid>
                <a:gridCol w="6664320"/>
                <a:gridCol w="1828800"/>
              </a:tblGrid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ion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. of s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ther Off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atic Weather S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atic Rainfall S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 S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nfall S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 Surface Temp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ghtning Det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ar Radi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 Qu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8339-6FE6-4C8F-A0B0-0CC41650E724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84E3-8343-4DCD-BCDA-2C31C6B66CC1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13"/>
          <p:cNvSpPr/>
          <p:nvPr/>
        </p:nvSpPr>
        <p:spPr>
          <a:xfrm>
            <a:off x="345960" y="1246320"/>
            <a:ext cx="50706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10" descr=""/>
          <p:cNvPicPr/>
          <p:nvPr/>
        </p:nvPicPr>
        <p:blipFill>
          <a:blip r:embed="rId1"/>
          <a:stretch/>
        </p:blipFill>
        <p:spPr>
          <a:xfrm>
            <a:off x="6967440" y="-6480"/>
            <a:ext cx="2183040" cy="290844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5" descr=""/>
          <p:cNvPicPr/>
          <p:nvPr/>
        </p:nvPicPr>
        <p:blipFill>
          <a:blip r:embed="rId2"/>
          <a:stretch/>
        </p:blipFill>
        <p:spPr>
          <a:xfrm>
            <a:off x="6551640" y="2757600"/>
            <a:ext cx="2592360" cy="25765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2673360" cy="28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6" name="Picture 11" descr=""/>
          <p:cNvPicPr/>
          <p:nvPr/>
        </p:nvPicPr>
        <p:blipFill>
          <a:blip r:embed="rId4"/>
          <a:stretch/>
        </p:blipFill>
        <p:spPr>
          <a:xfrm>
            <a:off x="4959360" y="0"/>
            <a:ext cx="2008080" cy="2778120"/>
          </a:xfrm>
          <a:prstGeom prst="rect">
            <a:avLst/>
          </a:prstGeom>
          <a:ln w="0">
            <a:noFill/>
          </a:ln>
        </p:spPr>
      </p:pic>
      <p:pic>
        <p:nvPicPr>
          <p:cNvPr id="667" name="Content Placeholder 13" descr="Z:\OBSERVATIONS\METADATA\CLS-OBS-METADATA-REGIONS\EAST LONDON\ARS\STUTTERHEIM WRIGGLESWADE\Wriggleswade E to W.JPG"/>
          <p:cNvPicPr/>
          <p:nvPr/>
        </p:nvPicPr>
        <p:blipFill>
          <a:blip r:embed="rId5"/>
          <a:stretch/>
        </p:blipFill>
        <p:spPr>
          <a:xfrm>
            <a:off x="0" y="2887560"/>
            <a:ext cx="2871720" cy="28479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" descr=""/>
          <p:cNvPicPr/>
          <p:nvPr/>
        </p:nvPicPr>
        <p:blipFill>
          <a:blip r:embed="rId6"/>
          <a:stretch/>
        </p:blipFill>
        <p:spPr>
          <a:xfrm>
            <a:off x="2673360" y="0"/>
            <a:ext cx="2270160" cy="317016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4" descr="C:\Users\samantha.linnerts\AppData\Local\Microsoft\Windows\Temporary Internet Files\Content.Word\north.jpg"/>
          <p:cNvPicPr/>
          <p:nvPr/>
        </p:nvPicPr>
        <p:blipFill>
          <a:blip r:embed="rId7"/>
          <a:stretch/>
        </p:blipFill>
        <p:spPr>
          <a:xfrm>
            <a:off x="2660760" y="2766960"/>
            <a:ext cx="388944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48A3-53A7-48E4-BD85-111EE344CCB7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1E1E-C5D6-4DFE-AD0A-CB5093971950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itle 1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alibri"/>
              </a:rPr>
              <a:t>AUTOMATED S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13"/>
          <p:cNvSpPr/>
          <p:nvPr/>
        </p:nvSpPr>
        <p:spPr>
          <a:xfrm>
            <a:off x="345960" y="1246320"/>
            <a:ext cx="50706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Picture 8" descr="Automated Stations.jpg"/>
          <p:cNvPicPr/>
          <p:nvPr/>
        </p:nvPicPr>
        <p:blipFill>
          <a:blip r:embed="rId1"/>
          <a:stretch/>
        </p:blipFill>
        <p:spPr>
          <a:xfrm>
            <a:off x="0" y="1027080"/>
            <a:ext cx="914400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13F9-8A51-4F2C-A55E-68D428512F5D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753F-55DB-4B92-AAF8-A815DF9B9601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itle 1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alibri"/>
              </a:rPr>
              <a:t>MANUAL S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3"/>
          <p:cNvSpPr/>
          <p:nvPr/>
        </p:nvSpPr>
        <p:spPr>
          <a:xfrm>
            <a:off x="345960" y="1246320"/>
            <a:ext cx="50706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6" descr="Manual Stations.jpg"/>
          <p:cNvPicPr/>
          <p:nvPr/>
        </p:nvPicPr>
        <p:blipFill>
          <a:blip r:embed="rId1"/>
          <a:stretch/>
        </p:blipFill>
        <p:spPr>
          <a:xfrm>
            <a:off x="0" y="1093680"/>
            <a:ext cx="914400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4B72-A75B-480D-8BEC-BCEBDD3823CB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4F94-3813-469F-818E-9B6C0AEAB983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itle 1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alibri"/>
              </a:rPr>
              <a:t>SAWS-OSCAR STATION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13"/>
          <p:cNvSpPr/>
          <p:nvPr/>
        </p:nvSpPr>
        <p:spPr>
          <a:xfrm>
            <a:off x="345960" y="1246320"/>
            <a:ext cx="50706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7" descr="SAWS VS OSCAR.jpg"/>
          <p:cNvPicPr/>
          <p:nvPr/>
        </p:nvPicPr>
        <p:blipFill>
          <a:blip r:embed="rId1"/>
          <a:stretch/>
        </p:blipFill>
        <p:spPr>
          <a:xfrm>
            <a:off x="0" y="1093680"/>
            <a:ext cx="914400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B419-E515-4E8A-B619-ABDE75099D65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E459-E93C-408A-8910-3081A64EBAFD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itle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alibri"/>
              </a:rPr>
              <a:t>SAWS Surface Observation Network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Box 13"/>
          <p:cNvSpPr/>
          <p:nvPr/>
        </p:nvSpPr>
        <p:spPr>
          <a:xfrm>
            <a:off x="345960" y="1246320"/>
            <a:ext cx="50706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0" y="1052640"/>
          <a:ext cx="9144000" cy="5805360"/>
        </p:xfrm>
        <a:graphic>
          <a:graphicData uri="http://schemas.openxmlformats.org/drawingml/2006/table">
            <a:tbl>
              <a:tblPr/>
              <a:tblGrid>
                <a:gridCol w="2344680"/>
                <a:gridCol w="592200"/>
                <a:gridCol w="865080"/>
                <a:gridCol w="1525680"/>
                <a:gridCol w="615960"/>
                <a:gridCol w="1386000"/>
                <a:gridCol w="181440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ion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. of st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TS Exchang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SCAR Registe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ther Off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 Non-reporting/ clo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atic Weather St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 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 A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atic Rainfall St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 St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nfall St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 Surface Tempera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ghtning Det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ar Rad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 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2F96-B522-4013-9347-DF412D9C1176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4887-315B-487F-ADCA-AD214D54C7E8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itle 1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alibri"/>
              </a:rPr>
              <a:t>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13"/>
          <p:cNvSpPr/>
          <p:nvPr/>
        </p:nvSpPr>
        <p:spPr>
          <a:xfrm>
            <a:off x="345960" y="1246320"/>
            <a:ext cx="50706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Box 7"/>
          <p:cNvSpPr/>
          <p:nvPr/>
        </p:nvSpPr>
        <p:spPr>
          <a:xfrm>
            <a:off x="401760" y="1301760"/>
            <a:ext cx="8007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205 stations on OSCAR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186 Stations fully oper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19 Non-reporting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ZA" sz="1800" spc="-1" strike="noStrike">
                <a:solidFill>
                  <a:srgbClr val="000000"/>
                </a:solidFill>
                <a:latin typeface="Arial"/>
              </a:rPr>
              <a:t>SAWS plans to re-open the  some of the closed stations.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Challen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Generating of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Some information is in hardcopy (To be digitize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Not all information is available on the OSCAR Por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e.g. Sensor infor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0760" y="27716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Date Placeholder 6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9514-FD74-405D-96BF-295607191CBB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lide Number Placeholder 8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62BE-1216-4A9A-8430-5D4095AE0F5F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ooter Placeholder 4"/>
          <p:cNvSpPr/>
          <p:nvPr/>
        </p:nvSpPr>
        <p:spPr>
          <a:xfrm>
            <a:off x="2394000" y="6319800"/>
            <a:ext cx="435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Templ ref: CRS–CC-PRES-TEMP-003.2</a:t>
            </a:r>
            <a:br>
              <a:rPr sz="1200"/>
            </a:br>
            <a:r>
              <a:rPr b="1" lang="pt-BR" sz="1200" spc="-1" strike="noStrike">
                <a:solidFill>
                  <a:srgbClr val="898989"/>
                </a:solidFill>
                <a:latin typeface="Arial"/>
              </a:rPr>
              <a:t>Doc Ref no:  IIS-PRES-BOARD INDUCTION-29 JUNE 20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7T11:03:38Z</dcterms:created>
  <dc:creator>Heidel</dc:creator>
  <dc:description/>
  <dc:language>en-US</dc:language>
  <cp:lastModifiedBy>Grungehogna</cp:lastModifiedBy>
  <dcterms:modified xsi:type="dcterms:W3CDTF">2018-08-16T11:10:36Z</dcterms:modified>
  <cp:revision>54</cp:revision>
  <dc:subject/>
  <dc:title>PowerPoint Presentation</dc:title>
</cp:coreProperties>
</file>