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3.png" ContentType="image/png"/>
  <Override PartName="/ppt/media/image43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13.jpeg" ContentType="image/jpe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CDB022-8733-4D66-8C0A-FCD8995A9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9FA925-136E-47F4-81C7-BDABE52C4C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8532B0-02E3-466D-9F3E-75D0C699C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BAD905-C442-497D-BE59-E916A0DF3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6C2B18-9C83-4B07-BDE4-AFE10870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4CF4CD-9784-4FB7-B495-520AE8CF3D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6CB07D-4D63-4C0C-A3FA-E11B66FF3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4CF-537D-42FB-BD6D-1A8F864B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38A-DD4B-4D83-BDA7-7C48C961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B82-3838-4830-876E-738FCD04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A45-6D73-473F-954C-B6ED6629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083-7650-4C9C-ABFB-7831958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77FF-3B83-4A7A-9F62-DE1E0C27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669A-524E-4124-B531-344E1FA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4EE1-D665-4F7D-9484-9A700D0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B739-C2DA-47DE-A99D-5EFFF3D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BF89-A394-413A-B0AB-F06A180E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B81E-2C60-4CBC-A43E-222733E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B1E-FE61-4B39-80C9-FABEB9D1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257D-CDAA-4866-84B1-9416F51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5D44-B6FB-4D9E-B45F-A3952397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5BCB-7882-4102-AC05-DA1BF906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70B4-ABF8-4D05-B311-4C144781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02B5-39F3-4330-AA19-28E30EB9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008-7A85-48D8-B0D6-BEE6FB57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1F2-4610-4019-82F1-03853B26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535-4F23-436A-9970-D8E5016F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3F1-4563-4B28-9443-D41D58E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115-2470-407F-A0E8-5242ADA1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B69-322A-4884-AAE5-F813BAD5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85F-6008-4353-B3D6-1100D57B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8F2463-7A40-4230-A4B9-288F5C7EF9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DD7CF0-3689-4D53-B09E-B3859A61844E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eamyelm@gmau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ecision_making" TargetMode="External"/><Relationship Id="rId2" Type="http://schemas.openxmlformats.org/officeDocument/2006/relationships/hyperlink" Target="https://en.wikipedia.org/wiki/Plannin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Historical_document" TargetMode="External"/><Relationship Id="rId2" Type="http://schemas.openxmlformats.org/officeDocument/2006/relationships/hyperlink" Target="https://en.wikipedia.org/wiki/Archive" TargetMode="External"/><Relationship Id="rId3" Type="http://schemas.openxmlformats.org/officeDocument/2006/relationships/hyperlink" Target="https://en.wikipedia.org/wiki/Archival_scienc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00b050"/>
                </a:solidFill>
                <a:latin typeface="Times New Roman"/>
              </a:rPr>
              <a:t>National Meteorological Agency </a:t>
            </a: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and climatology directorate </a:t>
            </a: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management and administration department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By Shemsu Mubar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ata base management and administration case team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Email- </a:t>
            </a:r>
            <a:r>
              <a:rPr b="1" i="1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heamyelm@gmaul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o box -109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Cell phone- 09135122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e_wmo\3rd class stations.JPG"/>
          <p:cNvPicPr/>
          <p:nvPr/>
        </p:nvPicPr>
        <p:blipFill>
          <a:blip r:embed="rId1"/>
          <a:stretch/>
        </p:blipFill>
        <p:spPr>
          <a:xfrm>
            <a:off x="380880" y="3747960"/>
            <a:ext cx="4343040" cy="28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ictorial view of surface station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4" descr="C:\Documents and Settings\test123.NMSA\Desktop\rrr\palisades\Presentation\Station_type\Bole_engineering Synoptic station.JPG"/>
          <p:cNvPicPr/>
          <p:nvPr/>
        </p:nvPicPr>
        <p:blipFill>
          <a:blip r:embed="rId2"/>
          <a:stretch/>
        </p:blipFill>
        <p:spPr>
          <a:xfrm>
            <a:off x="4952880" y="83808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6" descr="C:\Documents and Settings\test123.NMSA\Desktop\rrr\palisades\Presentation\Station_type\Tis_Abay_4th.jpg"/>
          <p:cNvPicPr/>
          <p:nvPr/>
        </p:nvPicPr>
        <p:blipFill>
          <a:blip r:embed="rId3"/>
          <a:stretch/>
        </p:blipFill>
        <p:spPr>
          <a:xfrm>
            <a:off x="4876920" y="3886200"/>
            <a:ext cx="3868200" cy="27428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57"/>
          <p:cNvSpPr/>
          <p:nvPr/>
        </p:nvSpPr>
        <p:spPr>
          <a:xfrm>
            <a:off x="4952880" y="3429000"/>
            <a:ext cx="2742840" cy="3945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c99ff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ynoptic/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2860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838080"/>
            <a:ext cx="4495320" cy="2895120"/>
          </a:xfrm>
          <a:prstGeom prst="rect">
            <a:avLst/>
          </a:prstGeom>
          <a:solidFill>
            <a:srgbClr val="92d050">
              <a:alpha val="1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stations typ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optic/class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ons collect &gt;10 meteorological parameters.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I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air temperature and rainfall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V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10552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GB" sz="2800" spc="-1" strike="noStrike" u="sng">
                <a:solidFill>
                  <a:srgbClr val="7b9899"/>
                </a:solidFill>
                <a:uFillTx/>
                <a:latin typeface="Georgia"/>
              </a:rPr>
              <a:t>AWS data and data's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291840" cy="4922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00000" cy="15570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G:\20140912_100313.jpg"/>
          <p:cNvPicPr/>
          <p:nvPr/>
        </p:nvPicPr>
        <p:blipFill>
          <a:blip r:embed="rId3"/>
          <a:stretch/>
        </p:blipFill>
        <p:spPr>
          <a:xfrm>
            <a:off x="7391520" y="1143000"/>
            <a:ext cx="1599840" cy="1294920"/>
          </a:xfrm>
          <a:prstGeom prst="rect">
            <a:avLst/>
          </a:prstGeom>
          <a:ln w="9525">
            <a:noFill/>
          </a:ln>
        </p:spPr>
      </p:pic>
      <p:sp>
        <p:nvSpPr>
          <p:cNvPr id="150" name="Right Arrow 8"/>
          <p:cNvSpPr/>
          <p:nvPr/>
        </p:nvSpPr>
        <p:spPr>
          <a:xfrm>
            <a:off x="3581280" y="144792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1" name="Right Arrow 9"/>
          <p:cNvSpPr/>
          <p:nvPr/>
        </p:nvSpPr>
        <p:spPr>
          <a:xfrm>
            <a:off x="6248520" y="137160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2120400" cy="1409400"/>
          </a:xfrm>
          <a:prstGeom prst="rect">
            <a:avLst/>
          </a:prstGeom>
          <a:ln w="9525">
            <a:noFill/>
          </a:ln>
        </p:spPr>
      </p:pic>
      <p:sp>
        <p:nvSpPr>
          <p:cNvPr id="153" name="Down Arrow 11"/>
          <p:cNvSpPr/>
          <p:nvPr/>
        </p:nvSpPr>
        <p:spPr>
          <a:xfrm>
            <a:off x="8001000" y="2743200"/>
            <a:ext cx="609120" cy="11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5"/>
          <a:stretch/>
        </p:blipFill>
        <p:spPr>
          <a:xfrm>
            <a:off x="3657600" y="2895480"/>
            <a:ext cx="3276360" cy="227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3733920" y="5867280"/>
            <a:ext cx="2742840" cy="1371240"/>
          </a:xfrm>
          <a:prstGeom prst="rect">
            <a:avLst/>
          </a:prstGeom>
          <a:ln w="9525">
            <a:noFill/>
          </a:ln>
        </p:spPr>
      </p:pic>
      <p:cxnSp>
        <p:nvCxnSpPr>
          <p:cNvPr id="156" name="Straight Arrow Connector 15"/>
          <p:cNvCxnSpPr/>
          <p:nvPr/>
        </p:nvCxnSpPr>
        <p:spPr>
          <a:xfrm flipH="1" flipV="1">
            <a:off x="6858000" y="4495680"/>
            <a:ext cx="838440" cy="180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157" name="Straight Arrow Connector 17"/>
          <p:cNvCxnSpPr>
            <a:endCxn id="155" idx="0"/>
          </p:cNvCxnSpPr>
          <p:nvPr/>
        </p:nvCxnSpPr>
        <p:spPr>
          <a:xfrm flipH="1">
            <a:off x="5104440" y="5105880"/>
            <a:ext cx="1800" cy="7624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520" cy="533376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Visala aw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Valsalva aws server 2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F:\vaisala  server.PNG"/>
          <p:cNvPicPr/>
          <p:nvPr/>
        </p:nvPicPr>
        <p:blipFill>
          <a:blip r:embed="rId1"/>
          <a:stretch/>
        </p:blipFill>
        <p:spPr>
          <a:xfrm>
            <a:off x="301680" y="1638720"/>
            <a:ext cx="8503920" cy="43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acon server aws1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F:\ADCON SERVER.PNG"/>
          <p:cNvPicPr/>
          <p:nvPr/>
        </p:nvPicPr>
        <p:blipFill>
          <a:blip r:embed="rId1"/>
          <a:stretch/>
        </p:blipFill>
        <p:spPr>
          <a:xfrm>
            <a:off x="301680" y="1616400"/>
            <a:ext cx="850392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source flow </a:t>
            </a:r>
            <a:r>
              <a:rPr b="0" lang="en-US" sz="3300" spc="-1" strike="noStrike">
                <a:solidFill>
                  <a:srgbClr val="7b9899"/>
                </a:solidFill>
                <a:latin typeface="Wingdings"/>
              </a:rPr>
              <a:t>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utomatic as wll as manual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43192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ions which Meteorological Data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urrently we hav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sore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666880" y="4114800"/>
            <a:ext cx="3047760" cy="15998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lt1"/>
                </a:solidFill>
                <a:latin typeface="Times New Roman"/>
              </a:rPr>
              <a:t>D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685800" y="2819520"/>
            <a:ext cx="106632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1.Conventional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/>
          <p:cNvSpPr/>
          <p:nvPr/>
        </p:nvSpPr>
        <p:spPr>
          <a:xfrm>
            <a:off x="3836160" y="2895480"/>
            <a:ext cx="1269000" cy="8377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2.Automatic weathe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6858000" y="2971800"/>
            <a:ext cx="137124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3.Ssatelite receiving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7"/>
          <p:cNvSpPr/>
          <p:nvPr/>
        </p:nvSpPr>
        <p:spPr>
          <a:xfrm>
            <a:off x="685800" y="5880240"/>
            <a:ext cx="1371240" cy="8251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Upper air 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8"/>
          <p:cNvSpPr/>
          <p:nvPr/>
        </p:nvSpPr>
        <p:spPr>
          <a:xfrm>
            <a:off x="7010280" y="6045480"/>
            <a:ext cx="1066320" cy="8121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Rada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9"/>
          <p:cNvSpPr/>
          <p:nvPr/>
        </p:nvSpPr>
        <p:spPr>
          <a:xfrm>
            <a:off x="3696120" y="6172200"/>
            <a:ext cx="1269000" cy="6854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Air pol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1"/>
          <p:cNvCxnSpPr/>
          <p:nvPr/>
        </p:nvCxnSpPr>
        <p:spPr>
          <a:xfrm>
            <a:off x="1828800" y="3733560"/>
            <a:ext cx="83844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4" name="Straight Arrow Connector 13"/>
          <p:cNvCxnSpPr/>
          <p:nvPr/>
        </p:nvCxnSpPr>
        <p:spPr>
          <a:xfrm flipV="1">
            <a:off x="1776600" y="5715000"/>
            <a:ext cx="890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5" name="Straight Arrow Connector 15"/>
          <p:cNvCxnSpPr/>
          <p:nvPr/>
        </p:nvCxnSpPr>
        <p:spPr>
          <a:xfrm>
            <a:off x="4330800" y="3733560"/>
            <a:ext cx="36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 flipH="1">
            <a:off x="5715000" y="3886200"/>
            <a:ext cx="1143360" cy="2289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 flipH="1" flipV="1">
            <a:off x="5715000" y="5715000"/>
            <a:ext cx="1295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8" name="Straight Arrow Connector 21"/>
          <p:cNvCxnSpPr>
            <a:endCxn id="166" idx="2"/>
          </p:cNvCxnSpPr>
          <p:nvPr/>
        </p:nvCxnSpPr>
        <p:spPr>
          <a:xfrm flipH="1" flipV="1">
            <a:off x="4190760" y="5715000"/>
            <a:ext cx="13320" cy="4575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7CC-FDEA-42B6-8B49-56A9F395DCE4}" type="slidenum">
              <a:t>15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Quality control: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Definition - What does </a:t>
            </a: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Data Quality</a:t>
            </a: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 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quality is 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ricat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e way of measuring data properties from different perspecti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 is a comprehensive examination of the applicatio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fficiency, reliability and fitness of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s needs cheek list (standard or local defend) to examine the data has to be valid or no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are generally considered high quality if "they are fit for their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ended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 uses in </a:t>
            </a:r>
            <a:r>
              <a:rPr b="1" lang="en-US" sz="2200" spc="-1" strike="noStrike" u="sng">
                <a:solidFill>
                  <a:srgbClr val="646b86"/>
                </a:solidFill>
                <a:uFillTx/>
                <a:latin typeface="Times New Roman"/>
              </a:rPr>
              <a:t>operations, decision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 making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 and 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andard techniques and testes mechanism  on data quality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;-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ang test :-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based on lower and upper limits of specific observations ;eg SS&gt; OR=0 and &lt;=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The simplest teachings total selection of individual observ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Inter consistency test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using double line graph between two dependable obviations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;eg Tmpmax&gt;or =tmpmi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. the air temperature must not be less than the dew 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 algn="just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Tempor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 algn="just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the difference between two successive observa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8120" indent="-258120" algn="just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pati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the station-dependent limits of plausible difference between the temperatures and so on at a station and its neighbors' must not be violated).</a:t>
            </a: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just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omogeneity te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-need to be widely used to create high quality datase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ctr">
              <a:lnSpc>
                <a:spcPct val="100000"/>
              </a:lnSpc>
              <a:spcBef>
                <a:spcPts val="7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ly its difficult to appli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>
              <a:lnSpc>
                <a:spcPct val="100000"/>
              </a:lnSpc>
              <a:spcBef>
                <a:spcPts val="8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uplication station chec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tep addresses the replication erroneous values in the processes of data entering and transmission, including station location errors; station relocation, erroneous zeros, and multiple missing value erro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320" y="2700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bles basically using on direct data entry quality  and controlling valid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Content Placeholder 6" descr=""/>
          <p:cNvPicPr/>
          <p:nvPr/>
        </p:nvPicPr>
        <p:blipFill>
          <a:blip r:embed="rId1"/>
          <a:stretch/>
        </p:blipFill>
        <p:spPr>
          <a:xfrm>
            <a:off x="-90000" y="2666880"/>
            <a:ext cx="9233640" cy="116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9095040" cy="1241640"/>
          </a:xfrm>
          <a:prstGeom prst="rect">
            <a:avLst/>
          </a:prstGeom>
          <a:ln w="0">
            <a:noFill/>
          </a:ln>
        </p:spPr>
      </p:pic>
      <p:pic>
        <p:nvPicPr>
          <p:cNvPr id="188" name="Content Placeholder 3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3640" cy="1599840"/>
          </a:xfrm>
          <a:prstGeom prst="rect">
            <a:avLst/>
          </a:prstGeom>
          <a:ln w="9525">
            <a:noFill/>
          </a:ln>
        </p:spPr>
      </p:pic>
      <p:pic>
        <p:nvPicPr>
          <p:cNvPr id="189" name="Content Placeholder 3" descr=""/>
          <p:cNvPicPr/>
          <p:nvPr/>
        </p:nvPicPr>
        <p:blipFill>
          <a:blip r:embed="rId4"/>
          <a:stretch/>
        </p:blipFill>
        <p:spPr>
          <a:xfrm>
            <a:off x="0" y="5029200"/>
            <a:ext cx="9095040" cy="1599840"/>
          </a:xfrm>
          <a:prstGeom prst="rect">
            <a:avLst/>
          </a:prstGeom>
          <a:ln w="9525">
            <a:noFill/>
          </a:ln>
        </p:spPr>
      </p:pic>
      <p:sp>
        <p:nvSpPr>
          <p:cNvPr id="190" name="Oval 9"/>
          <p:cNvSpPr/>
          <p:nvPr/>
        </p:nvSpPr>
        <p:spPr>
          <a:xfrm>
            <a:off x="1613880" y="1676520"/>
            <a:ext cx="3033720" cy="91404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tailed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(R DATA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352680" y="28195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Main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 stations data(R DATA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1828800" y="41011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stations data (R DATA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581280" y="5410080"/>
            <a:ext cx="2895120" cy="83772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4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 (R DATA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4"/>
          <p:cNvCxnSpPr/>
          <p:nvPr/>
        </p:nvCxnSpPr>
        <p:spPr>
          <a:xfrm flipV="1">
            <a:off x="165960" y="1923840"/>
            <a:ext cx="1448280" cy="38520"/>
          </a:xfrm>
          <a:prstGeom prst="straightConnector1">
            <a:avLst/>
          </a:prstGeom>
          <a:ln>
            <a:solidFill>
              <a:srgbClr val="d19049"/>
            </a:solidFill>
            <a:round/>
            <a:tailEnd len="med" type="arrow" w="med"/>
          </a:ln>
        </p:spPr>
      </p:cxnSp>
      <p:cxnSp>
        <p:nvCxnSpPr>
          <p:cNvPr id="195" name="Straight Arrow Connector 16"/>
          <p:cNvCxnSpPr/>
          <p:nvPr/>
        </p:nvCxnSpPr>
        <p:spPr>
          <a:xfrm flipV="1">
            <a:off x="1904760" y="3276360"/>
            <a:ext cx="1296000" cy="38520"/>
          </a:xfrm>
          <a:prstGeom prst="straightConnector1">
            <a:avLst/>
          </a:prstGeom>
          <a:ln>
            <a:solidFill>
              <a:srgbClr val="8cadae"/>
            </a:solidFill>
            <a:round/>
            <a:tailEnd len="med" type="arrow" w="med"/>
          </a:ln>
        </p:spPr>
      </p:cxnSp>
      <p:cxnSp>
        <p:nvCxnSpPr>
          <p:cNvPr id="196" name="Straight Arrow Connector 21"/>
          <p:cNvCxnSpPr/>
          <p:nvPr/>
        </p:nvCxnSpPr>
        <p:spPr>
          <a:xfrm>
            <a:off x="165960" y="4570200"/>
            <a:ext cx="1676880" cy="2160"/>
          </a:xfrm>
          <a:prstGeom prst="straightConnector1">
            <a:avLst/>
          </a:prstGeom>
          <a:ln>
            <a:solidFill>
              <a:srgbClr val="8fb08c"/>
            </a:solidFill>
            <a:round/>
            <a:tailEnd len="med" type="arrow" w="med"/>
          </a:ln>
        </p:spPr>
      </p:cxnSp>
      <p:cxnSp>
        <p:nvCxnSpPr>
          <p:cNvPr id="197" name="Straight Arrow Connector 28"/>
          <p:cNvCxnSpPr/>
          <p:nvPr/>
        </p:nvCxnSpPr>
        <p:spPr>
          <a:xfrm flipV="1">
            <a:off x="2133360" y="5867280"/>
            <a:ext cx="1662840" cy="74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Rectangle 15"/>
          <p:cNvSpPr/>
          <p:nvPr/>
        </p:nvSpPr>
        <p:spPr>
          <a:xfrm>
            <a:off x="6248520" y="1219320"/>
            <a:ext cx="2895120" cy="53337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646b86"/>
              </a:buClr>
              <a:buFont typeface="Georgia"/>
              <a:buAutoNum type="arabicPeriod"/>
            </a:pPr>
            <a:r>
              <a:rPr b="1" lang="en-US" sz="1800" spc="-1" strike="noStrike">
                <a:solidFill>
                  <a:srgbClr val="646b86"/>
                </a:solidFill>
                <a:latin typeface="Georgia"/>
              </a:rPr>
              <a:t>k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ffffff"/>
              </a:buClr>
              <a:buFont typeface="Georgia"/>
              <a:buAutoNum type="romanLcPeriod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On the key entry format </a:t>
            </a:r>
            <a:r>
              <a:rPr b="1" i="1" lang="en-US" sz="1800" spc="-1" strike="noStrike">
                <a:solidFill>
                  <a:schemeClr val="lt1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pending on the selection of the field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orrect, Warning, Validated, Invalidated or Empty,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5716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Its indicate four different colure types for different data input :-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green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</a:rPr>
              <a:t>blue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D20-CFF5-4A40-B254-61BD57C5FF3A}" type="slidenum">
              <a:t>19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Out lin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4767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Introdu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sponsibil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sour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Managing meteorologic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dministra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Expecting Out 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delivery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Back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Future 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rch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 archive is an accumulation of </a:t>
            </a:r>
            <a:r>
              <a:rPr b="1" lang="en-US" sz="27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historical record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or the physical place they are located.</a:t>
            </a:r>
            <a:r>
              <a:rPr b="1" lang="en-US" sz="2700" spc="-1" strike="noStrike" u="sng" baseline="30000">
                <a:solidFill>
                  <a:srgbClr val="00a3d6"/>
                </a:solidFill>
                <a:uFillTx/>
                <a:latin typeface="Times New Roman"/>
                <a:hlinkClick r:id="rId2"/>
              </a:rPr>
              <a:t>[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7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 study and practice of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organizing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eservi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g, and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viding acces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information and materials in archives is called </a:t>
            </a:r>
            <a:r>
              <a:rPr b="1" lang="en-US" sz="39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archival science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rchive: An archive refers to a single or a collection of historical records specifically selected for long-term retention and future refer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eds Prepare Index for the each Meteorological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AF9-BAF8-46B2-8A4B-1996ED0933DD}" type="slidenum">
              <a:t>2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base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entry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nd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y checking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ave responsible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</a:rPr>
              <a:t>data base data ent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heeping data error and quality contr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ographical information with real dat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ion defini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epor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rchive (hard copy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Picture 3" descr="P3050014"/>
          <p:cNvPicPr/>
          <p:nvPr/>
        </p:nvPicPr>
        <p:blipFill>
          <a:blip r:embed="rId1"/>
          <a:stretch/>
        </p:blipFill>
        <p:spPr>
          <a:xfrm>
            <a:off x="0" y="1141200"/>
            <a:ext cx="2803320" cy="2008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4" descr="P3050012"/>
          <p:cNvPicPr/>
          <p:nvPr/>
        </p:nvPicPr>
        <p:blipFill>
          <a:blip r:embed="rId2"/>
          <a:stretch/>
        </p:blipFill>
        <p:spPr>
          <a:xfrm>
            <a:off x="2743200" y="1143000"/>
            <a:ext cx="3230280" cy="2099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5" descr="P3050013"/>
          <p:cNvPicPr/>
          <p:nvPr/>
        </p:nvPicPr>
        <p:blipFill>
          <a:blip r:embed="rId3"/>
          <a:stretch/>
        </p:blipFill>
        <p:spPr>
          <a:xfrm>
            <a:off x="0" y="3200400"/>
            <a:ext cx="2793240" cy="2044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P3050011"/>
          <p:cNvPicPr/>
          <p:nvPr/>
        </p:nvPicPr>
        <p:blipFill>
          <a:blip r:embed="rId4"/>
          <a:stretch/>
        </p:blipFill>
        <p:spPr>
          <a:xfrm>
            <a:off x="2669400" y="3200400"/>
            <a:ext cx="3301560" cy="2057040"/>
          </a:xfrm>
          <a:prstGeom prst="rect">
            <a:avLst/>
          </a:prstGeom>
          <a:ln w="9525">
            <a:noFill/>
          </a:ln>
        </p:spPr>
      </p:pic>
      <p:sp>
        <p:nvSpPr>
          <p:cNvPr id="208" name="Rectangle 1027"/>
          <p:cNvSpPr/>
          <p:nvPr/>
        </p:nvSpPr>
        <p:spPr>
          <a:xfrm>
            <a:off x="304920" y="1143000"/>
            <a:ext cx="853416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477120" y="1219320"/>
            <a:ext cx="2666520" cy="39621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:Prim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Second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types of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lphabet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Monthly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High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information's to easily acce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8"/>
          <p:cNvSpPr/>
          <p:nvPr/>
        </p:nvSpPr>
        <p:spPr>
          <a:xfrm>
            <a:off x="5943600" y="3200400"/>
            <a:ext cx="60912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1" name="Rounded Rectangle 9"/>
          <p:cNvSpPr/>
          <p:nvPr/>
        </p:nvSpPr>
        <p:spPr>
          <a:xfrm>
            <a:off x="0" y="5410080"/>
            <a:ext cx="6095520" cy="1142640"/>
          </a:xfrm>
          <a:prstGeom prst="roundRect">
            <a:avLst>
              <a:gd name="adj" fmla="val 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Other NMA out put such as bulle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Elbow Connector 12"/>
          <p:cNvCxnSpPr>
            <a:stCxn id="211" idx="3"/>
          </p:cNvCxnSpPr>
          <p:nvPr/>
        </p:nvCxnSpPr>
        <p:spPr>
          <a:xfrm flipV="1">
            <a:off x="6095880" y="4724280"/>
            <a:ext cx="1524240" cy="1257480"/>
          </a:xfrm>
          <a:prstGeom prst="bentConnector2">
            <a:avLst/>
          </a:prstGeom>
          <a:ln>
            <a:solidFill>
              <a:srgbClr val="d16349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213" name="Straight Arrow Connector 14"/>
          <p:cNvCxnSpPr/>
          <p:nvPr/>
        </p:nvCxnSpPr>
        <p:spPr>
          <a:xfrm>
            <a:off x="3504960" y="5410080"/>
            <a:ext cx="686160" cy="6098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14" name="Straight Arrow Connector 17"/>
          <p:cNvCxnSpPr/>
          <p:nvPr/>
        </p:nvCxnSpPr>
        <p:spPr>
          <a:xfrm flipH="1">
            <a:off x="2590560" y="5257800"/>
            <a:ext cx="153000" cy="3812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ain menu oracle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DATA data base :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29040" cy="2666520"/>
          </a:xfrm>
          <a:prstGeom prst="rect">
            <a:avLst/>
          </a:prstGeom>
          <a:ln w="9525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066680" y="4419720"/>
            <a:ext cx="708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85800" y="4419720"/>
            <a:ext cx="213336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Times New Roman"/>
              </a:rPr>
              <a:t>manage the station and geograph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5562720"/>
            <a:ext cx="228564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Preparation and export of the data for run-off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819520" y="4038480"/>
            <a:ext cx="1676160" cy="8377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static list of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2819520" y="5486400"/>
            <a:ext cx="198072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different data reports&amp; rel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572000" y="3962520"/>
            <a:ext cx="159984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Times New Roman"/>
              </a:rPr>
              <a:t>different key entry forms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876920" y="5486400"/>
            <a:ext cx="220932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localizations, system, users and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6248520" y="3962520"/>
            <a:ext cx="190476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Retrieving or accessing all out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/>
          <p:nvPr/>
        </p:nvCxnSpPr>
        <p:spPr>
          <a:xfrm flipH="1">
            <a:off x="1827720" y="2058120"/>
            <a:ext cx="216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6" name="Straight Arrow Connector 15"/>
          <p:cNvCxnSpPr/>
          <p:nvPr/>
        </p:nvCxnSpPr>
        <p:spPr>
          <a:xfrm>
            <a:off x="2209680" y="2819160"/>
            <a:ext cx="360" cy="28198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7" name="Straight Arrow Connector 20"/>
          <p:cNvCxnSpPr/>
          <p:nvPr/>
        </p:nvCxnSpPr>
        <p:spPr>
          <a:xfrm flipH="1">
            <a:off x="3351960" y="1981800"/>
            <a:ext cx="1800" cy="2057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Straight Arrow Connector 22"/>
          <p:cNvCxnSpPr/>
          <p:nvPr/>
        </p:nvCxnSpPr>
        <p:spPr>
          <a:xfrm flipH="1">
            <a:off x="3962160" y="3124800"/>
            <a:ext cx="1080" cy="236196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4952880" y="2286000"/>
            <a:ext cx="612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Straight Arrow Connector 26"/>
          <p:cNvCxnSpPr/>
          <p:nvPr/>
        </p:nvCxnSpPr>
        <p:spPr>
          <a:xfrm flipH="1">
            <a:off x="5562360" y="3200400"/>
            <a:ext cx="2160" cy="243864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31" name="Straight Arrow Connector 28"/>
          <p:cNvCxnSpPr/>
          <p:nvPr/>
        </p:nvCxnSpPr>
        <p:spPr>
          <a:xfrm>
            <a:off x="6781680" y="2209680"/>
            <a:ext cx="76680" cy="198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32" name="Picture 1" descr="C:\Users\user\Desktop\disk top 02\Downloads\Capture.PNG"/>
          <p:cNvPicPr/>
          <p:nvPr/>
        </p:nvPicPr>
        <p:blipFill>
          <a:blip r:embed="rId2"/>
          <a:stretch/>
        </p:blipFill>
        <p:spPr>
          <a:xfrm>
            <a:off x="1981080" y="533520"/>
            <a:ext cx="685440" cy="62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Desktop\disk top 02\Downloads\1.PNG"/>
          <p:cNvPicPr/>
          <p:nvPr/>
        </p:nvPicPr>
        <p:blipFill>
          <a:blip r:embed="rId3"/>
          <a:stretch/>
        </p:blipFill>
        <p:spPr>
          <a:xfrm>
            <a:off x="4343400" y="304920"/>
            <a:ext cx="3190680" cy="1218960"/>
          </a:xfrm>
          <a:prstGeom prst="rect">
            <a:avLst/>
          </a:prstGeom>
          <a:ln w="0">
            <a:noFill/>
          </a:ln>
        </p:spPr>
      </p:pic>
      <p:sp>
        <p:nvSpPr>
          <p:cNvPr id="234" name="Right Arrow 21"/>
          <p:cNvSpPr/>
          <p:nvPr/>
        </p:nvSpPr>
        <p:spPr>
          <a:xfrm>
            <a:off x="2666880" y="838080"/>
            <a:ext cx="1676160" cy="22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Down Arrow 25"/>
          <p:cNvSpPr/>
          <p:nvPr/>
        </p:nvSpPr>
        <p:spPr>
          <a:xfrm>
            <a:off x="4648320" y="914400"/>
            <a:ext cx="45684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Geographical definit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C:\Users\ShemsuM\Desktop\FINAL PPT\giography.PNG"/>
          <p:cNvPicPr/>
          <p:nvPr/>
        </p:nvPicPr>
        <p:blipFill>
          <a:blip r:embed="rId1"/>
          <a:stretch/>
        </p:blipFill>
        <p:spPr>
          <a:xfrm>
            <a:off x="457200" y="1676520"/>
            <a:ext cx="63622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Observation definition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ShemsuM\Desktop\FINAL PPT\observations.PNG"/>
          <p:cNvPicPr/>
          <p:nvPr/>
        </p:nvPicPr>
        <p:blipFill>
          <a:blip r:embed="rId1"/>
          <a:stretch/>
        </p:blipFill>
        <p:spPr>
          <a:xfrm>
            <a:off x="533520" y="1717920"/>
            <a:ext cx="7924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ccessing from discoverer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C:\Users\ShemsuM\Desktop\FINAL PPT\descoverer.PNG"/>
          <p:cNvPicPr/>
          <p:nvPr/>
        </p:nvPicPr>
        <p:blipFill>
          <a:blip r:embed="rId1"/>
          <a:stretch/>
        </p:blipFill>
        <p:spPr>
          <a:xfrm>
            <a:off x="533520" y="1676520"/>
            <a:ext cx="80006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Product produced by climate data bas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onthly me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tre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rmal'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in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p view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base interpol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ap fi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066280" y="1523880"/>
            <a:ext cx="4096440" cy="40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75B-B609-447B-98BD-23F6B8E06C2D}" type="slidenum">
              <a:t>27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Product  :-</a:t>
            </a:r>
            <a:br>
              <a:rPr sz="3300"/>
            </a:b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                     wind ros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320" cy="50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2B3-D17B-4A8B-9D94-7F403F66C949}" type="slidenum">
              <a:t>28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185840" y="1786320"/>
            <a:ext cx="6735600" cy="4053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5190840" cy="46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Times New Roman"/>
              </a:rPr>
              <a:t>Introductions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MAD :-NMA data managements and administrations departments have responsi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ntrolling timely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us check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livering to custom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oring Data qualitative or quantitati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litative data is descriptive information (it describes something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ntitative data, is numerical information (numb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CD0-F950-4AC6-AA91-2D28060A6600}" type="slidenum">
              <a:t>3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774800"/>
            <a:ext cx="726372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4320" cy="59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2120" y="1383840"/>
            <a:ext cx="82101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From satellite rece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18 0702"/>
          <p:cNvPicPr/>
          <p:nvPr/>
        </p:nvPicPr>
        <p:blipFill>
          <a:blip r:embed="rId1"/>
          <a:stretch/>
        </p:blipFill>
        <p:spPr>
          <a:xfrm>
            <a:off x="1295280" y="1219320"/>
            <a:ext cx="6171840" cy="56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2000"/>
          </a:bodyPr>
          <a:p>
            <a:pPr indent="0">
              <a:lnSpc>
                <a:spcPct val="100000"/>
              </a:lnSpc>
              <a:buNone/>
            </a:pP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10-Daily Synthesis NDVI</a:t>
            </a: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for the 2</a:t>
            </a:r>
            <a:r>
              <a:rPr b="1" lang="en-US" sz="3300" spc="-1" strike="noStrike" u="sng" baseline="30000">
                <a:solidFill>
                  <a:srgbClr val="7b9899"/>
                </a:solidFill>
                <a:uFillTx/>
                <a:latin typeface="Georgia"/>
              </a:rPr>
              <a:t>nd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 Dekad of July 2018</a:t>
            </a:r>
            <a:br>
              <a:rPr sz="3300"/>
            </a:b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180702"/>
          <p:cNvPicPr/>
          <p:nvPr/>
        </p:nvPicPr>
        <p:blipFill>
          <a:blip r:embed="rId1"/>
          <a:stretch/>
        </p:blipFill>
        <p:spPr>
          <a:xfrm>
            <a:off x="838080" y="925920"/>
            <a:ext cx="6857640" cy="47728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7832880" y="2743200"/>
            <a:ext cx="1310760" cy="214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409720" cy="46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adar RECIVING PPI  daily dat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24320" cy="472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Back system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fter we prosed all data in data managements and administrations we should reserve all data as back up to minimizing data from differ ris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8" marL="2377440" indent="-182880" algn="ctr">
              <a:lnSpc>
                <a:spcPct val="100000"/>
              </a:lnSpc>
              <a:spcBef>
                <a:spcPts val="961"/>
              </a:spcBef>
              <a:buClr>
                <a:srgbClr val="b49e00"/>
              </a:buClr>
              <a:buSzPct val="90000"/>
              <a:buFont typeface="Symbol" charset="2"/>
              <a:buChar char=""/>
            </a:pPr>
            <a:r>
              <a:rPr b="0" lang="en-US" sz="4800" spc="-1" strike="noStrike" cap="all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ajor data dama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iner data da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have different back system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ystem back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s well a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data back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ustomer servi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f elements  is not defined in clidata data base, real time &amp; new o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accesses by data delivery pa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base out 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nal custom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eport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flow up all activity in data management and administrations collecting all reports at different time bossed on the total manual plan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Weekl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ont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0" lang="en-US" sz="2700" spc="-1" strike="noStrike">
                <a:solidFill>
                  <a:srgbClr val="0070c0"/>
                </a:solidFill>
                <a:latin typeface="Times New Roman"/>
              </a:rPr>
              <a:t>Resource feedback about the states of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functionality required to e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fectively manag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mate data and includes the following </a:t>
            </a:r>
            <a:r>
              <a:rPr b="0" lang="en-US" sz="2700" spc="-1" strike="noStrike">
                <a:solidFill>
                  <a:srgbClr val="00b050"/>
                </a:solidFill>
                <a:latin typeface="Times New Roman"/>
              </a:rPr>
              <a:t>conce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ing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xtrac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resc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assess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nagement of climate 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815-87CB-44D7-B504-60B4BF8EBD96}" type="slidenum">
              <a:t>4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86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Feature DMDA plane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3416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 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urces of qua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? And solu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or capacity ga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ly faced during the data possessing at different level ? 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base communic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to branch meteorological cente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date our clidata data bas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u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risk minimizing mechanism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ing life data for some ci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159-06AB-43F1-BE3C-BE529BA56EEF}" type="slidenum">
              <a:t>4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Profil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BMA general profile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Weather  and Climate information is the most Basic and importan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tools for life  at any corner of the world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ncluding me ^you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‘’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3" descr="C:\Users\owner\Desktop\NMA MAPROOM\respect.jpg"/>
          <p:cNvPicPr/>
          <p:nvPr/>
        </p:nvPicPr>
        <p:blipFill>
          <a:blip r:embed="rId1"/>
          <a:stretch/>
        </p:blipFill>
        <p:spPr>
          <a:xfrm>
            <a:off x="1981080" y="1828800"/>
            <a:ext cx="6324120" cy="4599360"/>
          </a:xfrm>
          <a:prstGeom prst="rect">
            <a:avLst/>
          </a:prstGeom>
          <a:ln w="0">
            <a:noFill/>
          </a:ln>
        </p:spPr>
      </p:pic>
      <p:sp>
        <p:nvSpPr>
          <p:cNvPr id="286" name="Down Arrow 4"/>
          <p:cNvSpPr/>
          <p:nvPr/>
        </p:nvSpPr>
        <p:spPr>
          <a:xfrm>
            <a:off x="3124080" y="1219320"/>
            <a:ext cx="380520" cy="129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2800" spc="-1" strike="noStrike">
                <a:solidFill>
                  <a:srgbClr val="7b9899"/>
                </a:solidFill>
                <a:latin typeface="Visual Geez Unicode"/>
              </a:rPr>
              <a:t>የጣቢያዎች ስርጭት ማ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066320" cy="102636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7916760" cy="61718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1218960" cy="111924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graphicFrame>
        <p:nvGraphicFramePr>
          <p:cNvPr id="124" name="Group 4"/>
          <p:cNvGraphicFramePr/>
          <p:nvPr/>
        </p:nvGraphicFramePr>
        <p:xfrm>
          <a:off x="6553080" y="2774160"/>
          <a:ext cx="2361960" cy="3770280"/>
        </p:xfrm>
        <a:graphic>
          <a:graphicData uri="http://schemas.openxmlformats.org/drawingml/2006/table">
            <a:tbl>
              <a:tblPr/>
              <a:tblGrid>
                <a:gridCol w="1726200"/>
                <a:gridCol w="63576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ptic/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OS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52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receiving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824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gt;140 AW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WS distribution 250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2" descr="F:\AWS_name.jpg"/>
          <p:cNvPicPr/>
          <p:nvPr/>
        </p:nvPicPr>
        <p:blipFill>
          <a:blip r:embed="rId1"/>
          <a:stretch/>
        </p:blipFill>
        <p:spPr>
          <a:xfrm>
            <a:off x="685800" y="1905120"/>
            <a:ext cx="8305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sour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re  than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30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nventional serface observ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50 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tomatic weathe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ir pollutions stations at addis abeba ,adama and awasa  si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ada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upper ai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rom satellite receiv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Expecting Out pu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rd copy archiv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cli-data data base &amp;cli gis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satellite receiving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 weather radar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rcRect l="17089" t="0" r="0" b="0"/>
          <a:stretch/>
        </p:blipFill>
        <p:spPr>
          <a:xfrm>
            <a:off x="5715000" y="762120"/>
            <a:ext cx="2895120" cy="32763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2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lcon Pictorial view AWS, AWOS  and Upper air st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10" descr="untitled.bmp"/>
          <p:cNvPicPr/>
          <p:nvPr/>
        </p:nvPicPr>
        <p:blipFill>
          <a:blip r:embed="rId2"/>
          <a:stretch/>
        </p:blipFill>
        <p:spPr>
          <a:xfrm>
            <a:off x="5638680" y="4038480"/>
            <a:ext cx="2742840" cy="257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7"/>
          <p:cNvSpPr/>
          <p:nvPr/>
        </p:nvSpPr>
        <p:spPr>
          <a:xfrm>
            <a:off x="7924680" y="5486400"/>
            <a:ext cx="914040" cy="394560"/>
          </a:xfrm>
          <a:prstGeom prst="rect">
            <a:avLst/>
          </a:prstGeom>
          <a:gradFill rotWithShape="0">
            <a:gsLst>
              <a:gs pos="0">
                <a:srgbClr val="bd922a"/>
              </a:gs>
              <a:gs pos="100000">
                <a:srgbClr val="fbe4a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W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7772400" y="3178440"/>
            <a:ext cx="1371240" cy="699480"/>
          </a:xfrm>
          <a:prstGeom prst="rect">
            <a:avLst/>
          </a:prstGeom>
          <a:gradFill rotWithShape="0">
            <a:gsLst>
              <a:gs pos="0">
                <a:srgbClr val="e6d78a"/>
              </a:gs>
              <a:gs pos="100000">
                <a:srgbClr val="c7ac4c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Upper Air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rcRect l="8198" t="19775" r="25618" b="0"/>
          <a:stretch/>
        </p:blipFill>
        <p:spPr>
          <a:xfrm>
            <a:off x="76320" y="685800"/>
            <a:ext cx="5257440" cy="597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29</TotalTime>
  <Application>LibreOffice/7.4.7.2$Linux_X86_64 LibreOffice_project/40$Build-2</Application>
  <AppVersion>15.0000</AppVersion>
  <Words>90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ms</dc:creator>
  <dc:description/>
  <dc:language>en-US</dc:language>
  <cp:lastModifiedBy>Timo Proescholdt</cp:lastModifiedBy>
  <dcterms:modified xsi:type="dcterms:W3CDTF">2018-08-28T11:30:22Z</dcterms:modified>
  <cp:revision>1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42</vt:r8>
  </property>
</Properties>
</file>