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994B-ABCB-4953-B475-5CC1D8533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C184-74ED-42F6-8C17-77121472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7E90-9D7C-4A67-A15A-E7E6FA762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2717-5107-4CC0-9742-13852E96E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9F3F-EA1C-494C-AA4B-7977D660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E5D2-A510-4A2E-8DBE-A9ECC7E2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1F3E-CDB7-44B1-913B-7E94927E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1013-ECC7-467B-858D-59CEACB0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F7FA-9DA3-491A-9193-866CDE73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2052-6985-44F1-969A-05C76A2B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7E41-D592-4F9D-8A00-17F3783D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854E-E63D-4F99-A8A3-F25C3570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73DE-CF94-4969-83BA-11CF0C85C9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teorological Services Department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Zimbabw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nnis Kapa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15 August 20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851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Bookman Old Style"/>
              </a:rPr>
              <a:t>MSD Synoptic &amp; Climate S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78548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W" sz="1800" spc="-1" strike="noStrike">
              <a:solidFill>
                <a:srgbClr val="898989"/>
              </a:solidFill>
              <a:latin typeface="Bookman Old Style"/>
            </a:endParaRPr>
          </a:p>
        </p:txBody>
      </p:sp>
      <p:pic>
        <p:nvPicPr>
          <p:cNvPr id="45" name="Picture 5" descr="C:\Users\WMO Office\Documents\WIGOS ZIMBABWE\MSD Synoptic &amp; Climate Stations.jpg"/>
          <p:cNvPicPr/>
          <p:nvPr/>
        </p:nvPicPr>
        <p:blipFill>
          <a:blip r:embed="rId1"/>
          <a:srcRect l="14874" t="0" r="19891" b="0"/>
          <a:stretch/>
        </p:blipFill>
        <p:spPr>
          <a:xfrm>
            <a:off x="1295280" y="1447920"/>
            <a:ext cx="60199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851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Bookman Old Style"/>
              </a:rPr>
              <a:t>MSD Automatic Weather S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78548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W" sz="1800" spc="-1" strike="noStrike">
              <a:solidFill>
                <a:srgbClr val="898989"/>
              </a:solidFill>
              <a:latin typeface="Bookman Old Style"/>
            </a:endParaRPr>
          </a:p>
        </p:txBody>
      </p:sp>
      <p:pic>
        <p:nvPicPr>
          <p:cNvPr id="48" name="Picture 2" descr="C:\Users\WMO Office\Documents\WIGOS ZIMBABWE\MSD AWS.jpg"/>
          <p:cNvPicPr/>
          <p:nvPr/>
        </p:nvPicPr>
        <p:blipFill>
          <a:blip r:embed="rId1"/>
          <a:srcRect l="14874" t="0" r="21326" b="0"/>
          <a:stretch/>
        </p:blipFill>
        <p:spPr>
          <a:xfrm>
            <a:off x="1295280" y="1905120"/>
            <a:ext cx="6096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851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Bookman Old Style"/>
              </a:rPr>
              <a:t>Rainfall S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78548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W" sz="1800" spc="-1" strike="noStrike">
              <a:solidFill>
                <a:srgbClr val="898989"/>
              </a:solidFill>
              <a:latin typeface="Bookman Old Style"/>
            </a:endParaRPr>
          </a:p>
        </p:txBody>
      </p:sp>
      <p:pic>
        <p:nvPicPr>
          <p:cNvPr id="51" name="Picture 2" descr="C:\Users\WMO Office\Documents\WIGOS ZIMBABWE\Rainfall Stations.jpg"/>
          <p:cNvPicPr/>
          <p:nvPr/>
        </p:nvPicPr>
        <p:blipFill>
          <a:blip r:embed="rId1"/>
          <a:srcRect l="14158" t="0" r="19891" b="0"/>
          <a:stretch/>
        </p:blipFill>
        <p:spPr>
          <a:xfrm>
            <a:off x="1523880" y="1905120"/>
            <a:ext cx="60199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851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Bookman Old Style"/>
              </a:rPr>
              <a:t>ZINWA A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78548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W" sz="1800" spc="-1" strike="noStrike">
              <a:solidFill>
                <a:srgbClr val="898989"/>
              </a:solidFill>
              <a:latin typeface="Bookman Old Style"/>
            </a:endParaRPr>
          </a:p>
        </p:txBody>
      </p:sp>
      <p:pic>
        <p:nvPicPr>
          <p:cNvPr id="54" name="Picture 2" descr="C:\Users\WMO Office\Documents\WIGOS ZIMBABWE\ZINWA STATIONS.jpg"/>
          <p:cNvPicPr/>
          <p:nvPr/>
        </p:nvPicPr>
        <p:blipFill>
          <a:blip r:embed="rId1"/>
          <a:srcRect l="12007" t="0" r="21326" b="0"/>
          <a:stretch/>
        </p:blipFill>
        <p:spPr>
          <a:xfrm>
            <a:off x="1523880" y="1905120"/>
            <a:ext cx="6248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851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Bookman Old Style"/>
              </a:rPr>
              <a:t>ZIMNAT A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78548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W" sz="1800" spc="-1" strike="noStrike">
              <a:solidFill>
                <a:srgbClr val="898989"/>
              </a:solidFill>
              <a:latin typeface="Bookman Old Style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rcRect l="27525" t="13543" r="15079" b="6250"/>
          <a:stretch/>
        </p:blipFill>
        <p:spPr>
          <a:xfrm>
            <a:off x="1295280" y="1600200"/>
            <a:ext cx="6400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851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Bookman Old Style"/>
              </a:rPr>
              <a:t>OXFAM A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78548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W" sz="1800" spc="-1" strike="noStrike">
              <a:solidFill>
                <a:srgbClr val="898989"/>
              </a:solidFill>
              <a:latin typeface="Bookman Old Style"/>
            </a:endParaRPr>
          </a:p>
        </p:txBody>
      </p:sp>
      <p:pic>
        <p:nvPicPr>
          <p:cNvPr id="60" name="Picture 2" descr="C:\Users\WMO Office\Documents\WIGOS ZIMBABWE\Oxfam Stations.jpg"/>
          <p:cNvPicPr/>
          <p:nvPr/>
        </p:nvPicPr>
        <p:blipFill>
          <a:blip r:embed="rId1"/>
          <a:srcRect l="12007" t="0" r="19891" b="0"/>
          <a:stretch/>
        </p:blipFill>
        <p:spPr>
          <a:xfrm>
            <a:off x="1447920" y="1905120"/>
            <a:ext cx="6248160" cy="45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851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Bookman Old Style"/>
              </a:rPr>
              <a:t>Network of Network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78548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W" sz="1800" spc="-1" strike="noStrike">
              <a:solidFill>
                <a:srgbClr val="898989"/>
              </a:solidFill>
              <a:latin typeface="Bookman Old Style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rcRect l="25184" t="12500" r="25037" b="12500"/>
          <a:stretch/>
        </p:blipFill>
        <p:spPr>
          <a:xfrm>
            <a:off x="1295280" y="1143000"/>
            <a:ext cx="6477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47 Manual Stations (Synoptic and Climat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 Upper Air Station (4 required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2 Stations on G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8 MSD Automatic Weather Sta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41 Automatic Weather Stations with Partn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49 Automatic Weather Stations against 150 requir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&lt;250 rainfall station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43 of the 47 Stations on the OSCAR/Surface Platfor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5T09:27:45Z</dcterms:created>
  <dc:creator>AWOS</dc:creator>
  <dc:description/>
  <dc:language>en-US</dc:language>
  <cp:lastModifiedBy>AWOS</cp:lastModifiedBy>
  <dcterms:modified xsi:type="dcterms:W3CDTF">2018-08-15T09:51:05Z</dcterms:modified>
  <cp:revision>5</cp:revision>
  <dc:subject/>
  <dc:title>Meteorological Services Department   Zimbabwe</dc:title>
</cp:coreProperties>
</file>