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6D40-A048-4584-8A20-D9AC63B492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3517-9B08-45B7-B48B-58A98B1A5E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B35D-A276-4554-A46E-AE89FD1D7F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4117-7C61-4E3A-8413-22B92C382D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BE1-6C42-4C95-AD79-61FBEF93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7B2-5BBC-4D5A-9BBB-99730090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91E-C4D8-4D3E-82E3-9B25D30A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A0D-2039-4DDD-9974-E72E9DED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77A-DFDF-4132-8D4B-A611B0DB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2F1-C3C2-4599-92DC-9B8BA10F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E31-7B2D-425A-8D40-AC738B89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4D3-BEE3-448D-B2C9-A1F72F77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8B8-5101-4E98-99FF-A9D614BE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1F1-8FDC-482B-8020-5EE76B11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577-CE82-48C4-B6A9-176F3E17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880-A5D6-4CD6-8243-5691E8F5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3C9C-F0DA-4F94-90BF-A278208AA0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F4D2-0CE5-427F-A9ED-B4B1E98A621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-12600" y="819000"/>
            <a:ext cx="913104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79280" y="1268280"/>
            <a:ext cx="871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253f"/>
                </a:solidFill>
                <a:latin typeface="Century Gothic"/>
              </a:rPr>
              <a:t>PRESENTATION ON RWANDA OBSERVATION CAPABILITY AND NATIONAL REQUIREMENT FOR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ATA COLLECTION, QUALITY CONTROL AND ARCH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659640" y="0"/>
            <a:ext cx="2308320" cy="8650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8" descr="Meteorological processes.jpg"/>
          <p:cNvPicPr/>
          <p:nvPr/>
        </p:nvPicPr>
        <p:blipFill>
          <a:blip r:embed="rId2"/>
          <a:stretch/>
        </p:blipFill>
        <p:spPr>
          <a:xfrm>
            <a:off x="539640" y="1557360"/>
            <a:ext cx="813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4" descr=""/>
          <p:cNvPicPr/>
          <p:nvPr/>
        </p:nvPicPr>
        <p:blipFill>
          <a:blip r:embed="rId1"/>
          <a:stretch/>
        </p:blipFill>
        <p:spPr>
          <a:xfrm>
            <a:off x="457200" y="1654200"/>
            <a:ext cx="8229600" cy="4417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684360" y="620640"/>
            <a:ext cx="84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eo Rwanda Climate Data Management Proces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 plan for observation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cquire s-band weather Rad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Lightning detector to be ac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iosondes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DAR program is also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gister as many as Observing stations in WIGOS/OSC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perate main stations 24hrs/7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705720" y="228600"/>
            <a:ext cx="1955520" cy="733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483920"/>
            <a:ext cx="8209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blic of Rw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wanda is mountaineous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entral east of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Land locked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bordering with 4 countries namely, Uganda in North, Tanzania in East, Burundi in South and DRC in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ze;26,338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wanda on African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333360"/>
          <a:ext cx="6551640" cy="487692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9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synoptic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, 10m Wi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dow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1 at Kigali International Airport operates 24hrs 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report 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94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o-meteorologic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Direction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p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operation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476280"/>
          <a:ext cx="6551640" cy="585144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ic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Rain gauge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Weather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a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Rain Gau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ther Rad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/7d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 Satellite Rece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per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s/7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es data 24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synoptic stations registered in Os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47880" y="2173320"/>
            <a:ext cx="3648240" cy="338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80880" y="1828800"/>
            <a:ext cx="84582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hoto-0606.jpg"/>
          <p:cNvPicPr/>
          <p:nvPr/>
        </p:nvPicPr>
        <p:blipFill>
          <a:blip r:embed="rId1"/>
          <a:stretch/>
        </p:blipFill>
        <p:spPr>
          <a:xfrm>
            <a:off x="6242040" y="800280"/>
            <a:ext cx="2901960" cy="299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25280" y="907920"/>
            <a:ext cx="3076560" cy="2449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-1249200" y="0"/>
            <a:ext cx="79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BSERVING SYSTEM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Documents and Settings\Administrator\Desktop\Meteo Rwanda Logo copy.JPG"/>
          <p:cNvPicPr/>
          <p:nvPr/>
        </p:nvPicPr>
        <p:blipFill>
          <a:blip r:embed="rId3"/>
          <a:stretch/>
        </p:blipFill>
        <p:spPr>
          <a:xfrm>
            <a:off x="7427880" y="-27000"/>
            <a:ext cx="17524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20150126_104232"/>
          <p:cNvPicPr/>
          <p:nvPr/>
        </p:nvPicPr>
        <p:blipFill>
          <a:blip r:embed="rId4"/>
          <a:stretch/>
        </p:blipFill>
        <p:spPr>
          <a:xfrm>
            <a:off x="6242040" y="3868560"/>
            <a:ext cx="2868480" cy="2352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IMG-20150602-WA0008"/>
          <p:cNvPicPr/>
          <p:nvPr/>
        </p:nvPicPr>
        <p:blipFill>
          <a:blip r:embed="rId5"/>
          <a:stretch/>
        </p:blipFill>
        <p:spPr>
          <a:xfrm>
            <a:off x="0" y="3854520"/>
            <a:ext cx="3262320" cy="2367000"/>
          </a:xfrm>
          <a:prstGeom prst="rect">
            <a:avLst/>
          </a:prstGeom>
          <a:ln w="0">
            <a:noFill/>
          </a:ln>
        </p:spPr>
      </p:pic>
      <p:sp>
        <p:nvSpPr>
          <p:cNvPr id="76" name="Freccia a destra 3"/>
          <p:cNvSpPr/>
          <p:nvPr/>
        </p:nvSpPr>
        <p:spPr>
          <a:xfrm rot="10800000">
            <a:off x="3564000" y="1053360"/>
            <a:ext cx="2232000" cy="1079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5"/>
          <p:cNvSpPr/>
          <p:nvPr/>
        </p:nvSpPr>
        <p:spPr>
          <a:xfrm>
            <a:off x="3602160" y="10508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matic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ccia a destra 6"/>
          <p:cNvSpPr/>
          <p:nvPr/>
        </p:nvSpPr>
        <p:spPr>
          <a:xfrm>
            <a:off x="3713040" y="2297160"/>
            <a:ext cx="2529000" cy="1203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7"/>
          <p:cNvSpPr/>
          <p:nvPr/>
        </p:nvSpPr>
        <p:spPr>
          <a:xfrm>
            <a:off x="3759120" y="2759040"/>
            <a:ext cx="18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ual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ccia a destra 8"/>
          <p:cNvSpPr/>
          <p:nvPr/>
        </p:nvSpPr>
        <p:spPr>
          <a:xfrm rot="10800000">
            <a:off x="3274560" y="3868560"/>
            <a:ext cx="2343240" cy="936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9"/>
          <p:cNvSpPr/>
          <p:nvPr/>
        </p:nvSpPr>
        <p:spPr>
          <a:xfrm>
            <a:off x="3564000" y="414972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tellit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ccia a destra 10"/>
          <p:cNvSpPr/>
          <p:nvPr/>
        </p:nvSpPr>
        <p:spPr>
          <a:xfrm>
            <a:off x="3995640" y="5445000"/>
            <a:ext cx="2376720" cy="7765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1"/>
          <p:cNvSpPr/>
          <p:nvPr/>
        </p:nvSpPr>
        <p:spPr>
          <a:xfrm>
            <a:off x="4284720" y="566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ather R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419640" y="609300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0" y="1371600"/>
            <a:ext cx="900576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835280" y="-314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entury Gothic"/>
              </a:rPr>
              <a:t>Capabilities    CON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557280" y="652320"/>
            <a:ext cx="6588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dar Coverage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0 Km, beam width: 1-degree, polarisation: dual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DIS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nstalled at the airport and its ope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WOS at the airport: it is opera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gh capacity computing systems (cluster server)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databank management and NWP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tional Data Sharing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ic Message Switching System (AMSS) ac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ATIAL DISTRIBUTION OF OBSERVING SYSTEM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report-cover-powerpoint.jpg"/>
          <p:cNvPicPr/>
          <p:nvPr/>
        </p:nvPicPr>
        <p:blipFill>
          <a:blip r:embed="rId1"/>
          <a:stretch/>
        </p:blipFill>
        <p:spPr>
          <a:xfrm>
            <a:off x="857160" y="1600200"/>
            <a:ext cx="742968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54560" y="0"/>
            <a:ext cx="2667240" cy="1000080"/>
          </a:xfrm>
          <a:prstGeom prst="rect">
            <a:avLst/>
          </a:prstGeom>
          <a:ln w="0">
            <a:noFill/>
          </a:ln>
        </p:spPr>
      </p:pic>
      <p:sp>
        <p:nvSpPr>
          <p:cNvPr id="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5472000" cy="403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3:01:48Z</dcterms:created>
  <dc:creator>steve.palmer</dc:creator>
  <dc:description/>
  <dc:language>en-US</dc:language>
  <cp:lastModifiedBy>Godfrey</cp:lastModifiedBy>
  <cp:lastPrinted>2014-09-11T06:35:56Z</cp:lastPrinted>
  <dcterms:modified xsi:type="dcterms:W3CDTF">2018-08-15T09:15:37Z</dcterms:modified>
  <cp:revision>320</cp:revision>
  <dc:subject/>
  <dc:title>Slide 1</dc:title>
</cp:coreProperties>
</file>