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8B4-EB2F-4AAA-9B03-CE972A6B12C1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943E-8987-4E7A-9D23-0EC33CFC10B7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7C17-3A65-4B4E-90D4-380B141F43AF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308-C95C-4557-BD1F-97DDB68135C5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9F86-4B32-4574-AE18-B972FB8AB563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035E-757D-4D2A-B5E4-BAED510278D8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C0E5-3C24-41AF-B45C-3C7AE7793EF5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7E10-7BB6-4EEE-9FF7-62923B866BCB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D73A-37AD-4D4A-9342-0D929C9642E6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93A-C2E5-4B4F-B1E6-74DE82DF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F9A-9926-4B61-AD40-C0264D95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1DC30-6C48-4D9E-B70E-E19D2967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5D5FE-26C9-444B-A44B-E9543CA1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BAFB1-1D83-4A14-98FD-00C45447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1FAEC-12D1-4AC9-8551-D2DD98C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663E5-4C43-4B49-B78F-FB06CBBA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95D1E-4F46-40FE-9538-61778508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E88C1-5F72-428C-8963-34AF0026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03670-C36F-4215-B806-853B22E9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8A2CC-8758-4611-A108-D6DA2154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DBE0B-D92E-4642-91A4-5BD7EBE5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623-530A-4285-8492-2D4EBDDD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96263-76A7-4F68-A04F-2649F536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A2A16-FC36-4389-832B-6C6A08AA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79DC8-C581-480C-BBE5-F74F990F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D03AE-F64D-45B4-A1DC-589D51E1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A48E8-460F-42E3-909F-7CC2E11D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76602-367B-4CA8-8F24-677C1B9F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BAF33-D48D-454A-9459-93DEEE6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9087C-5164-4F19-85D8-BB303952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0CA05-A9DA-46DB-872C-9BF0CD2D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A52AA-684F-434E-989E-F7DDE62F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C0F-F904-4352-8507-1DBC393D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15B3C-BC74-41C7-9C88-6AE67234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B6C3C-EE62-4884-943F-41A27DE4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D06F7-13BE-4DCE-8E69-BC730AD0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9E013-9732-4A31-A95F-6696DFCD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23377-34B2-41BF-BDCD-EC8625FE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7C01B-4105-4878-931A-4F9D5ED7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4B23B-B9E0-403D-BA4C-A0036C1F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E3B1C-6F1D-414D-B77F-0A89BDF8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C55AC-61C7-4B2D-AB66-683A7498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97530-5471-4FD2-A671-81DCDFC7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3B87-8B9F-4D0B-B141-8968E6AE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65296-20CD-4D17-B511-B805C829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00AE9-62FB-47E4-B93D-6897E127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D7209-63D3-4BD7-8102-38128CEF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8C22A-FAD5-47CC-9B8A-EF44A628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9B6B9-F249-4724-AB42-503DA3BA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9C05B-E8B0-4D18-AD6F-5A16A484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210DF-802D-444F-93FE-6EF55193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442ED-D1C8-4DC3-81C6-747FC017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0E64F-0BEB-4168-B664-046C14C8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0CD8F-7554-4F44-B62A-7BA98F2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A25E-8204-419A-8146-4F053BF8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C6F2C-F549-40AF-8EB0-148BF02B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990F1-82BC-411D-B177-BF7DB0E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B0A15-F150-435B-AE2C-C97CED55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56521-E3AA-4611-A69F-6C10901A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FC37D-BBB4-4BD5-9202-0CE5B8C5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E772B-AE1E-4D47-B300-2CA0E062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DB291-6BF9-4E86-909D-353C4717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7F716-DB98-4C37-9A37-761414D3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7D366-2A75-45E5-A853-7CF0A9BD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12556-5F62-4AB7-A801-A0BAADB0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F37B-8E87-4EE9-AAA7-243537EE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FAE52-90BA-49C6-A937-F2414B4A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9E68D-C96D-4D86-BEFD-CF61DB6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A88C2-06E6-4DF5-93F8-0042C069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6C98B-276C-473F-BEF3-02CCD0A0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77DB2-76BD-45D5-936F-D7375ED8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679B3-AA7A-45E4-B7E6-30872D77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FCBC0-A49E-4054-A2EC-1279BF56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8463D-F021-4DCA-9F7E-4A6DFAE9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D87E7-DC92-4483-9E78-C4EF678C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41F68-CEC1-42B5-9101-376FEE4F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3994-9265-4A5A-921D-C6B33815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9A3A5-8809-4E74-A37F-2DBC6256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3CDF7-B4CF-421C-A6E5-40801D92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A84B8-2EF6-41BB-AC87-8F52DE53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92AEC-1F68-47E9-93E5-1BB6034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BF08A-F502-4F6E-9562-B4A0A228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92E08-A8F2-44F3-BA97-9C29753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3EE28-F4A3-4298-BF26-463B9CF2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B211C-B0BF-4105-8F58-521088B7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D205D-38D1-4C5A-8083-624D305B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8042D-96F9-4CB9-9253-AA6D532D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DB82-F6E3-4583-A085-6CEE8065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8F69F-6D4C-4832-B704-155816E2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27B3C-A740-4720-AD90-C17A4333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0685B-C476-466B-B839-5CE4D9C1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9E450-EBB5-4B05-9364-61EBAE5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FFFAF-E773-4039-A0DC-CDA7E772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DB34C-20FF-4B68-A43B-C0164C5D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39F42-3079-44A5-9BF6-041F5DBE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5BECE-0FB4-49A9-A2FC-83D0E2DC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924AD-C1B2-46C3-8C1A-F9A9585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52F67-BAC2-4061-AC5F-FD0CABFA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B8FA-4E26-48D1-9B87-9F01B8F3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C276F-91E1-4ACB-B71D-B220993B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9EF2-2CFA-415E-977F-1F4D6EAE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F40-E5F7-48F2-B4DA-5B64D916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E126-3F4B-4D7A-9B77-3EDD236F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306C-E540-47A7-A719-14B146C9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4979-88FE-40B8-AF32-ECAA936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D825-93AB-43B6-B2E0-C4193E66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7CAC-58ED-4615-991E-88A17055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4E73-4F45-48E9-B054-EABDF041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29FD4-8AC0-40F5-A92C-F2DE13F9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C0F0-C2D6-49C7-868B-E0B3E4EE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939AE-74B3-40D3-A664-D13FDF15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7028A-2941-4D58-BC9F-091AB438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680-B364-433B-BCCF-FDF38448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B635-9123-4328-BAE4-F6B0B9A0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6E01-F083-4FA4-AA28-C0845F63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B7E9-9589-41DE-A7A5-9983F44D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E4A0-8907-4D00-87D3-5B5C1D8A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C5CB1-9578-4EAB-83C4-9A66B4F7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19AF-52AE-4CBB-B0C7-63E3871C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B52E-FACC-4B9C-A0DE-45A122C9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5EC0-8420-4A87-8203-ADFF5385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448C-E313-433D-8C7E-10449DB5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F04D-D49B-46E0-8DE0-C400E1DD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2AB-C3E4-40E1-87E8-E7F6A99A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DDCF-BE9A-4A2B-AC2B-8B027571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9652B-7F3D-431C-BC07-AC2A3AA8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6197-719D-43C9-B86E-6F98F16A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2A5F9-DDFE-40D8-B377-A4024025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67AFE-EB0A-47E4-A345-85A9DDD3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A27F-37FE-4B3D-A8CD-3D8F785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C823-0E1C-4913-8F79-97809A9D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0336-7CBB-44F9-8C9C-DD5B6BE3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B35E-6926-40C8-821D-0C5C43E4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B146-1259-4BA7-9E00-77F85719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0A7-F811-4C80-A5C6-9B2781C9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92364-23EF-4ACE-8932-2E4E115C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E8E6D-E897-4940-A2DD-3B353EFE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533BE-EAD3-4A20-80D5-71379708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FB231-BC1F-43B4-AD85-CB17799A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47227-7629-4624-995D-FB81A39C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B6281-0C8B-4526-98F1-D5F1FE1D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2F102-14CC-4FE3-A6FD-567BD667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475E8-33F6-45D0-8E98-5D2CD7B7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37FFD-D989-4D2E-9DD9-2C4BB434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0B75B-DE3D-4FB6-84FE-795DAFB7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145-1272-456D-B37A-205B3B31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3048D-BCB4-4945-849B-BD6ADB77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58670-A43A-4A7B-A830-C70F2F88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23ECB-E467-4D69-8DD8-E34556C0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48866-67E0-41E1-B393-04D438E6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F16BF-A6B1-4C42-824C-6534B52D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793BE-A220-47C0-B436-1FE06C6A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545F4-6F2D-4CD2-AB79-D2E7B50E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4E9FF-B369-4862-B068-B459B528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51708-5BBF-4069-92D4-9191D6CC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80821-C6EA-4EC0-979C-6CAF696C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7A0-C133-451C-9D75-C2F37D5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54C5F-92A5-49AC-B539-2FE0F8CD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3FBAC-C015-451F-B35D-864F3142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B1A5E-04BD-4A4F-BC95-E7CF399E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CCC02-52A1-42DC-8F16-5965B099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D5681-8BBF-46F4-877E-2A6E2C19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42DA8-E57B-424D-8E8F-25EECC61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0E52B-30EF-4401-A89E-7B511B1B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28047-26E0-4FD1-A088-1A4EA4AF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413B1-A8DF-4783-B128-18F29E80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A3FCF-0BFB-466F-8D4A-C9BF377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837-6288-4184-A1BE-58AA7B4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D6438-21A4-4C7B-93C7-2FA09653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D68CD-3923-48D1-B690-C17BAF5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40151-9ED1-4E87-A948-1F93D245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66776-EDC1-49FE-A761-61B0F9BA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280BB-0520-4BC7-81D0-9A27A650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7C8F9-4716-4F64-BD3F-EA594D42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9181A-AC0E-405F-A85C-DC5A3F26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78AF3-58B2-493E-9303-18DE03F8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E9E88-6A47-4A77-A026-F8D0B018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14139-F78F-4F13-B244-22258B53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36A-AF27-4428-97A1-46B8707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702D6-4800-4B35-8DDF-AA6446F7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9EC47-9E3E-48B0-8644-AB922412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149E0-EEDF-4694-B620-312C0144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7B125-C25F-4D69-9120-62860D19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59D9D-FBA4-4287-A779-54F2D7B3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4B85D-AFCC-4BB3-8B39-A510B003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81E41-761E-4C0B-A49D-F8593F5E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D38CA-A192-4409-ACFF-822A8777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24487-4198-4231-A594-056ABDD4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340D2-3802-43EF-8D19-1E9E2604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6595-C5B9-42CE-BEFD-D4EBDA7D2C53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B9E4-DAD5-48F5-AB4F-6185B2FB85E8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0402-108D-4783-B197-7C84709831DE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DAFE-BED6-4610-86C0-6E97AD8681E5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14CF-C671-46CB-8CC2-6E3A6C8EF518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2777760" y="6356520"/>
            <a:ext cx="356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B94B-5300-45EA-BCE8-56E9B7ADDAFD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C4FB-47F2-4EE9-B65D-2894DECC47FA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2793960" y="6356520"/>
            <a:ext cx="35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3A9F-4DC0-42A7-992C-A0FE2F63B108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9200" y="1639800"/>
            <a:ext cx="9144000" cy="346248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8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8E50-E5C1-4499-AE1E-02F57C732BAD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2760840" y="6356520"/>
            <a:ext cx="362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33A8-8D06-4884-A29D-BBC97CB96339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ADEE-F91C-488F-840D-614502AE124C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2768760" y="6356520"/>
            <a:ext cx="360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9C16-7677-4438-A7AC-467E8A5C1F6A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EFEE-0C5D-4074-9491-B7958C876E8C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2685960" y="6356520"/>
            <a:ext cx="37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ED32-F9E6-4A60-AF3D-669EB7F374C6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8CC8-6F52-4696-A357-60EB97D8E32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78120" y="63565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A0A3-ACC0-4393-A658-01372EC63CFB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51FF-4792-4184-B0C6-6C6D8452C0DE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F20D-28FC-4BE1-B740-08C590E0510A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86A3-47B4-432A-9315-1B332AB295DE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F7A6-FC5D-457E-89F1-98F92903B4C8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7425-440B-4C82-A6AA-52F0A449457E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7DB3-1615-4B41-B948-25F815045D11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2F13-ED22-4507-80B1-CE1845AA1053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1121-2FA1-44E7-AB57-B63C6608D55E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EC11-3257-494E-BEB6-4443965DCA0D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0EB6-EBD7-42C5-8E87-824B6B50A4ED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E948-7F0F-4C66-9548-01AC2FA77F19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D514-C9A0-43E7-A439-773FC96B054E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67DC-E808-40CC-A70D-35CCBB35FC7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FCC7-6CA9-4C78-BE36-6F06C71047D3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803C-5602-45FC-B8B1-7B3CBE4815D2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6071-BD42-456B-93AA-25A94712B714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itle 1"/>
          <p:cNvSpPr/>
          <p:nvPr/>
        </p:nvSpPr>
        <p:spPr>
          <a:xfrm>
            <a:off x="0" y="1882800"/>
            <a:ext cx="9144000" cy="216216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000000"/>
                </a:solidFill>
                <a:latin typeface="Calibri"/>
              </a:rPr>
              <a:t>South African Weather Service </a:t>
            </a: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2629080" y="4927680"/>
            <a:ext cx="387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Ms. Sam Linn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058A-E3F9-47C5-9863-597DDA2293B8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D44C-F99B-47EA-A994-A52FF769808C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35080" y="1211400"/>
          <a:ext cx="8493120" cy="5341680"/>
        </p:xfrm>
        <a:graphic>
          <a:graphicData uri="http://schemas.openxmlformats.org/drawingml/2006/table">
            <a:tbl>
              <a:tblPr/>
              <a:tblGrid>
                <a:gridCol w="6664320"/>
                <a:gridCol w="18288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0158-5C62-43B0-A868-27FBDB5F1F36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9303-4A0C-4CE1-BBD7-FDDF45B2D3F3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1"/>
          <a:stretch/>
        </p:blipFill>
        <p:spPr>
          <a:xfrm>
            <a:off x="6967440" y="-6480"/>
            <a:ext cx="2183040" cy="29084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"/>
          <p:cNvPicPr/>
          <p:nvPr/>
        </p:nvPicPr>
        <p:blipFill>
          <a:blip r:embed="rId2"/>
          <a:stretch/>
        </p:blipFill>
        <p:spPr>
          <a:xfrm>
            <a:off x="6551640" y="2757600"/>
            <a:ext cx="2592360" cy="2576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267336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6" name="Picture 11" descr=""/>
          <p:cNvPicPr/>
          <p:nvPr/>
        </p:nvPicPr>
        <p:blipFill>
          <a:blip r:embed="rId4"/>
          <a:stretch/>
        </p:blipFill>
        <p:spPr>
          <a:xfrm>
            <a:off x="4959360" y="0"/>
            <a:ext cx="2008080" cy="2778120"/>
          </a:xfrm>
          <a:prstGeom prst="rect">
            <a:avLst/>
          </a:prstGeom>
          <a:ln w="0">
            <a:noFill/>
          </a:ln>
        </p:spPr>
      </p:pic>
      <p:pic>
        <p:nvPicPr>
          <p:cNvPr id="667" name="Content Placeholder 13" descr="Z:\OBSERVATIONS\METADATA\CLS-OBS-METADATA-REGIONS\EAST LONDON\ARS\STUTTERHEIM WRIGGLESWADE\Wriggleswade E to W.JPG"/>
          <p:cNvPicPr/>
          <p:nvPr/>
        </p:nvPicPr>
        <p:blipFill>
          <a:blip r:embed="rId5"/>
          <a:stretch/>
        </p:blipFill>
        <p:spPr>
          <a:xfrm>
            <a:off x="0" y="2887560"/>
            <a:ext cx="2871720" cy="2847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" descr=""/>
          <p:cNvPicPr/>
          <p:nvPr/>
        </p:nvPicPr>
        <p:blipFill>
          <a:blip r:embed="rId6"/>
          <a:stretch/>
        </p:blipFill>
        <p:spPr>
          <a:xfrm>
            <a:off x="2673360" y="0"/>
            <a:ext cx="2270160" cy="3170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C:\Users\samantha.linnerts\AppData\Local\Microsoft\Windows\Temporary Internet Files\Content.Word\north.jpg"/>
          <p:cNvPicPr/>
          <p:nvPr/>
        </p:nvPicPr>
        <p:blipFill>
          <a:blip r:embed="rId7"/>
          <a:stretch/>
        </p:blipFill>
        <p:spPr>
          <a:xfrm>
            <a:off x="2660760" y="2766960"/>
            <a:ext cx="38894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20AD-13F3-4A12-BE1A-DB692E5F9B5D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E4DB-614B-4D2D-9608-A22E10F86434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AUTOMATED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8" descr="Automated Stations.jpg"/>
          <p:cNvPicPr/>
          <p:nvPr/>
        </p:nvPicPr>
        <p:blipFill>
          <a:blip r:embed="rId1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345D-8BE7-48D7-A380-FE809D0F8D26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A7F2-F05C-40A9-99CF-141533E1FA77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MANUAL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anual Stations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192A-FC25-4594-B796-20E98C5D6AB8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7DD0-05B1-447B-A1CE-0B6D8E6F9288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-OSCAR STATION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7" descr="SAWS VS OSCAR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AC09-372D-4B97-9B46-88ED84AF8FCE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7FFD-CB9B-4C4D-A621-3B291CBBC21E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2344680"/>
                <a:gridCol w="592200"/>
                <a:gridCol w="865080"/>
                <a:gridCol w="1525680"/>
                <a:gridCol w="615960"/>
                <a:gridCol w="1386000"/>
                <a:gridCol w="1814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TS Exchang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CAR Regis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Non-reporting/ 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C9AE-6691-4CDA-8C0F-4FF8BA258E8B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0BC6-DC51-4706-B81E-093A48C38797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7"/>
          <p:cNvSpPr/>
          <p:nvPr/>
        </p:nvSpPr>
        <p:spPr>
          <a:xfrm>
            <a:off x="401760" y="1301760"/>
            <a:ext cx="800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205 stations on OSCAR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86 Stations fully 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9 Non-reporting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SAWS plans to re-open the  some of the closed stations.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enerating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ome information is in hardcopy (To be digitiz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Not all information is available on the OSCAR Por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.g. Sensor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0760" y="27716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6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019B-907C-46E3-8652-E9CFB39336F4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33EB-1420-4BD7-B2E6-E0A6607C3D68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2394000" y="6319800"/>
            <a:ext cx="435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Templ ref: CRS–CC-PRES-TEMP-003.2</a:t>
            </a:r>
            <a:br>
              <a:rPr sz="1200"/>
            </a:br>
            <a:r>
              <a:rPr b="1" lang="pt-BR" sz="1200" spc="-1" strike="noStrike">
                <a:solidFill>
                  <a:srgbClr val="898989"/>
                </a:solidFill>
                <a:latin typeface="Arial"/>
              </a:rPr>
              <a:t>Doc Ref no:  IIS-PRES-BOARD INDUCTION-29 JUN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7T11:03:38Z</dcterms:created>
  <dc:creator>Heidel</dc:creator>
  <dc:description/>
  <dc:language>en-US</dc:language>
  <cp:lastModifiedBy>Grungehogna</cp:lastModifiedBy>
  <dcterms:modified xsi:type="dcterms:W3CDTF">2018-08-16T11:10:36Z</dcterms:modified>
  <cp:revision>54</cp:revision>
  <dc:subject/>
  <dc:title>PowerPoint Presentation</dc:title>
</cp:coreProperties>
</file>