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9C5-B262-489A-87B9-4CC58773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77C-CEFA-4BCA-A634-CF1DB5DA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DB5-ECB7-47EF-A470-056CDEDD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C40-A5CA-414C-A4FB-38530116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B93-41E7-4C33-964E-9594E830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00E-B52D-4374-AB0E-3A4FD040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E00-324E-4FDA-98AE-990D669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9CB-4819-4F69-85F3-AACE0D93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507-00EB-4FD4-81B1-9095801C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511-5E25-4237-AEB1-080B19E9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88C-1E7E-42FF-8C79-73BA8650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7B3-D162-47DA-8985-B9B6F748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0BFC-392E-4F2C-A3EF-8DCAF2D5A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eorological Services Department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mbabw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Kap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5 August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Synoptic &amp; Climate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5" name="Picture 5" descr="C:\Users\WMO Office\Documents\WIGOS ZIMBABWE\MSD Synoptic &amp; Climate Stations.jpg"/>
          <p:cNvPicPr/>
          <p:nvPr/>
        </p:nvPicPr>
        <p:blipFill>
          <a:blip r:embed="rId1"/>
          <a:srcRect l="14874" t="0" r="19891" b="0"/>
          <a:stretch/>
        </p:blipFill>
        <p:spPr>
          <a:xfrm>
            <a:off x="1295280" y="1447920"/>
            <a:ext cx="6019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Automatic Weather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8" name="Picture 2" descr="C:\Users\WMO Office\Documents\WIGOS ZIMBABWE\MSD AWS.jpg"/>
          <p:cNvPicPr/>
          <p:nvPr/>
        </p:nvPicPr>
        <p:blipFill>
          <a:blip r:embed="rId1"/>
          <a:srcRect l="14874" t="0" r="21326" b="0"/>
          <a:stretch/>
        </p:blipFill>
        <p:spPr>
          <a:xfrm>
            <a:off x="1295280" y="190512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Rainfall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1" name="Picture 2" descr="C:\Users\WMO Office\Documents\WIGOS ZIMBABWE\Rainfall Stations.jpg"/>
          <p:cNvPicPr/>
          <p:nvPr/>
        </p:nvPicPr>
        <p:blipFill>
          <a:blip r:embed="rId1"/>
          <a:srcRect l="14158" t="0" r="19891" b="0"/>
          <a:stretch/>
        </p:blipFill>
        <p:spPr>
          <a:xfrm>
            <a:off x="1523880" y="1905120"/>
            <a:ext cx="6019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NWA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4" name="Picture 2" descr="C:\Users\WMO Office\Documents\WIGOS ZIMBABWE\ZINWA STATIONS.jpg"/>
          <p:cNvPicPr/>
          <p:nvPr/>
        </p:nvPicPr>
        <p:blipFill>
          <a:blip r:embed="rId1"/>
          <a:srcRect l="12007" t="0" r="21326" b="0"/>
          <a:stretch/>
        </p:blipFill>
        <p:spPr>
          <a:xfrm>
            <a:off x="1523880" y="1905120"/>
            <a:ext cx="6248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MNAT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27525" t="13543" r="15079" b="6250"/>
          <a:stretch/>
        </p:blipFill>
        <p:spPr>
          <a:xfrm>
            <a:off x="1295280" y="160020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OXFAM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0" name="Picture 2" descr="C:\Users\WMO Office\Documents\WIGOS ZIMBABWE\Oxfam Stations.jpg"/>
          <p:cNvPicPr/>
          <p:nvPr/>
        </p:nvPicPr>
        <p:blipFill>
          <a:blip r:embed="rId1"/>
          <a:srcRect l="12007" t="0" r="19891" b="0"/>
          <a:stretch/>
        </p:blipFill>
        <p:spPr>
          <a:xfrm>
            <a:off x="1447920" y="1905120"/>
            <a:ext cx="624816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Network of Network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rcRect l="25184" t="12500" r="25037" b="12500"/>
          <a:stretch/>
        </p:blipFill>
        <p:spPr>
          <a:xfrm>
            <a:off x="1295280" y="1143000"/>
            <a:ext cx="647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7 Manual Stations (Synoptic and Clim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 Upper Air Station (4 requir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2 Stations on G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 MSD Automatic Weather S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1 Automatic Weather Stations with Partn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9 Automatic Weather Stations against 150 requir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lt;250 rainfall sta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3 of the 47 Stations on the OSCAR/Surface Platfo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09:27:45Z</dcterms:created>
  <dc:creator>AWOS</dc:creator>
  <dc:description/>
  <dc:language>en-US</dc:language>
  <cp:lastModifiedBy>AWOS</cp:lastModifiedBy>
  <dcterms:modified xsi:type="dcterms:W3CDTF">2018-08-15T09:51:05Z</dcterms:modified>
  <cp:revision>5</cp:revision>
  <dc:subject/>
  <dc:title>Meteorological Services Department   Zimbabwe</dc:title>
</cp:coreProperties>
</file>