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move the slid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A058-D2C8-4EC5-8847-2CF1E29AD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902B-C3C5-4590-BB0E-215C8457C7F7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9AE2-EC7B-4630-A945-9AE6A1646DAB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147C6-9423-40D3-9FBC-DD3181B9B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9C02C-9943-40B6-BCFA-F87A2075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D41CB-7D76-4EFC-AA01-0AED65A0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B8F1E-1751-47E6-AC48-19F7ABDF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F8FE2-FBDD-41D2-96D0-8FD1280D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9180A-5E53-49ED-B5E7-A44D2138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CBD7F-A025-4D95-89CE-5F94F013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EB20B-97B6-4B9C-8559-C51E1AEB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E7830-D1A0-4F02-88D0-D78408F4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056A6-09DF-4E1E-A203-AC5EE536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A81D1-1348-496D-A97C-14B14E1E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37379-E7FB-4612-849E-BFA0CF80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220680" y="144360"/>
            <a:ext cx="1175544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8128080" y="6613200"/>
            <a:ext cx="3860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10159920" y="6171840"/>
            <a:ext cx="1625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FF89-FB93-416F-956A-E5D42088D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527040" y="189000"/>
            <a:ext cx="153684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623880" y="981000"/>
            <a:ext cx="1103472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507600" y="662904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119160" y="69840"/>
            <a:ext cx="1199196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334800" y="260280"/>
            <a:ext cx="11521800" cy="4824360"/>
            <a:chOff x="334800" y="260280"/>
            <a:chExt cx="1152180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334800" y="260280"/>
              <a:ext cx="1152180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5433120" y="2122560"/>
              <a:ext cx="7596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1132200" y="2532240"/>
              <a:ext cx="147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1113480" y="2525760"/>
              <a:ext cx="1044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1132200" y="2550960"/>
              <a:ext cx="147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1291320" y="2495520"/>
              <a:ext cx="82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2165040" y="2333520"/>
              <a:ext cx="165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697760" y="2320920"/>
              <a:ext cx="1404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653120" y="2363760"/>
              <a:ext cx="2340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837440" y="2340000"/>
              <a:ext cx="147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983240" y="2309760"/>
              <a:ext cx="2088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959840" y="2400480"/>
              <a:ext cx="147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934280" y="2316240"/>
              <a:ext cx="252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890360" y="2344680"/>
              <a:ext cx="147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942920" y="2538360"/>
              <a:ext cx="612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983240" y="2416320"/>
              <a:ext cx="442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2044800" y="2430360"/>
              <a:ext cx="165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551240" y="2381400"/>
              <a:ext cx="5508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530360" y="2151000"/>
              <a:ext cx="1692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530360" y="2178000"/>
              <a:ext cx="612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490040" y="224964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507320" y="2206800"/>
              <a:ext cx="226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536480" y="2333520"/>
              <a:ext cx="295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507320" y="2430360"/>
              <a:ext cx="147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522080" y="2443320"/>
              <a:ext cx="291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606680" y="2430360"/>
              <a:ext cx="61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729440" y="243540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828800" y="2344680"/>
              <a:ext cx="1044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942920" y="2568600"/>
              <a:ext cx="612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2127240" y="2435400"/>
              <a:ext cx="4824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2220480" y="1585800"/>
              <a:ext cx="612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2211840" y="1506600"/>
              <a:ext cx="295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2226600" y="1338120"/>
              <a:ext cx="82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2211840" y="135108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2044800" y="145404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697760" y="1827360"/>
              <a:ext cx="226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807560" y="1506600"/>
              <a:ext cx="3564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873440" y="1398600"/>
              <a:ext cx="2520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913400" y="1351080"/>
              <a:ext cx="4644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968480" y="1387440"/>
              <a:ext cx="295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2013120" y="1428840"/>
              <a:ext cx="226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2103840" y="1338120"/>
              <a:ext cx="1692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2127240" y="1308240"/>
              <a:ext cx="1044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4749480" y="2273400"/>
              <a:ext cx="3204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4275720" y="3087720"/>
              <a:ext cx="165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4100040" y="2538360"/>
              <a:ext cx="1519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4152600" y="2978280"/>
              <a:ext cx="3132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3992040" y="2967120"/>
              <a:ext cx="3132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3938760" y="2941560"/>
              <a:ext cx="3816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3868920" y="296712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3862800" y="299088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4114800" y="2978280"/>
              <a:ext cx="1404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4129200" y="2967120"/>
              <a:ext cx="1044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4169520" y="310500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3884040" y="2284560"/>
              <a:ext cx="6120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3807720" y="2327400"/>
              <a:ext cx="442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3445920" y="2784600"/>
              <a:ext cx="5508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3646800" y="2803680"/>
              <a:ext cx="165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3640680" y="2835360"/>
              <a:ext cx="226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3501000" y="270828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3723120" y="2381400"/>
              <a:ext cx="43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3646800" y="2443320"/>
              <a:ext cx="5508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3615120" y="2478240"/>
              <a:ext cx="3132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3538800" y="2585880"/>
              <a:ext cx="3132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3409920" y="271296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3062880" y="2682720"/>
              <a:ext cx="30024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2658600" y="2604960"/>
              <a:ext cx="5004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2442600" y="2797200"/>
              <a:ext cx="3780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2497320" y="2725560"/>
              <a:ext cx="64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2497320" y="2749680"/>
              <a:ext cx="64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2518920" y="2682720"/>
              <a:ext cx="226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2588400" y="2629080"/>
              <a:ext cx="147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2573640" y="2610000"/>
              <a:ext cx="147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2556720" y="2598840"/>
              <a:ext cx="165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2533320" y="2585880"/>
              <a:ext cx="1692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2372400" y="2719440"/>
              <a:ext cx="82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2357640" y="2816280"/>
              <a:ext cx="234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2624400" y="3298680"/>
              <a:ext cx="2520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956680" y="3073320"/>
              <a:ext cx="216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840400" y="3111480"/>
              <a:ext cx="1159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2643840" y="3182760"/>
              <a:ext cx="19656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2649960" y="2792520"/>
              <a:ext cx="37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687760" y="2381400"/>
              <a:ext cx="25164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3103200" y="2984400"/>
              <a:ext cx="2088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3285000" y="3033720"/>
              <a:ext cx="165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3348360" y="2917800"/>
              <a:ext cx="442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3439440" y="2859120"/>
              <a:ext cx="295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3486240" y="2835360"/>
              <a:ext cx="79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3509280" y="2797200"/>
              <a:ext cx="4644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3576960" y="277344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3845520" y="2967120"/>
              <a:ext cx="648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3992040" y="3092400"/>
              <a:ext cx="165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4008600" y="3062160"/>
              <a:ext cx="295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4059720" y="3021120"/>
              <a:ext cx="1044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4084920" y="3008160"/>
              <a:ext cx="2268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4322160" y="3286080"/>
              <a:ext cx="226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4366440" y="3298680"/>
              <a:ext cx="2520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4412880" y="3322800"/>
              <a:ext cx="82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4391640" y="3238560"/>
              <a:ext cx="147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4290480" y="2381400"/>
              <a:ext cx="56052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4903920" y="2151000"/>
              <a:ext cx="28332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5257800" y="2290680"/>
              <a:ext cx="612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5082120" y="2792520"/>
              <a:ext cx="867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5111280" y="2568600"/>
              <a:ext cx="32796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5151600" y="2779560"/>
              <a:ext cx="6120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5380560" y="2435400"/>
              <a:ext cx="17532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399320" y="2610000"/>
              <a:ext cx="3132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690920" y="2657520"/>
              <a:ext cx="9108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576800" y="2562120"/>
              <a:ext cx="442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582920" y="2502000"/>
              <a:ext cx="3816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1016280" y="2055960"/>
              <a:ext cx="16884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1153440" y="1911240"/>
              <a:ext cx="2455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2241360" y="2808360"/>
              <a:ext cx="11196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2565360" y="3906720"/>
              <a:ext cx="20088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5517720" y="4732200"/>
              <a:ext cx="13140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4880880" y="3394080"/>
              <a:ext cx="226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4795920" y="3182760"/>
              <a:ext cx="8676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4728240" y="3365640"/>
              <a:ext cx="6732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4851000" y="3352680"/>
              <a:ext cx="3780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4859640" y="3413160"/>
              <a:ext cx="14580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4491000" y="3460680"/>
              <a:ext cx="29016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5418360" y="3691080"/>
              <a:ext cx="29844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5141160" y="3635280"/>
              <a:ext cx="28332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4620240" y="3960720"/>
              <a:ext cx="116604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4658760" y="3816360"/>
              <a:ext cx="4644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4735080" y="3822840"/>
              <a:ext cx="4644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4781520" y="3840120"/>
              <a:ext cx="3132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4795920" y="3809880"/>
              <a:ext cx="9288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4067640" y="3503520"/>
              <a:ext cx="31320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4375080" y="3773520"/>
              <a:ext cx="2599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4895640" y="3816360"/>
              <a:ext cx="13932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9765360" y="3152880"/>
              <a:ext cx="4644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9729360" y="3182760"/>
              <a:ext cx="17604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9407880" y="3100320"/>
              <a:ext cx="32796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9926640" y="3219480"/>
              <a:ext cx="6948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7941240" y="1989000"/>
              <a:ext cx="2340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7373880" y="1995480"/>
              <a:ext cx="3816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1217160" y="720720"/>
              <a:ext cx="543240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6781680" y="1216080"/>
              <a:ext cx="37310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7987680" y="485640"/>
              <a:ext cx="2468880" cy="1258920"/>
              <a:chOff x="7987680" y="485640"/>
              <a:chExt cx="2468880" cy="1258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10377720" y="955800"/>
                <a:ext cx="50400" cy="284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9518760" y="642960"/>
                <a:ext cx="937800" cy="110160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10400400" y="91116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10349280" y="98892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10363680" y="105588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9112680" y="1128600"/>
                <a:ext cx="592920" cy="53676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8968320" y="1525680"/>
                <a:ext cx="15588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8883360" y="665280"/>
                <a:ext cx="64800" cy="1584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8539560" y="984240"/>
                <a:ext cx="178560" cy="20628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8846280" y="1006560"/>
                <a:ext cx="144000" cy="17784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7987680" y="961920"/>
                <a:ext cx="223200" cy="18900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8111520" y="1050840"/>
                <a:ext cx="49140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8125560" y="692280"/>
                <a:ext cx="249480" cy="15228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8367480" y="625320"/>
                <a:ext cx="50400" cy="446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8424000" y="563760"/>
                <a:ext cx="144000" cy="680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8418240" y="654120"/>
                <a:ext cx="144000" cy="5544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8268120" y="83196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8257320" y="866880"/>
                <a:ext cx="244080" cy="15084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8647560" y="642960"/>
                <a:ext cx="40320" cy="842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8539560" y="760320"/>
                <a:ext cx="156240" cy="1508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8704440" y="855720"/>
                <a:ext cx="82800" cy="7776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8811720" y="827280"/>
                <a:ext cx="357120" cy="16164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8618760" y="485640"/>
                <a:ext cx="199080" cy="17316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8840520" y="558720"/>
                <a:ext cx="84960" cy="8892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9112680" y="574560"/>
                <a:ext cx="150120" cy="2462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8602920" y="1274760"/>
                <a:ext cx="107640" cy="7308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8669880" y="603360"/>
                <a:ext cx="68760" cy="3312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8582400" y="72072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8639640" y="73836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8696160" y="654120"/>
                <a:ext cx="259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8381160" y="76536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9141120" y="1000080"/>
                <a:ext cx="131400" cy="730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9232560" y="1347840"/>
                <a:ext cx="5040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9061920" y="164304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9147240" y="1676520"/>
                <a:ext cx="21960" cy="4608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9232560" y="1609920"/>
                <a:ext cx="4032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9212040" y="536760"/>
                <a:ext cx="493560" cy="44748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815040" y="2602080"/>
              <a:ext cx="189360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3589920" y="3608280"/>
              <a:ext cx="1224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Freeform 381"/>
          <p:cNvSpPr/>
          <p:nvPr/>
        </p:nvSpPr>
        <p:spPr>
          <a:xfrm>
            <a:off x="2832120" y="1268280"/>
            <a:ext cx="748836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AutoShape 384"/>
          <p:cNvSpPr/>
          <p:nvPr/>
        </p:nvSpPr>
        <p:spPr>
          <a:xfrm>
            <a:off x="2031840" y="4753080"/>
            <a:ext cx="863604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235240" y="4800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R. NGUYEN QUANG VINH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38080" y="457200"/>
            <a:ext cx="10591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VIETNAM METEOROLOGICAL AND HYDROLOGICAL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ADMINISTRATION (VNMHA)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2057040" y="198072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5281"/>
                </a:solidFill>
                <a:latin typeface="Verdana"/>
              </a:rPr>
              <a:t>COUNTRY REPORT</a:t>
            </a:r>
            <a:br>
              <a:rPr sz="3600"/>
            </a:b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96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Weather radar network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6A55-A821-43A3-BA6A-7461FF937752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82" name="Picture 2" descr="C:\Documents and Settings\WindowsXP\Desktop\anh mang luoi\VN 7 tram_.nc.png"/>
          <p:cNvPicPr/>
          <p:nvPr/>
        </p:nvPicPr>
        <p:blipFill>
          <a:blip r:embed="rId1">
            <a:alphaModFix amt="57000"/>
          </a:blip>
          <a:stretch/>
        </p:blipFill>
        <p:spPr>
          <a:xfrm>
            <a:off x="2592360" y="1143000"/>
            <a:ext cx="4751280" cy="5118120"/>
          </a:xfrm>
          <a:prstGeom prst="rect">
            <a:avLst/>
          </a:prstGeom>
          <a:ln w="15840">
            <a:solidFill>
              <a:srgbClr val="1f5281"/>
            </a:solidFill>
            <a:miter/>
          </a:ln>
        </p:spPr>
      </p:pic>
      <p:sp>
        <p:nvSpPr>
          <p:cNvPr id="383" name="Oval 8"/>
          <p:cNvSpPr/>
          <p:nvPr/>
        </p:nvSpPr>
        <p:spPr>
          <a:xfrm>
            <a:off x="4114800" y="1600200"/>
            <a:ext cx="1143000" cy="1143000"/>
          </a:xfrm>
          <a:prstGeom prst="ellipse">
            <a:avLst/>
          </a:prstGeom>
          <a:solidFill>
            <a:srgbClr val="f2f2f2">
              <a:alpha val="75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4421160" y="1752480"/>
            <a:ext cx="1143000" cy="1143000"/>
          </a:xfrm>
          <a:prstGeom prst="ellipse">
            <a:avLst/>
          </a:prstGeom>
          <a:solidFill>
            <a:srgbClr val="f2f2f2">
              <a:alpha val="32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4192560" y="2362320"/>
            <a:ext cx="1143000" cy="1143000"/>
          </a:xfrm>
          <a:prstGeom prst="ellipse">
            <a:avLst/>
          </a:prstGeom>
          <a:solidFill>
            <a:srgbClr val="f2f2f2">
              <a:alpha val="58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4573440" y="28954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7" name="Oval 12"/>
          <p:cNvSpPr/>
          <p:nvPr/>
        </p:nvSpPr>
        <p:spPr>
          <a:xfrm>
            <a:off x="4954680" y="327672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baaa1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5183280" y="4191120"/>
            <a:ext cx="11412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4421160" y="4724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8b7f0e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3583080" y="1523880"/>
            <a:ext cx="1143000" cy="1143000"/>
          </a:xfrm>
          <a:prstGeom prst="ellipse">
            <a:avLst/>
          </a:prstGeom>
          <a:solidFill>
            <a:srgbClr val="f2f2f2">
              <a:alpha val="31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1" name="Oval 40"/>
          <p:cNvSpPr/>
          <p:nvPr/>
        </p:nvSpPr>
        <p:spPr>
          <a:xfrm>
            <a:off x="5181480" y="3733920"/>
            <a:ext cx="114156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2" name="Oval 41"/>
          <p:cNvSpPr/>
          <p:nvPr/>
        </p:nvSpPr>
        <p:spPr>
          <a:xfrm>
            <a:off x="4876920" y="3581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3" name="Rectangle 42"/>
          <p:cNvSpPr/>
          <p:nvPr/>
        </p:nvSpPr>
        <p:spPr>
          <a:xfrm>
            <a:off x="7924680" y="2538360"/>
            <a:ext cx="432000" cy="192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4" name="Rectangle 43"/>
          <p:cNvSpPr/>
          <p:nvPr/>
        </p:nvSpPr>
        <p:spPr>
          <a:xfrm>
            <a:off x="7924680" y="3102120"/>
            <a:ext cx="432000" cy="19044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5" name="Rectangle 44"/>
          <p:cNvSpPr/>
          <p:nvPr/>
        </p:nvSpPr>
        <p:spPr>
          <a:xfrm>
            <a:off x="7924680" y="3656160"/>
            <a:ext cx="432000" cy="191880"/>
          </a:xfrm>
          <a:prstGeom prst="rect">
            <a:avLst/>
          </a:prstGeom>
          <a:solidFill>
            <a:srgbClr val="baaa12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6" name="Rectangle 45"/>
          <p:cNvSpPr/>
          <p:nvPr/>
        </p:nvSpPr>
        <p:spPr>
          <a:xfrm>
            <a:off x="8356680" y="3554280"/>
            <a:ext cx="23652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7" name="Rectangle 46"/>
          <p:cNvSpPr/>
          <p:nvPr/>
        </p:nvSpPr>
        <p:spPr>
          <a:xfrm>
            <a:off x="8372880" y="2516040"/>
            <a:ext cx="2055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RC, S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8" name="Rectangle 47"/>
          <p:cNvSpPr/>
          <p:nvPr/>
        </p:nvSpPr>
        <p:spPr>
          <a:xfrm>
            <a:off x="8375040" y="4127400"/>
            <a:ext cx="2155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Dual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9" name="Rectangle 48"/>
          <p:cNvSpPr/>
          <p:nvPr/>
        </p:nvSpPr>
        <p:spPr>
          <a:xfrm>
            <a:off x="7924680" y="4170240"/>
            <a:ext cx="432000" cy="192240"/>
          </a:xfrm>
          <a:prstGeom prst="rect">
            <a:avLst/>
          </a:prstGeom>
          <a:solidFill>
            <a:srgbClr val="00b050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0" name="Rectangle 49"/>
          <p:cNvSpPr/>
          <p:nvPr/>
        </p:nvSpPr>
        <p:spPr>
          <a:xfrm>
            <a:off x="8362800" y="2990880"/>
            <a:ext cx="2365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EC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2" name="Picture 11" descr="MANGLUOI_THUYVANTOAN QUOC1.JPG"/>
          <p:cNvPicPr/>
          <p:nvPr/>
        </p:nvPicPr>
        <p:blipFill>
          <a:blip r:embed="rId1"/>
          <a:stretch/>
        </p:blipFill>
        <p:spPr>
          <a:xfrm>
            <a:off x="347760" y="1247760"/>
            <a:ext cx="5748120" cy="5238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MANGLUOI_DOMUCNUOCTUDONG1.JPG"/>
          <p:cNvPicPr/>
          <p:nvPr/>
        </p:nvPicPr>
        <p:blipFill>
          <a:blip r:embed="rId2"/>
          <a:stretch/>
        </p:blipFill>
        <p:spPr>
          <a:xfrm>
            <a:off x="6091200" y="1266840"/>
            <a:ext cx="5783400" cy="52387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941400" y="126684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Hydrological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6192720" y="1266840"/>
            <a:ext cx="528804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level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tle 1"/>
          <p:cNvSpPr/>
          <p:nvPr/>
        </p:nvSpPr>
        <p:spPr>
          <a:xfrm>
            <a:off x="2362320" y="352440"/>
            <a:ext cx="9296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network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7" name="Picture 23" descr="MANGLUOI_DOLUU LUONGTUDONG1.JPG"/>
          <p:cNvPicPr/>
          <p:nvPr/>
        </p:nvPicPr>
        <p:blipFill>
          <a:blip r:embed="rId1"/>
          <a:stretch/>
        </p:blipFill>
        <p:spPr>
          <a:xfrm>
            <a:off x="660240" y="1308240"/>
            <a:ext cx="5435640" cy="5197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6" descr="MANGLUOI_PHU SA1.JPG"/>
          <p:cNvPicPr/>
          <p:nvPr/>
        </p:nvPicPr>
        <p:blipFill>
          <a:blip r:embed="rId2"/>
          <a:stretch/>
        </p:blipFill>
        <p:spPr>
          <a:xfrm>
            <a:off x="6121440" y="1355760"/>
            <a:ext cx="5587920" cy="51973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12880" y="1413000"/>
            <a:ext cx="51814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flow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6443640" y="144000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lluvial content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2057400" y="228600"/>
            <a:ext cx="9524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Marin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12" name="Picture 64" descr="HAI VAN.jpg"/>
          <p:cNvPicPr/>
          <p:nvPr/>
        </p:nvPicPr>
        <p:blipFill>
          <a:blip r:embed="rId1"/>
          <a:stretch/>
        </p:blipFill>
        <p:spPr>
          <a:xfrm>
            <a:off x="3352680" y="1046160"/>
            <a:ext cx="5707080" cy="53546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3830760" y="151452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Marine observation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the skilled experts for the maintenance to keep the accuracy of rainfall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High mountainous terrain is very difficult to install, maintenance, communication infrastructure in these areas has not been developed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annual budget for new station installation and maintenance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The Government of Vietnam has received an amount of credit from the International Development Association (IDA)/WorldBank (WB) to support implementation of the Vietnam Managing Natural Hazard Project (Vn-Haz/WB5) and planed to use a part of the fund for eligible costs of this consultancy services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EEA0-7A28-4A13-A07A-EF686C3F7A29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5080" indent="-465120" algn="just">
              <a:lnSpc>
                <a:spcPct val="150000"/>
              </a:lnSpc>
              <a:spcBef>
                <a:spcPts val="1199"/>
              </a:spcBef>
              <a:buClr>
                <a:srgbClr val="3266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465120" indent="-465120" algn="just">
              <a:lnSpc>
                <a:spcPct val="150000"/>
              </a:lnSpc>
              <a:spcBef>
                <a:spcPts val="1199"/>
              </a:spcBef>
              <a:buClr>
                <a:srgbClr val="1481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520D-450F-4F5A-982C-AC0B782E6E8E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0" name="Picture 4" descr="C2_DV4"/>
          <p:cNvPicPr/>
          <p:nvPr/>
        </p:nvPicPr>
        <p:blipFill>
          <a:blip r:embed="rId1"/>
          <a:stretch/>
        </p:blipFill>
        <p:spPr>
          <a:xfrm>
            <a:off x="1371600" y="1147680"/>
            <a:ext cx="94489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5DD4-BA80-442D-B8AA-BF5B0FEE156B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2" name="Picture 5" descr="System diagram-20161007"/>
          <p:cNvPicPr/>
          <p:nvPr/>
        </p:nvPicPr>
        <p:blipFill>
          <a:blip r:embed="rId1"/>
          <a:stretch/>
        </p:blipFill>
        <p:spPr>
          <a:xfrm>
            <a:off x="1571760" y="152280"/>
            <a:ext cx="8623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4"/>
          <p:cNvSpPr txBox="1"/>
          <p:nvPr/>
        </p:nvSpPr>
        <p:spPr>
          <a:xfrm>
            <a:off x="314316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1523520" y="212040"/>
            <a:ext cx="29520" cy="3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-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1f5281"/>
                </a:solidFill>
                <a:latin typeface="Arial"/>
                <a:ea typeface="Gulim"/>
              </a:rPr>
              <a:t> </a:t>
            </a:r>
            <a:endParaRPr b="0" lang="en-US" sz="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2ADE-C84B-4223-AE58-CB633C924F55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13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OUTLINE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10210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Observation network in Vietnam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Challenges &amp; Future plans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78" name="Picture 6" descr="Image result for tá»ng cá»¥c khÃ­ tÆ°á»£ng thá»§y vÄn"/>
          <p:cNvPicPr/>
          <p:nvPr/>
        </p:nvPicPr>
        <p:blipFill>
          <a:blip r:embed="rId1"/>
          <a:stretch/>
        </p:blipFill>
        <p:spPr>
          <a:xfrm>
            <a:off x="10896480" y="228600"/>
            <a:ext cx="7318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traight Connector 4"/>
          <p:cNvSpPr/>
          <p:nvPr/>
        </p:nvSpPr>
        <p:spPr>
          <a:xfrm>
            <a:off x="732636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749160" y="1236600"/>
            <a:ext cx="7791480" cy="4778280"/>
          </a:xfrm>
          <a:prstGeom prst="rect">
            <a:avLst/>
          </a:prstGeom>
          <a:ln w="0">
            <a:noFill/>
          </a:ln>
        </p:spPr>
      </p:pic>
      <p:sp>
        <p:nvSpPr>
          <p:cNvPr id="281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911760" y="1335240"/>
            <a:ext cx="372888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4643280" y="1257480"/>
            <a:ext cx="1986120" cy="50148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Loc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4414680" y="3294000"/>
            <a:ext cx="4378320" cy="9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91176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4649760" y="4148280"/>
            <a:ext cx="1395360" cy="55872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Are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4648320" y="1963800"/>
            <a:ext cx="6629400" cy="182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In the South East Asi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Border: 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North: long borderline with Chin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East &amp; South: Se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West by Cambodia and Laos.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South: West by the Gulf of Thailand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6496200" y="4148280"/>
            <a:ext cx="2920680" cy="56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31,210 sq.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4649760" y="5116680"/>
            <a:ext cx="1698480" cy="52380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Coastlin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6737400" y="5111640"/>
            <a:ext cx="2921040" cy="52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,260 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Introduction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traight Connector 4"/>
          <p:cNvSpPr/>
          <p:nvPr/>
        </p:nvSpPr>
        <p:spPr>
          <a:xfrm>
            <a:off x="679284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3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621240" y="3384720"/>
            <a:ext cx="4378320" cy="94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337824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6" name="Rectangle 21"/>
          <p:cNvSpPr/>
          <p:nvPr/>
        </p:nvSpPr>
        <p:spPr>
          <a:xfrm>
            <a:off x="914400" y="1295280"/>
            <a:ext cx="10591920" cy="487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ropical and temperate zone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North (from Hai Van mountain pass in the middle of Vietnam to the North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): four seasons (Spring, Summer, Autumn, and Winter).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South: two seasons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. A wet rainy season spans from April to September. A dry season spans from October to May.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Average relative humidity: 84%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Rainfall: 1,200 to 3,000 mm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Yearly sunny hours: 1,500 to 3,000 hours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emperature: 5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 to 37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2209680" y="352440"/>
            <a:ext cx="9372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Weather &amp; Climat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9" name="Title 1"/>
          <p:cNvSpPr/>
          <p:nvPr/>
        </p:nvSpPr>
        <p:spPr>
          <a:xfrm>
            <a:off x="2286000" y="352440"/>
            <a:ext cx="9372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Verdana"/>
              </a:rPr>
              <a:t>Organizational structure of VNMHA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Rounded Rectangle 8"/>
          <p:cNvSpPr/>
          <p:nvPr/>
        </p:nvSpPr>
        <p:spPr>
          <a:xfrm>
            <a:off x="4332240" y="990720"/>
            <a:ext cx="2665440" cy="3045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MONR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1" name="Rounded Rectangle 9"/>
          <p:cNvSpPr/>
          <p:nvPr/>
        </p:nvSpPr>
        <p:spPr>
          <a:xfrm>
            <a:off x="4560840" y="1295280"/>
            <a:ext cx="22845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VNMH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Rounded Rectangle 10"/>
          <p:cNvSpPr/>
          <p:nvPr/>
        </p:nvSpPr>
        <p:spPr>
          <a:xfrm>
            <a:off x="1523880" y="2286000"/>
            <a:ext cx="2286000" cy="38088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Assistant  Office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3" name="Rounded Rectangle 11"/>
          <p:cNvSpPr/>
          <p:nvPr/>
        </p:nvSpPr>
        <p:spPr>
          <a:xfrm>
            <a:off x="8077320" y="220968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Institutional Unit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76212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dminist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266688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Organization Personal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6212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inance and Planing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76212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S&amp;T and International coope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266688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orecasting Management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266688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5281"/>
                </a:solidFill>
                <a:latin typeface="Arial"/>
              </a:rPr>
              <a:t>Management of meteorological and Hydrological network Deparment</a:t>
            </a:r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662940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National Hydro-Meteorological forcasting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9982080" y="275580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ero Meteorological Observatory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662940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data and Inform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8305920" y="4522680"/>
            <a:ext cx="1600200" cy="60984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Magazine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9982080" y="363384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Survey Federation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830592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pplication of Hydro-Meteorological technology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830592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Observ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7" name="Rounded Rectangle 25"/>
          <p:cNvSpPr/>
          <p:nvPr/>
        </p:nvSpPr>
        <p:spPr>
          <a:xfrm>
            <a:off x="68580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1.Northewe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8" name="Rounded Rectangle 27"/>
          <p:cNvSpPr/>
          <p:nvPr/>
        </p:nvSpPr>
        <p:spPr>
          <a:xfrm>
            <a:off x="61261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4.Red river delta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9" name="Rounded Rectangle 28"/>
          <p:cNvSpPr/>
          <p:nvPr/>
        </p:nvSpPr>
        <p:spPr>
          <a:xfrm>
            <a:off x="3002040" y="6116760"/>
            <a:ext cx="1646280" cy="3474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7.Sou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0" name="Rounded Rectangle 29"/>
          <p:cNvSpPr/>
          <p:nvPr/>
        </p:nvSpPr>
        <p:spPr>
          <a:xfrm>
            <a:off x="48308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8. Central Highland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1" name="Rounded Rectangle 30"/>
          <p:cNvSpPr/>
          <p:nvPr/>
        </p:nvSpPr>
        <p:spPr>
          <a:xfrm>
            <a:off x="979956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6.Mid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2" name="Rounded Rectangle 31"/>
          <p:cNvSpPr/>
          <p:nvPr/>
        </p:nvSpPr>
        <p:spPr>
          <a:xfrm>
            <a:off x="4297320" y="566892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3.North-Ea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3" name="Rounded Rectangle 32"/>
          <p:cNvSpPr/>
          <p:nvPr/>
        </p:nvSpPr>
        <p:spPr>
          <a:xfrm>
            <a:off x="66596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9.Sou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4" name="Rounded Rectangle 33"/>
          <p:cNvSpPr/>
          <p:nvPr/>
        </p:nvSpPr>
        <p:spPr>
          <a:xfrm>
            <a:off x="792468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5.Nor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Rounded Rectangle 34"/>
          <p:cNvSpPr/>
          <p:nvPr/>
        </p:nvSpPr>
        <p:spPr>
          <a:xfrm>
            <a:off x="24685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2.Mid-Nor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6" name="Rounded Rectangle 35"/>
          <p:cNvSpPr/>
          <p:nvPr/>
        </p:nvSpPr>
        <p:spPr>
          <a:xfrm>
            <a:off x="3657600" y="5400720"/>
            <a:ext cx="396252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Regional Hydro-Meteorological centers 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609480" y="2143080"/>
            <a:ext cx="4038840" cy="312408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8" name="Rectangle 37"/>
          <p:cNvSpPr/>
          <p:nvPr/>
        </p:nvSpPr>
        <p:spPr>
          <a:xfrm>
            <a:off x="6477120" y="2066760"/>
            <a:ext cx="5181480" cy="3200400"/>
          </a:xfrm>
          <a:prstGeom prst="rect">
            <a:avLst/>
          </a:prstGeom>
          <a:noFill/>
          <a:ln w="158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380880" y="5400720"/>
            <a:ext cx="11354040" cy="1076400"/>
          </a:xfrm>
          <a:prstGeom prst="rect">
            <a:avLst/>
          </a:prstGeom>
          <a:noFill/>
          <a:ln w="1908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0" name="Rounded Rectangle 39"/>
          <p:cNvSpPr/>
          <p:nvPr/>
        </p:nvSpPr>
        <p:spPr>
          <a:xfrm>
            <a:off x="4788000" y="1600200"/>
            <a:ext cx="16761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f5281"/>
                </a:solidFill>
                <a:latin typeface="Arial"/>
              </a:rPr>
              <a:t>Director Gene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1" name="Straight Arrow Connector 42"/>
          <p:cNvCxnSpPr/>
          <p:nvPr/>
        </p:nvCxnSpPr>
        <p:spPr>
          <a:xfrm flipH="1">
            <a:off x="5625720" y="1914120"/>
            <a:ext cx="2160" cy="35074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32" name="Straight Connector 44"/>
          <p:cNvSpPr/>
          <p:nvPr/>
        </p:nvSpPr>
        <p:spPr>
          <a:xfrm>
            <a:off x="2668680" y="1914480"/>
            <a:ext cx="6018120" cy="180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3" name="Straight Arrow Connector 50"/>
          <p:cNvCxnSpPr>
            <a:endCxn id="327" idx="0"/>
          </p:cNvCxnSpPr>
          <p:nvPr/>
        </p:nvCxnSpPr>
        <p:spPr>
          <a:xfrm flipH="1">
            <a:off x="2628360" y="1904760"/>
            <a:ext cx="38520" cy="2386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4" name="Straight Arrow Connector 51"/>
          <p:cNvCxnSpPr/>
          <p:nvPr/>
        </p:nvCxnSpPr>
        <p:spPr>
          <a:xfrm flipH="1">
            <a:off x="8686440" y="1914120"/>
            <a:ext cx="2160" cy="1832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5" name="Straight Arrow Connector 52"/>
          <p:cNvCxnSpPr/>
          <p:nvPr/>
        </p:nvCxnSpPr>
        <p:spPr>
          <a:xfrm flipH="1">
            <a:off x="2588400" y="5257440"/>
            <a:ext cx="2520" cy="1530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6" name="Straight Arrow Connector 53"/>
          <p:cNvCxnSpPr/>
          <p:nvPr/>
        </p:nvCxnSpPr>
        <p:spPr>
          <a:xfrm>
            <a:off x="9144000" y="5288040"/>
            <a:ext cx="2160" cy="928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traight Connector 39"/>
          <p:cNvSpPr/>
          <p:nvPr/>
        </p:nvSpPr>
        <p:spPr>
          <a:xfrm>
            <a:off x="3506760" y="1981080"/>
            <a:ext cx="2741760" cy="13716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8" name="Straight Connector 39"/>
          <p:cNvSpPr/>
          <p:nvPr/>
        </p:nvSpPr>
        <p:spPr>
          <a:xfrm>
            <a:off x="5259240" y="1600200"/>
            <a:ext cx="989280" cy="18288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9" name="Straight Connector 39"/>
          <p:cNvSpPr/>
          <p:nvPr/>
        </p:nvSpPr>
        <p:spPr>
          <a:xfrm flipH="1">
            <a:off x="6248520" y="1828800"/>
            <a:ext cx="1295280" cy="152388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0" name="Straight Connector 39"/>
          <p:cNvSpPr/>
          <p:nvPr/>
        </p:nvSpPr>
        <p:spPr>
          <a:xfrm flipH="1">
            <a:off x="6248520" y="1828080"/>
            <a:ext cx="320040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1" name="Straight Connector 39"/>
          <p:cNvSpPr/>
          <p:nvPr/>
        </p:nvSpPr>
        <p:spPr>
          <a:xfrm flipH="1" flipV="1">
            <a:off x="6324480" y="3429000"/>
            <a:ext cx="320040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2" name="Straight Connector 39"/>
          <p:cNvSpPr/>
          <p:nvPr/>
        </p:nvSpPr>
        <p:spPr>
          <a:xfrm flipH="1" flipV="1">
            <a:off x="6171840" y="3428640"/>
            <a:ext cx="2971800" cy="16765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3" name="Straight Connector 39"/>
          <p:cNvSpPr/>
          <p:nvPr/>
        </p:nvSpPr>
        <p:spPr>
          <a:xfrm flipH="1" flipV="1">
            <a:off x="6248520" y="3505320"/>
            <a:ext cx="380880" cy="167616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4" name="Straight Connector 39"/>
          <p:cNvSpPr/>
          <p:nvPr/>
        </p:nvSpPr>
        <p:spPr>
          <a:xfrm flipV="1">
            <a:off x="4192560" y="3504960"/>
            <a:ext cx="205596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5" name="Straight Connector 39"/>
          <p:cNvSpPr/>
          <p:nvPr/>
        </p:nvSpPr>
        <p:spPr>
          <a:xfrm flipV="1">
            <a:off x="2820960" y="3429000"/>
            <a:ext cx="335124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4573440" y="2666880"/>
            <a:ext cx="3427560" cy="1600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1f5281"/>
            </a:solidFill>
            <a:miter/>
          </a:ln>
          <a:effectLst>
            <a:outerShdw dist="0" dir="0" blurRad="0" rotWithShape="0">
              <a:srgbClr val="000000">
                <a:alpha val="5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Weather observation network  in Viet Na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5869080" y="6172200"/>
            <a:ext cx="152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Marine station (2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0" name="Picture 15" descr="C:\Users\DAT\Desktop\trang\images.jpg"/>
          <p:cNvPicPr/>
          <p:nvPr/>
        </p:nvPicPr>
        <p:blipFill>
          <a:blip r:embed="rId1"/>
          <a:stretch/>
        </p:blipFill>
        <p:spPr>
          <a:xfrm>
            <a:off x="2622600" y="895320"/>
            <a:ext cx="1112760" cy="13906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5"/>
          <p:cNvSpPr/>
          <p:nvPr/>
        </p:nvSpPr>
        <p:spPr>
          <a:xfrm>
            <a:off x="2363760" y="488880"/>
            <a:ext cx="1600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Lightning (18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2" name="Picture 16" descr="C:\Users\DAT\Desktop\trang\7_2_10_1.jpg"/>
          <p:cNvPicPr/>
          <p:nvPr/>
        </p:nvPicPr>
        <p:blipFill>
          <a:blip r:embed="rId2"/>
          <a:stretch/>
        </p:blipFill>
        <p:spPr>
          <a:xfrm>
            <a:off x="9067680" y="1066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7"/>
          <p:cNvSpPr/>
          <p:nvPr/>
        </p:nvSpPr>
        <p:spPr>
          <a:xfrm>
            <a:off x="4471920" y="60480"/>
            <a:ext cx="1928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Weather radar (1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4" name="Picture 2" descr="https://photo-1-baomoi.zadn.vn/w700_r1/2018_01_22_339_24710091/b5452e3fce7927277e68.jpg"/>
          <p:cNvPicPr/>
          <p:nvPr/>
        </p:nvPicPr>
        <p:blipFill>
          <a:blip r:embed="rId3"/>
          <a:stretch/>
        </p:blipFill>
        <p:spPr>
          <a:xfrm>
            <a:off x="3049560" y="4876920"/>
            <a:ext cx="1941480" cy="129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tckttv.gov.vn/upload/images/bai-viet/thang4-2019/a50.JPG"/>
          <p:cNvPicPr/>
          <p:nvPr/>
        </p:nvPicPr>
        <p:blipFill>
          <a:blip r:embed="rId4"/>
          <a:stretch/>
        </p:blipFill>
        <p:spPr>
          <a:xfrm>
            <a:off x="4649760" y="433440"/>
            <a:ext cx="1422360" cy="1582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http://cuocthianh.kttvqg.gov.vn/upload/gallery/4279_21744505_964022553738009_1395942356_n.jpg"/>
          <p:cNvPicPr/>
          <p:nvPr/>
        </p:nvPicPr>
        <p:blipFill>
          <a:blip r:embed="rId5"/>
          <a:stretch/>
        </p:blipFill>
        <p:spPr>
          <a:xfrm>
            <a:off x="5716440" y="4876920"/>
            <a:ext cx="182736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http://dut.udn.vn/Files/k.xdtl/images/DoanThanhNien/TTTVCT/TTTVCT_16X2_2.jpg"/>
          <p:cNvPicPr/>
          <p:nvPr/>
        </p:nvPicPr>
        <p:blipFill>
          <a:blip r:embed="rId6"/>
          <a:stretch/>
        </p:blipFill>
        <p:spPr>
          <a:xfrm>
            <a:off x="1601640" y="2590920"/>
            <a:ext cx="1386000" cy="1849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5"/>
          <p:cNvSpPr/>
          <p:nvPr/>
        </p:nvSpPr>
        <p:spPr>
          <a:xfrm>
            <a:off x="2897280" y="61722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Surface observing station (189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8845560" y="533520"/>
            <a:ext cx="1636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Ozon-ultraViolet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diation (3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7044840" y="58680"/>
            <a:ext cx="1024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Upper-air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1" name="Rectangle 21"/>
          <p:cNvSpPr/>
          <p:nvPr/>
        </p:nvSpPr>
        <p:spPr>
          <a:xfrm>
            <a:off x="1297080" y="4419720"/>
            <a:ext cx="190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ingauge station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78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7"/>
          <a:stretch/>
        </p:blipFill>
        <p:spPr>
          <a:xfrm>
            <a:off x="7040520" y="60948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8"/>
          <a:stretch/>
        </p:blipFill>
        <p:spPr>
          <a:xfrm>
            <a:off x="8107200" y="149400"/>
            <a:ext cx="427320" cy="806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Image result for trạm thủy văn"/>
          <p:cNvPicPr/>
          <p:nvPr/>
        </p:nvPicPr>
        <p:blipFill>
          <a:blip r:embed="rId9"/>
          <a:stretch/>
        </p:blipFill>
        <p:spPr>
          <a:xfrm>
            <a:off x="8001000" y="4876920"/>
            <a:ext cx="2362320" cy="13222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5"/>
          <p:cNvSpPr/>
          <p:nvPr/>
        </p:nvSpPr>
        <p:spPr>
          <a:xfrm>
            <a:off x="8153280" y="6172200"/>
            <a:ext cx="2133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Hydrological station (242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6" name="Picture 12" descr="qtr1"/>
          <p:cNvPicPr/>
          <p:nvPr/>
        </p:nvPicPr>
        <p:blipFill>
          <a:blip r:embed="rId10"/>
          <a:stretch/>
        </p:blipFill>
        <p:spPr>
          <a:xfrm>
            <a:off x="9372600" y="2743200"/>
            <a:ext cx="2073240" cy="1560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21"/>
          <p:cNvSpPr/>
          <p:nvPr/>
        </p:nvSpPr>
        <p:spPr>
          <a:xfrm>
            <a:off x="9296280" y="4343400"/>
            <a:ext cx="2210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Environmental Observation 18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itle 1"/>
          <p:cNvSpPr/>
          <p:nvPr/>
        </p:nvSpPr>
        <p:spPr>
          <a:xfrm>
            <a:off x="2438280" y="352440"/>
            <a:ext cx="92203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Surfac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9" name="Picture 4" descr="MANGLUOI_KHITUONGTOANQUOC1.JPG"/>
          <p:cNvPicPr/>
          <p:nvPr/>
        </p:nvPicPr>
        <p:blipFill>
          <a:blip r:embed="rId1"/>
          <a:stretch/>
        </p:blipFill>
        <p:spPr>
          <a:xfrm>
            <a:off x="2590920" y="1295280"/>
            <a:ext cx="57355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Raingauge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1" name="Picture 10" descr="MANGLUOI_DOMUATOANQUOC1.JPG"/>
          <p:cNvPicPr/>
          <p:nvPr/>
        </p:nvPicPr>
        <p:blipFill>
          <a:blip r:embed="rId1"/>
          <a:stretch/>
        </p:blipFill>
        <p:spPr>
          <a:xfrm>
            <a:off x="609480" y="1384200"/>
            <a:ext cx="5326200" cy="4997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MANGLUOI_DOMUATUDONG1.JPG"/>
          <p:cNvPicPr/>
          <p:nvPr/>
        </p:nvPicPr>
        <p:blipFill>
          <a:blip r:embed="rId2"/>
          <a:stretch/>
        </p:blipFill>
        <p:spPr>
          <a:xfrm>
            <a:off x="6121440" y="1384200"/>
            <a:ext cx="5567400" cy="49975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941400" y="1384200"/>
            <a:ext cx="46594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6603840" y="1384200"/>
            <a:ext cx="46850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Upper air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6" name="Picture 18" descr="MANGLUOI_THAMKHONGVOTUYEN1.JPG"/>
          <p:cNvPicPr/>
          <p:nvPr/>
        </p:nvPicPr>
        <p:blipFill>
          <a:blip r:embed="rId1"/>
          <a:stretch/>
        </p:blipFill>
        <p:spPr>
          <a:xfrm>
            <a:off x="304920" y="1752480"/>
            <a:ext cx="5418000" cy="47246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9"/>
          <p:cNvSpPr/>
          <p:nvPr/>
        </p:nvSpPr>
        <p:spPr>
          <a:xfrm>
            <a:off x="6672240" y="1406520"/>
            <a:ext cx="43768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Pilot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8" name="Picture 55" descr="PILOT1.JPG"/>
          <p:cNvPicPr/>
          <p:nvPr/>
        </p:nvPicPr>
        <p:blipFill>
          <a:blip r:embed="rId2"/>
          <a:stretch/>
        </p:blipFill>
        <p:spPr>
          <a:xfrm>
            <a:off x="6095880" y="1752480"/>
            <a:ext cx="5486400" cy="46562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7"/>
          <p:cNvSpPr/>
          <p:nvPr/>
        </p:nvSpPr>
        <p:spPr>
          <a:xfrm>
            <a:off x="990720" y="1371600"/>
            <a:ext cx="42670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diosondes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8T02:38:05Z</dcterms:created>
  <dc:creator>User</dc:creator>
  <dc:description/>
  <dc:language>en-US</dc:language>
  <cp:lastModifiedBy>Dell 3567</cp:lastModifiedBy>
  <dcterms:modified xsi:type="dcterms:W3CDTF">2019-11-12T13:37:37Z</dcterms:modified>
  <cp:revision>203</cp:revision>
  <dc:subject/>
  <dc:title>PowerPoint  Template</dc:title>
</cp:coreProperties>
</file>